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200160"/>
            <a:ext cx="685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Índic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434880"/>
            <a:ext cx="5040360" cy="82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blación total por grupo de edad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blación total a mitad de cada año por edad quinquenal no asegurada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blación usuaria por grupo de edad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años a la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funciones Hospitala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exo Lista Mexicana II para Mor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exo Lista Mexicana II para Mort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cursos para la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V.    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Otor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incipales Servicios Otor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tención a la Salud del Ni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lud Reprodu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tención a la Salud del Adulto y del Anci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cobacter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fermedades transmitidas por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Zoon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IH/SIDA y otras infecciones de transmisión sex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alud 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alud Indíg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moción de la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buClr>
                <a:srgbClr val="000000"/>
              </a:buClr>
              <a:buFont typeface="Arial"/>
              <a:buAutoNum type="romanUcPeriod" startAt="5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guro Pop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buClr>
                <a:srgbClr val="000000"/>
              </a:buClr>
              <a:buFont typeface="Arial"/>
              <a:buAutoNum type="romanUcPeriod" startAt="5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tención a Derechohab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rbilidad Hospitalar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unciones Hospitalari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buClr>
                <a:srgbClr val="000000"/>
              </a:buClr>
              <a:buFont typeface="Arial"/>
              <a:buAutoNum type="romanUcPeriod" startAt="6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istórico 2001-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cursos Humanos, Físicos y 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años a la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2380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tación de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335560" y="552600"/>
            <a:ext cx="625680" cy="81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1:59:42Z</dcterms:created>
  <dc:creator/>
  <dc:description/>
  <dc:language>en-US</dc:language>
  <cp:lastModifiedBy>DGIS</cp:lastModifiedBy>
  <cp:lastPrinted>2003-03-03T18:04:02Z</cp:lastPrinted>
  <dcterms:modified xsi:type="dcterms:W3CDTF">2006-08-25T17:48:01Z</dcterms:modified>
  <cp:revision>187</cp:revision>
  <dc:subject/>
  <dc:title>Sin título de diapositiva</dc:title>
</cp:coreProperties>
</file>