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877-B223-482A-8616-02ED2977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75B-1D0C-4F77-A84B-493BEC4C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58D-DECB-4638-8AF1-8A4DFCE5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A3E0-2ED6-4EC2-A59A-77162FB9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EE1-6CFE-4E46-BEF4-75E08421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D2C-97E9-4501-8DAB-BACD35E5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52D-1479-40B7-BCE5-DBE696E3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BF9-1BD3-4BAE-B1A2-2240F3F5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B87-1F1A-4F5B-9F46-74C2FFC8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2279-86E6-4146-B362-C7AF5A2F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1CE-3E4F-4F73-8C0C-0321DD1E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CC0-AFE0-472D-8F80-8013F3EB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3678-2AFE-4290-AA6D-991D8E14E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.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V. Servicios Otorg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incipales Servicios Otorg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tención a la Salud del Ni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alud Reprodu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tención a la Salud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l Adulto y del Anc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icobacteri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nfermedades transmitidas por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Zoo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H/SIDA y otras infecciones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 transmisión 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alud 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I. Daños a la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alud Indí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moción de la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. Seguro 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tención a Derechohab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rbilidad Hospit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funciones Hospital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. Histórico 2001-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cursos Humanos, Físicos y Mate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años a la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rbilidad Hospit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estación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funciones Hospital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exo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ista Mexicana II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ara Mor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exo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ista Mexicana II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ara Mort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II. Recursos para la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cursos Físicos y Mate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22:49:47Z</dcterms:created>
  <dc:creator>ALICIA MERCADO</dc:creator>
  <dc:description/>
  <dc:language>en-US</dc:language>
  <cp:lastModifiedBy>Juan Carlos Riveros Alva</cp:lastModifiedBy>
  <dcterms:modified xsi:type="dcterms:W3CDTF">2006-10-25T16:30:36Z</dcterms:modified>
  <cp:revision>28</cp:revision>
  <dc:subject/>
  <dc:title>IV. Servicios otorgados</dc:title>
</cp:coreProperties>
</file>