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E970E-B50B-47CE-BD13-2B821FF7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9DC1C-3C9D-47C0-804B-8459686D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ED34-A879-490A-940E-02E26C3B5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8C659-309E-4AF1-8B13-2B8F78E9D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8CA8-E11B-4E3A-A374-A2CB7D427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D33ED-34F4-4A25-BEC4-BA2E3A1A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5F171-7BE6-4DC4-98C9-4B80019CD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296F-3677-4740-B0D0-E24C7E07A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64B5C-62BD-4DBD-867B-96FDCA13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88A1-B69E-4273-9791-382AC9AF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D867-BB2A-48B8-A0F0-7985EFB8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F5C7-9CE8-4F68-9BDD-6E0D102B3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2B24-0253-4163-8F97-CD41F767A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68580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retaría de Salu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bsecretaría de Innovación y Calidad</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General de Información en Salud</a:t>
            </a:r>
            <a:endParaRPr b="0" lang="en-US" sz="1500" spc="-1" strike="noStrike">
              <a:solidFill>
                <a:srgbClr val="000000"/>
              </a:solidFill>
              <a:latin typeface="Times New Roman"/>
            </a:endParaRPr>
          </a:p>
        </p:txBody>
      </p:sp>
      <p:sp>
        <p:nvSpPr>
          <p:cNvPr id="42" name=""/>
          <p:cNvSpPr/>
          <p:nvPr/>
        </p:nvSpPr>
        <p:spPr>
          <a:xfrm>
            <a:off x="838080" y="3809880"/>
            <a:ext cx="51055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uario</a:t>
            </a:r>
            <a:r>
              <a:rPr b="1" i="1" lang="en-US" sz="2800" spc="-1" strike="noStrike">
                <a:solidFill>
                  <a:srgbClr val="000000"/>
                </a:solidFill>
                <a:latin typeface="Arial"/>
              </a:rPr>
              <a:t> </a:t>
            </a:r>
            <a:r>
              <a:rPr b="1" lang="en-US" sz="2800" spc="-1" strike="noStrike">
                <a:solidFill>
                  <a:srgbClr val="000000"/>
                </a:solidFill>
                <a:latin typeface="Arial"/>
              </a:rPr>
              <a:t>Estadístic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retaría de Salu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6400800"/>
            <a:ext cx="4191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ecretaría de Salud, 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irección General de Información en Salu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v. Reforma  No. 450, 11 piso, Col. Juárez</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éxico, D. 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 Secretaría de Salud pone a disposición de los usuarios la información en la página WEB: http:/www.salud.gob.m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uario Estadístico, 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SBN 970-721-281-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e autoriza la reproducción parcial o total de la información contenida en esta publicación siempre y cuando se cite la fuent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25360" y="684360"/>
            <a:ext cx="4824720" cy="693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e Salu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Julio Frenk Mo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cretari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Enrique Ruelas Bara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o de Innovación y Ca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oberto Tapia Con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o de Prevención y Protección de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María Eugenia de León - M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ia de Administración y Finanz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Jaime Sepúlveda Am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ordinador General de los Institutos Nacionales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Adriana Cuevas Argume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 General de Comunicación Soc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afael Lozano Ascenc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General de Información en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25360" y="611280"/>
            <a:ext cx="5040360" cy="763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ité Edito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o. Alejandro Suárez Valdés Aya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 de Información en Servicios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a. María Fernanda Merino Juárez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 de Información de Recursos para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a. Patricia Fernández H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 de Información sobre Necesidades de Salud y Pobl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a. Noemí Lam Osnay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a de Información Instituc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ct. Daniel Castro Carril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 de Información Hospital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Carlos L. Sosa Manza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 de Información de Recursos Human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Materi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María Victoria Castro Borbon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a de Integración y Difusión de la Inform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tra. María de la Cruz Muradás Troiti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directora de Estudios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Alicia Mercado Sandov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efa del Departamento de Procesamiento de la Información Hospitalar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g. Francisco Javier Quiroz Mene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efe del Departamento de Estadísticas de Recursos Humanos para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g. Francisco Machorro Cervant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ordinador de Enl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71840" y="53352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ción</a:t>
            </a:r>
            <a:endParaRPr b="0" lang="en-US" sz="1800" spc="-1" strike="noStrike">
              <a:solidFill>
                <a:srgbClr val="000000"/>
              </a:solidFill>
              <a:latin typeface="Times New Roman"/>
            </a:endParaRPr>
          </a:p>
        </p:txBody>
      </p:sp>
      <p:sp>
        <p:nvSpPr>
          <p:cNvPr id="47" name=""/>
          <p:cNvSpPr/>
          <p:nvPr/>
        </p:nvSpPr>
        <p:spPr>
          <a:xfrm>
            <a:off x="487440" y="1374840"/>
            <a:ext cx="5881680" cy="611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irección General de Información en Salud presenta el Anuario Estadístico 2004. Con esta publicación se pone a disposición de los trabajadores de la salud, investigadores en salud pública, tomadores de decisiones en la materia y usuarios de los servicios de la Secretaría de Salud, la información más relevante de la misma.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ublicación está conformada por información procedente de las Jurisdicciones Sanitarias de la Secretaría de Salud donde se integran los datos generados en más de  doce mil unidades médicas existentes.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tenido temático del Anuario Estadístico 2004, se concentra en los siguientes capítul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blación y Cobertura </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ños a la Salud</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materiales y humanos</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vicios otorgados</a:t>
            </a:r>
            <a:endParaRPr b="0" lang="en-US" sz="12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uro Popula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mer capítulo se refiere a la población y cobertura de los servicios incluye información sobre la distribución de la población de acuerdo a grupos de edad y sexo por entidad federativa. La fuente utilizada son las Proyecciones de la Población de México 2000-2050 publicadas por el Consejo Nacional de Población, CONAPO. La estructura de la población por entidad federativa deriva del XII Censo de Población y Vivienda, INEGI 2000.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oblación usuaria, corresponde a la población que utilizó los servicios que ofrece la Secretaría de Salud al menos en una ocasión en el año, su fuente es el Sistema de Información en Salud (SIS), Subsistema Prestación de Servicios.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gundo capítulo comprende información acerca de la morbilidad y mortalidad hospitalaria ocurrida en la institución; ésta se obtiene a través del Sistema Automatizado de Egresos Hospitalarios (SAE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9320" y="826920"/>
            <a:ext cx="5486400" cy="739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tercer capítulo se presenta información procedente del Subsistema de Información de Equipamiento, Recursos Humanos, e Infraestructura para la Atención a la Salud (SINERHIAS).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arto capítulo se integra a partir de la información referente a los servicios otorgados en las unidades médicas, así como fuera de ellas. Se presenta las actividades llevadas a cabo en consulta externa, hospitalización general y hospitalización especializada, además las realizadas en las comunidades donde están presentes los servicios de salud. La fuente de este apartado es el Subsistema de Prestación de Servici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or primera vez se incluye un capítulo referente a Seguro Popular, en donde se presentan las actividades realizadas como son las atenciones a derechohabiente respecto a consulta externa, urgencias y hospitalización así como, principales causas de morbilidad y mortalidad.</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casos donde la información de egresos hospitalarios difiere de un capítulo a otro, es necesario considerar que ésto se debe a la cobertura de las diferentes fuentes de información de la integración de la public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destacarse que la publicación de este Anuario representa un esfuerzo conjunto de todo el personal que interviene en su realización, tanto los que se encuentran relacionados directamente en el proceso de prestación del servicio y generación de información, como los que intervienen en la integración de la información en los distintos niveles (unidades médicas, jurisdicciones sanitarias y entidades federativas).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agradecimiento a los Servicios de Salud Estatales, a la Dirección General de Coordinación y Desarrollo de los Hospitales Federales de Referencia, así como a la Coordinación General de los Institutos Nacionales de Salud, por su colaboración en la public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radeceremos cualquier sugerencia que permita mejorar esta publicación como parte de la política editorial de esta Dirección Gener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52640" y="6773760"/>
            <a:ext cx="47242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integración del documento fue posible gracias a la colaboración de las siguientes personas: Dra. Noemí Lam Osnaya, C. Alicia Mercado Sandoval, C. Rosario Pliego Moreno, C. Olga V. Márquez Beltrán, C. Alejandra Cid García, Dra. Kitzia Valeria Ruiz Navarro. Edición:  C. Daniel Hernández Hernández, Lic. Martha Hernández Gambo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981000" y="826920"/>
            <a:ext cx="5256360" cy="826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A METODOLÓGIC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ocasión se hacen las siguientes consideracion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l Capítulo II. Daños a la Salud, que comprende Morbilidad y Mortalidad hospitalaria, en el desglose por Entidad Federativa se ha separado los Hospitales Psiquiátricos del Distrito Federal, que incluye a: “Fray Bernardino Álvarez”, “Dr. Samuel Ramírez Moreno” y “ Dr. Juan N. Navarr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Hospitales Federales de Referencia comprenden: General de México,  Juárez de México, Juárez del Centro, De la Mujer, Dr. Manuel Gea González, Nacional Homeopátic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información que se presenta en el Capítulo IV. Servicios otorgados,  en Institutos Nacionales de Salud comprende: Instituto Nacional de Perinatología, Instituto Nacional de Pediatría, Instituto Nacional de Nutrición, Instituto Nacional de Cancerología, Instituto Nacional de Cardiología, Instituto Nacional de Enfermedades Respiratorias, Instituto Nacional de Neurología y Neurocirugía, Centro Nacional de Rehabilitación, Instituto Mexicano de Psiquiatría y Hospital Infantil de Méxic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specto a grupos de edad, el corte de 60 y más se realizó con base a la estrategia  “Línea de Vi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información referente a Promoción de la Salud: Organización Comunitaria; La Salud empieza en casa; Mujer, Salud y Desarrollo; Orientación alimentaria; Salud y educación del adulto; Programa de ejercicios para el cuidado de la salud; Recursos comunitarios formados; Participación Municipal y Social, se captó en el formato de Fuera de la Unidad Médica a diferencia de los años anteriores en que era en el de unidades de consulta extern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specto a cáncer cervico-uterino y de mama, sólo se presenta información de consultas, control de casos y tratamientos, debido a que el Centro Nacional de Equidad de Género y Salud Reproductiva cuenta con sistemas de tipo nominal para recabar información respecto a estos padecimiento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partir de este año se presenta información respecto a la aplicación de vacuna antineumocóccica 7 y 13 serotipos así como de antiinfluenz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Siglas usadas en este anuario so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d = no disponible</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 = no aplic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02:01:42Z</dcterms:created>
  <dc:creator>Dirección de Estadística</dc:creator>
  <dc:description/>
  <dc:language>en-US</dc:language>
  <cp:lastModifiedBy>DANIELH</cp:lastModifiedBy>
  <cp:lastPrinted>2003-03-03T17:52:59Z</cp:lastPrinted>
  <dcterms:modified xsi:type="dcterms:W3CDTF">2005-11-23T19:05:43Z</dcterms:modified>
  <cp:revision>83</cp:revision>
  <dc:subject/>
  <dc:title>Sin título de diapositiva</dc:title>
</cp:coreProperties>
</file>