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609480"/>
            <a:ext cx="685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Índice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49360" y="1301760"/>
            <a:ext cx="5040360" cy="73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bl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blación por grupo de edad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blación a mitad de cada año por edad quinquenal no asegurada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blación usuaria por grupo de edad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años a la salu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orbilidad hospit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ortalidad hospit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nexo Lista Mexicana II para Morbi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nexo Lista Mexicana II para Morta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ecursos para la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cursos 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V.     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rvicios otorg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incipales servicios otorg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tención a la Salud del Niñ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alud Reprodu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tención a la salud del adulto y el anci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icobacter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fermedades transmitidas por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Zoon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IH/SIDA y otras infecciones de transmisión sex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alud M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e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alud Indíg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moción de la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Arial"/>
              <a:buAutoNum type="romanUcPeriod" startAt="5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guro Pop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Arial"/>
              <a:buAutoNum type="romanUcPeriod" startAt="5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tenciones a derechohab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rbilidad hospitalar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rtalidad hospitalar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373720" y="1467000"/>
            <a:ext cx="62532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11:59:42Z</dcterms:created>
  <dc:creator/>
  <dc:description/>
  <dc:language>en-US</dc:language>
  <cp:lastModifiedBy>NLAM</cp:lastModifiedBy>
  <cp:lastPrinted>2003-03-03T18:04:02Z</cp:lastPrinted>
  <dcterms:modified xsi:type="dcterms:W3CDTF">2005-11-01T01:14:38Z</dcterms:modified>
  <cp:revision>167</cp:revision>
  <dc:subject/>
  <dc:title>Sin título de diapositiva</dc:title>
</cp:coreProperties>
</file>