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5EB-336B-4C54-85D7-712919D8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F42-F16E-4D83-8B1B-9C5E8924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AE6-9F67-4AFA-A490-1253B6FE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1C3-1BBC-4C69-BC2F-80654CDE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709-4228-4CF0-8F4E-F4380F60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798-1345-4AA6-800E-6B6BC95B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FCB-4A78-4880-B307-A859F6F2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5D3-246B-4963-9580-603AFD53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231-E078-4B85-9401-4504D479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FF8-FACB-4189-9333-BA696F5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FD4-361E-4418-BBAA-86D3787A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228-BBBE-44F7-BF4A-E044C024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566F-36CD-4D69-AA9D-574D21436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8354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.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2987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H/SIDA y otras infecciones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transmisión 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ud 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ud indí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moción de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. Seguro 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tención a derechohab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rtalidad Hospit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V. Servicios otor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incipales servicios otor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tención a la salud del 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alud re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2987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tención a la salud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l adulto y del anc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icobacteri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fermedades transmitidas por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Zoo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22:49:47Z</dcterms:created>
  <dc:creator>ALICIA MERCADO</dc:creator>
  <dc:description/>
  <dc:language>en-US</dc:language>
  <cp:lastModifiedBy>DANIELH</cp:lastModifiedBy>
  <dcterms:modified xsi:type="dcterms:W3CDTF">2005-11-25T21:19:11Z</dcterms:modified>
  <cp:revision>8</cp:revision>
  <dc:subject/>
  <dc:title>IV. Servicios otorgados</dc:title>
</cp:coreProperties>
</file>