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609480"/>
            <a:ext cx="685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Índice Específ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49360" y="1054080"/>
            <a:ext cx="5040360" cy="75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bl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blación por grupo de e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blación a mitad de cada año por edad quinquenal no asegurad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blación usuaria por grupo de e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ños a la salu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rbilidad hospital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          Egresos hospitalarios por capítulo de caus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2          Egresos hospitalarios por sex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gresos hospitalarios por grupo  de edad según caus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gresos hospitalarios por grupos de e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gresos hospitalarios por grupos de edad según unidad médic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ales causas de egresos hospitalario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ales causas de egresos hospitalarios por sexo y enti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8          Principales causas de egresos hospitalarios en menores de un añ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gresos hospitalarios según causas materna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rtalidad hospital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unciones hospitalarias por capítulo de caus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1        Defunciones hospitalarias por sex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2        Defunciones hospitalarias grupo de edad según causa, 200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unciones hospitalarias por grupo de e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unciones hospitalarias por grupo de edad según unidad de ocurrenci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5        Principales causas de mortalidad hospitalari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ales causas de mortalidad hospitalaria por enti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ales causas de mortalidad hospitalaria en menores de un añ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unciones hospitalarias según causas maternas 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sta Mexicana II para mor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sta Mexicana II para mort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ursos para la sal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ursos 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dades médicas por tip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dades médicas por condición de funcionamient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3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ltorios por especiali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4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as por tipo y especiali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ros recursos por tip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ltorios y camas por tipo en las unidades de consulta extern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as, laboratorios, y equipos en unidades de consulta extern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ros recursos materiales por tipo en unidades de consulta extern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49360" y="1177920"/>
            <a:ext cx="5040360" cy="64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ltorios y camas por tipo en unidades de hospitalización general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ros recursos materiales en unidades de hospitalización general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1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ursos materiales en unidades de hospitalización general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ltorios por tipo, en unidades de hospitalización especializad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1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as por tipo, en unidades de hospitalización especializad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1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ursos materiales en unidades de hospitalización especializad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1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ursos materiales en las unidades médicas según jurisdicción sanitari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1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ursos materiales según tipo de uni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1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 de recursos humanos en unidades médica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1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 de médicos por especialidad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 unidades médica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1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 de enfermeras y otros profesionistas por tipo, en unidades médicas, 200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 de personal técnico en unidades médica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2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édicos por especialidad en unidades de consulta extern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2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fermeras y otros profesionistas en unidades de consulta extern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2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al técnico y otro personal en unidades de consulta externa, 200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2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édicos en unidades de hospitalización general, por especiali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2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fermeras y otros profesionistas en unidades de hospitalización general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2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al técnico y otro personal en unidades de hospitalización general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2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édicos en unidades de hospitalización especializada, por especiali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2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fermeras y otros profesionistas en unidades de hospitalización especializad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2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al técnico y otro personal en unidades de hospitalización especializad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3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édicos por especialidad en unidades médicas según jurisdicción sanitari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3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fermeras por especialidad y otro personal en unidades médicas según jurisdicción sanitari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32       Médicos por especialidad según Tipo de uni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33       Enfermeras y otro personal por tipo según Tipo de uni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34       Recursos materiales y humanos por tipo. Institutos Nacionales de Salu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9360" y="560520"/>
            <a:ext cx="518472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V.        Servicios otorg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incipales servicios otorg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cientes atendidos por primera vez en el año por tipo de servici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 externa por tipo de servici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V.3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nsulta externa especializad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 externa por sex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 externa  por grupo de e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 externa por program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7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 estomatologí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rgencias atendidas por motivo y destino del paciente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9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rgencias atendidas según derechohabienci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0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plicación de biológicos, 2003. Programa Perman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1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gistros hospitalario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2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gresos y egresos hospitalario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gresos hospitalarios por especiali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4       Días paciente por especiali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5       Días estancia por especialidad, 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6       Actividades en el servicio de corta estanci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7       Servicios auxiliares de diagnóstic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tención a la Salud del Niñ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8      Consulta externa otorgada a niño sano por grupo de e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9      Consulta en menores de cinco años según grado nutricional, 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0      Atención a menores de 5 años, 2003. (Estrategia de Extensión de Cobertur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1      Consultas por enfermedad diarréica aguda en menores de 5 año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2      Sobres VSO repartidos y  madres capacitadas en enfermedad diarré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guda, 2003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3      Menores de 5 años atendidos por enfermedad diarréica aguda, 2003 (Estrateg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Extensión  de Cobertur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4      Infecciones respiratorias agudas en menores de 5 año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5      Infecciones respiratorias agudas en menores de 5 años, 2003 (Estrategia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xtensión  de Cobertur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6      Aplicación de vacuna antituberculosa (BCG) por e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7      Aplicación de vacuna antipoliomielítica (Sabin) por do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8      Aplicación de vacuna pentavalente y DPT por do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9      Aplicación de vacuna triple viral  (SRP) y antisarampionosa por do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0      Aplicación de vacuna antitifoídica por do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1      Pláticas y asistentes de promoción a la salud del niñ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2      Pláticas de promoción de la salud, 2003 (Estrategia de Extensión  de Cobertur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49360" y="560520"/>
            <a:ext cx="5040360" cy="72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lud Reproducti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 externa de control prenatal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4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acimientos atendidos y nacidos vivo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5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bortos y defunciones fetale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6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ujeres atendidas por embarazo y puerperio, 2003 (Estrategia de Extensión de  Cobertur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7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tos y abortos atendidos, 2003 (Estrategia de Extensión de Cobertur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8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láticas y asistentes. Promoción de la salu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9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plicación de toxoide tetánico/diftérico do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0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s, detecciones, ingresos y  casos en control de cáncer cérv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terin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1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tección de cáncer ginecológico por resultad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2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s, detecciones, ingresos y casos en control de cáncer de mam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s y atenciones de planificación familiar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4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s y atenciones de planificación familiar por grupo de edad, 200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5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s de planificación familiar y métodos repartidos, 2003                  (Estrategia de Extensión de Cobertur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6       Intervenciones quirúrgicas de planificación familiar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7       Actividades de planificación familiar post-evento obstétric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8       Usuarios nuevos de planificación familiar por métod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9       Usuarios activos de planificación familiar por métod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0       Usuarios nuevos de planificación familiar por método, 2003 (Estrategia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xtensión de Cobertur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1       Usuarios activos de planificación familiar por método, 2003 (Estrategia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xtensión de Cobertur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tención a la salud del adulto y el anci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2       Enfermedades crónico-degenerativas, actividades realizada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3       Consulta externa por grupo de e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4       Detecciones en adultos según resultad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5       Ingresos y casos en control de diabetes mellitu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6       Ingresos y casos en  control  de hipertensión arterial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7       Obesidad en adultos, actividades realizada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8       Aplicación de toxoide tetánico/diftérico a otra población por do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icobacterio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9       Actividades del programa de tuberculo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0       Programa de tuberculosis, baciloscopías y cultivos realizado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1       Actividades del programa de lepr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9360" y="560520"/>
            <a:ext cx="5040360" cy="77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Enfermedades transmitidas por v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2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de vectores en la unidad médic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de paludismo en la comunidad, 2003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4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de prevención y control del dengue en la comunida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Zoono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5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de zoonosis en la unidad médic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6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 los centros antirrábicos veterinario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VIH/SIDA y otras infecciones de transmisión sex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7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s por VIH/SIDA y otras infecciones de transmisión sexual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8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 prevención del VIH/SIDA y otras infecciones de transmisión sexual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V.69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studios de laboratorio de VIH/SIDA y otras infecciones de transmisión sexual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Salud 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70       Servicios de Salud mental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71       Detecciones de adiccione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V.72       Atenciones en clínicas de desintoxicación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V.73       Consultas en unidades psiquiátricas por servicios según sex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74       Terapias realizadas en unidades psiquiátricas por tip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es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75       Atención por lesión según causa, 200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76       Atenciones por lesión según edad y sex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77       Atenciones por lesión accidental según edad y sex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V.78       Atenciones por lesión consecuencia de violencia familiar según edad y sexo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V.79       Atenciones por lesión consecuencia de otra violencia según edad y sexo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Salud Indíg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V.80      Salud de los pueblos indígenas. Actividades realizadas en la unidad médica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V.81      Salud de los pueblos indígenas. Actividades realizadas en la comunidad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49360" y="560520"/>
            <a:ext cx="504036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omoción de la Sal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2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 promoción de la salud. Educación saludable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 apoyo a Programas Prioritario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4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La Salud Empieza en Cas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5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Mujer, Salud y Desarroll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6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Salud y Educación en el Adulto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7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Ejercicios para el Cuidado de la Salu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8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de Salud Municipal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Organismos descentralizados e Institutos Nac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9     Servicios otorgados por los Institutos Nacionales de Salud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es por jurisdicción sanitaria y tipo de u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90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realizadas en las unidades de consulta externa por jurisdicción sanitaria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91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realizadas en las unidades de consulta externa por tipo de unidad, 200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92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realizadas en los hospitale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1:59:42Z</dcterms:created>
  <dc:creator/>
  <dc:description/>
  <dc:language>en-US</dc:language>
  <cp:lastModifiedBy>NOEMI</cp:lastModifiedBy>
  <cp:lastPrinted>2003-03-03T18:04:02Z</cp:lastPrinted>
  <dcterms:modified xsi:type="dcterms:W3CDTF">2005-01-15T01:01:10Z</dcterms:modified>
  <cp:revision>157</cp:revision>
  <dc:subject/>
  <dc:title>Sin título de diapositiva</dc:title>
</cp:coreProperties>
</file>