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609480"/>
            <a:ext cx="685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Índice Especí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49360" y="1054080"/>
            <a:ext cx="5040360" cy="72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bl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blación por grupo de e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blación potencial por grupo de e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blación usuaria por grupo de e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ños a la salu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os nuevos de enferme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os nuevos de enfermedad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resos hospitalarios por grupo  de edad según causa. Ambos sexo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resos hospitalarios por grupos de edad según causa. Mujer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resos hospitalarios por grupos de edad según causa. Hombr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resos hospitalarios por grupos de edad según hospit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es causas de egreso hospitalari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es causas de egreso hospitalario. Menores de 1 añ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resos hospitalarios maternos según caus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rtalidad hospital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unciones hospitalarias por grupo de edad según causa, 2002. Ambos sex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unciones hospitalarias por grupo de edad según causa, 2002. Muje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unciones hospitalarias por grupo de edad según causa, 2002. Homb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unciones hospitalarias por grupo de edad según hospit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es causas de mortalidad hospitalari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es causas de mortalidad hospitalaria en menores de 1 año, 2002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.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unciones hospitalarias maternas según caus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ex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a Mexicana 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ursos para la sal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dades médica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dades médicas por condición de funcionamient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3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ltorios por especiali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4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as por tipo y especiali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ursos materiales por tip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ltorios y camas por tipo en las unidades de consulta extern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ursos materiales por tipo en unidades de consulta extern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ursos materiales en unidades de consulta extern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661000" y="1054080"/>
            <a:ext cx="77004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9360" y="560520"/>
            <a:ext cx="5040360" cy="78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orios y camas en unidades de hospitalización gener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materiales en unidades de hospitalización gener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materiales en unidades de hospitalización gener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sultorios en unidades de hospitalización especializad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mas en unidades de hospitalización especializad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materiales en unidades de hospitalización especializad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materiales según jurisdicción sanitari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materiales según tipo de uni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humanos en unidades médica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otal de médicos en unidades médica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1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s profesionistas en unidades médicas, 20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l técnico en unidades médica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édico en unidades de consulta extern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s profesionistas en unidades de consulta extern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l técnico y otro personal en unidades de consulta externa, 20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édicos en unidades de hospitalización gener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5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s profesionistas en unidades de hospitalización gener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6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l técnico y otro personal en unidades de hospitalización gener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7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édicos en unidades de hospitalización especializad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8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fermeras y otros profesionistas en unidades de hospitalización especializad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29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l técnico y otro personal en unidades de hospitalización especializad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0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humanos según jurisdicción sanitari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II.31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cursos humanos según tipo de uni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V.        Servicios otorg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incipales servicios otorg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cientes atendidos por primera vez en el año por tipo de servici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por tip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sex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 por grupo de e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por program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especializad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estomatologí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gencias atendidas por motivo y destino del paciente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9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gencias atendidas según derechohabienci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biológicos, 2002. Programa Perman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gistros hospitalario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gresos y egresos hospitalario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gresos hospitalarios por especiali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61000" y="560520"/>
            <a:ext cx="770040" cy="77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9360" y="560520"/>
            <a:ext cx="5040360" cy="75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ías paciente por especiali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ías estancia por especialidad, 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en el servicio de corta estanci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rvicios auxiliares de diagnóstic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tención a la Salud del N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otorgada a niño sano por grupo de e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19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n menores de cinco años según grado nutricional, 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ención a menores de 5 años, 2002. (Estrategia de Extensión de Cobertur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 por enfermedad diarréica aguda en menores de 5 año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2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bres VSO repartidos y  madres capacitadas en enfermedad diarréica agud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nores de 5 años atendidos por enfermedad diarréica aguda, 2002 (Estrategia de Extensión 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ecciones respiratorias agudas en menores de 5 año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ecciones respiratorias agudas en menores de 5 años, 2002 (Estrategia de Extensión 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vacuna antituberculosa (BCG) por e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vacuna antipoliomielítica (Sabin) por dosi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vacuna pentavalente y DPT por dosi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29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vacuna triple viral  (SRP) y antisarampionosa por dosi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vacuna antitifoídica por dosis ,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láticas y asistentes de promoción a la salud del niñ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láticas de promoción de la salud, 2002 (Estrategia de Extensión 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lud Reproducti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de control prenat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cimientos atendidos y nacidos vivo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bortos y defunciones fetal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jeres atendidas por embarazo y puerperio, 2002 (Estrategia de Extensión de 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tos y abortos atendidos, 2002 (Estrategia de Extensión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láticas y asistentes. Promoción de la salu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39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toxoide tetánico/diftérico dosi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, detecciones, ingresos y  casos en control de cáncer cérv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terin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tección de cáncer ginecológico por resultad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, detecciones, ingresos y casos en control de cáncer de mam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 y atenciones de planificación familiar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 y atenciones de planificación familiar por grupo de edad, 20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 de planificación familiar y métodos repartidos , 2002                  (Estrategia de Extensión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61000" y="560520"/>
            <a:ext cx="770040" cy="75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9360" y="560520"/>
            <a:ext cx="5040360" cy="73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venciones quirúrgicas de planificación familiar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planificación familiar post-evento obstétric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uarios nuevos de planificación familiar por métod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49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uarios activos de planificación familiar por métod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uarios nuevos de planificación familiar por método, 2002 (Estrategia de Extensión de Cobertur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uarios activos de planificación familiar por método, 2002 (Estrategia de Extensión de Cobertu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tención a la salud del adulto y el anci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fermedades crónico-degenerativas, actividades realizada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 externa por grupo de e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tecciones en adultos según resultad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gresos y casos en control de diabetes mellitu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gresos y casos en  control  de hipertensión arteri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besidad en adultos, actividades realizada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ación de toxoide tetánico/diftérico a otra población por dosi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icobacterio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59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tuberculosi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grama de tuberculosis, baciloscopías y cultivos realizado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lepr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nfermedades transmitidas por v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vectores en la unidad médic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paludismo en la comunidad, 2002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prevención y control del dengue en la comuni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Zoono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zoonosis en la unidad médic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los centros antirrábicos veterinario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VIH/SIDA y otras infecciones de transmisión sex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ltas por VIH/SIDA y otras infecciones de transmisión sexu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68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prevención del VIH/SIDA y otras infecciones de transmisión sexu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69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tudios de laboratorio de VIH/SIDA y otras infecciones de transmisión sexu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1000" y="560520"/>
            <a:ext cx="77004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49360" y="560520"/>
            <a:ext cx="5040360" cy="67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uad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Salud 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rvicios de Salud ment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tecciones de adiccion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72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tenciones en clínicas de desintoxicación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73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sultas en unidades psiquiátricas por servicios según sex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V.74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erapias realizadas en unidades psiquiátricas por tip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e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ención por lesión según causa, 20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enciones por lesión según edad y sex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7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enciones por lesión accidental según edad y sex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78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tenciones por lesión consecuencia de violencia familiar según edad y sex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79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tenciones por lesión consecuencia de otra violencia según edad y sex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Salud Indíg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80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alud de los pueblos indígenas. Actividades realizadas en la unidad médic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V.81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Salud de los pueblos indígenas. Actividades realizadas en la comunida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moción de la Sal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promoción de la salud. Educación saludable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 apoyo a Programas Prioritario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4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La Salud Empieza en Cas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5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Mujer, Salud y Desarroll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Salud y Educación en el Adulto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7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Ejercicios para el Cuidado de la Salud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8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del Programa de Salud Municipal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es por jurisdicción sanitaria y tipo de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89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realizadas en el primer nivel de atención por jurisdicción sanitaria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90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realizadas en el primer nivel de atención por tipo de unidad, 2002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V.9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tividades realizadas en los hospital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61000" y="560520"/>
            <a:ext cx="770040" cy="67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g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1:59:42Z</dcterms:created>
  <dc:creator/>
  <dc:description/>
  <dc:language>en-US</dc:language>
  <cp:lastModifiedBy>salud</cp:lastModifiedBy>
  <cp:lastPrinted>2003-03-03T18:04:02Z</cp:lastPrinted>
  <dcterms:modified xsi:type="dcterms:W3CDTF">2004-03-16T23:09:05Z</dcterms:modified>
  <cp:revision>142</cp:revision>
  <dc:subject/>
  <dc:title>Sin título de diapositiva</dc:title>
</cp:coreProperties>
</file>