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F0673-288B-4027-AE2F-3D1563CAA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769D6-31E1-4A66-A7CB-DAB29FDC9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7BB69-F94B-4BD0-BAE7-3FE400CA6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82B33-E015-4534-A802-6FC0E193C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1529C-6B85-4076-8984-83C6F1251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39786-F0B5-4B5B-AC98-1CD1557DB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18C05-3C50-417A-851B-8CE490F36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2AA45-8E91-407E-86B8-2ADACDDD6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CDFBE-4C23-490B-A583-C0D46F1BA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C4380-6F02-4C7E-A2A5-8B5FFD301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316CC-1E1B-4F07-B167-38C0D75B0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6B481-4077-4073-8C0B-5331D66A7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A02B-1564-4094-84F9-1A2A1E56C6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762120"/>
            <a:ext cx="685800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retaría de Salud</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bsecretaría de Innovación y Calidad</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General de Información y Evaluación del Desempeño</a:t>
            </a:r>
            <a:endParaRPr b="0" lang="en-US" sz="1500" spc="-1" strike="noStrike">
              <a:solidFill>
                <a:srgbClr val="000000"/>
              </a:solidFill>
              <a:latin typeface="Times New Roman"/>
            </a:endParaRPr>
          </a:p>
        </p:txBody>
      </p:sp>
      <p:sp>
        <p:nvSpPr>
          <p:cNvPr id="42" name=""/>
          <p:cNvSpPr/>
          <p:nvPr/>
        </p:nvSpPr>
        <p:spPr>
          <a:xfrm>
            <a:off x="838080" y="3809880"/>
            <a:ext cx="51055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uario</a:t>
            </a:r>
            <a:r>
              <a:rPr b="1" i="1" lang="en-US" sz="2800" spc="-1" strike="noStrike">
                <a:solidFill>
                  <a:srgbClr val="000000"/>
                </a:solidFill>
                <a:latin typeface="Arial"/>
              </a:rPr>
              <a:t> </a:t>
            </a:r>
            <a:r>
              <a:rPr b="1" lang="en-US" sz="2800" spc="-1" strike="noStrike">
                <a:solidFill>
                  <a:srgbClr val="000000"/>
                </a:solidFill>
                <a:latin typeface="Arial"/>
              </a:rPr>
              <a:t>Estadístic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retaría de Salu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6400800"/>
            <a:ext cx="4191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ecretaría de Salud, 200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Dirección General de Información en Salu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v. Reforma  No. 450, 11 piso, Col. Juárez</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México, D. 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La Secretaría de Salud pone a disposición de los usuarios la información en la página WEB: http:/www.salud.gob.m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Anuario Estadístico, 2002</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ISBN 970-721-113-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e autoriza la reproducción parcial o total de la información contenida en esta publicación siempre y cuando se cite la fuent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268280" y="1071720"/>
            <a:ext cx="4267440" cy="58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e Salu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 Julio Frenk Mo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cretari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 Enrique Ruelas Baraj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secretario de Innovación y Calid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 Roberto Tapia Cony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secretario de Prevención y Protección de la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ic. María Eugenia de León - M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secretaria de Administración y Finanz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 Jaime Sepúlveda Am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ordinador General de los Institutos Nacionales de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ic. Gustavo Lomelín Cornej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 General de Comunicación Soc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 Rafael Lozano Ascenc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 General de Información y Evaluación del Desempeñ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268280" y="1039680"/>
            <a:ext cx="4267440" cy="745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ité Editor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ic. Raul Wong Lu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 de Información en Servicios de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tra. María Fernanda Merino Juárez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 de Información de Recursos para la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tro. Alejandro Suárez Valdés Ayal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 de Necesidades de Salud y Pobl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a. Noemí Lam Osnay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directora de Información de la Atención Ambulator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ic. María Victoria Castro Borbon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directora de Integración de la Inform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ic. Esteban López Escor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director de Información Hospitalar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Alicia Mercado Sandov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Jefa del Departamento de Procesamiento de la Información Hospitalar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ic. Gaspar Nino Ibarra Espinoz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Jefe del Departamento de Diseño de Sistem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 Juan Carlos Riveros Alv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Jefe del Departamento de Difus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571840" y="533520"/>
            <a:ext cx="16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ción</a:t>
            </a:r>
            <a:endParaRPr b="0" lang="en-US" sz="1800" spc="-1" strike="noStrike">
              <a:solidFill>
                <a:srgbClr val="000000"/>
              </a:solidFill>
              <a:latin typeface="Times New Roman"/>
            </a:endParaRPr>
          </a:p>
        </p:txBody>
      </p:sp>
      <p:sp>
        <p:nvSpPr>
          <p:cNvPr id="47" name=""/>
          <p:cNvSpPr/>
          <p:nvPr/>
        </p:nvSpPr>
        <p:spPr>
          <a:xfrm>
            <a:off x="487440" y="1057320"/>
            <a:ext cx="5881680" cy="721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orde al compromiso de acercar la información estadística a trabajadores de la salud,   investigadores en salud pública, a quienes tienen la responsabilidad de tomar decisiones en la materia y a los usuarios de los servicios, la Secretaría de Salud, a través de la Dirección General de Información y Evaluación del Desempeño presenta el Anuario Estadístico 2002, que contiene la información estadística más relevante, generada al interior de la Secretaría durante el año 2002.</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publicación se presenta la información generada por las 12,034 unidades médicas, agrupadas en las 233 Jurisdicciones Sanitarias existentes en la Secretaría de Salud, para el año 2002, las cuales reportan directamente al Sistema de Información (SISPA) que opera en la institución desde 1985.</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tenido temático del Anuario Estadístico 2002, se concentra en los siguientes capítul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blación y Cobertura </a:t>
            </a:r>
            <a:endParaRPr b="0" lang="en-US" sz="12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ños a la Salud</a:t>
            </a:r>
            <a:endParaRPr b="0" lang="en-US" sz="12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materiales y humanos</a:t>
            </a:r>
            <a:endParaRPr b="0" lang="en-US" sz="12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vicios otorgad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imer capítulo de población y cobertura incluye información sobre la distribución de la población de acuerdo a grupos de edad y sexo, por entidad federativa, cuya fuente es una combinación entre la población estimada por el Consejo Nacional de Población, CONAPO (volumen global estimado). La población potencial de la Secretaría de Salud aquí publicada se refiere al número de personas que la institución puede atender de acuerdo con los recursos humanos y materiales disponib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oblación usuaria es entendida como el segmento de la población, que hizo uso de los servicios institucionales al menos una vez al añ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segundo capítulo se presenta información sobre los Casos Nuevos de Enfermedades de Notificación, contabilizados a través del Sistema Único de Información para la Vigilancia Epidemiológica, (SUIV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formación sobre la morbilidad y mortalidad hospitalaria ocurrida en la institución, se obtiene a través  del Sistema Automatizado de Egresos Hospitalarios (SAE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79320" y="826920"/>
            <a:ext cx="5486400" cy="684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rcer capítulo se refiere a los recursos  materiales y humanos, obtenidos a través del Sistema de Información (SISPA) en su componente Registro Nacional de Infraestructura para la Salud (RENIS).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apítulo cuatro contiene los servicios otorgados tanto en el interior de las unidades médicas, ya sean de consulta externa, hospitalización general y hospitalización especializada, así como áquellas que se llevaron a cabo en la comunidad. La información se obtuvo nuevamente a través del SISPA en su componente Servici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ublicación de este Anuario representa un esfuerzo de todo el personal que interviene en su realización, tanto los que se encuentran relacionados directamente en el proceso de generación de información, como quienes integran los reportes mensuales en unidades médicas, jurisdicciones sanitarias y entidades federativas, sin cuyo esfuerzo esta publicación no habría sido posibl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agradecimiento a los Servicios de Salud Estatales, a las Direcciones Generales de Epidemiología, y de Descentralización Hospitalaria, así como a la Coordinación General de los Institutos Nacionales de Salud, por su colaboración en la publicació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nalmente la política editorial de esta Dirección General no es en modo alguno rígida ni se pretende como algo ya acabado, por lo que agradeceremos cualquier sugerencia que permita mejorar esta publicació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571840" y="685800"/>
            <a:ext cx="175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Índice General</a:t>
            </a:r>
            <a:endParaRPr b="0" lang="en-US" sz="1800" spc="-1" strike="noStrike">
              <a:solidFill>
                <a:srgbClr val="000000"/>
              </a:solidFill>
              <a:latin typeface="Times New Roman"/>
            </a:endParaRPr>
          </a:p>
        </p:txBody>
      </p:sp>
      <p:sp>
        <p:nvSpPr>
          <p:cNvPr id="50" name=""/>
          <p:cNvSpPr/>
          <p:nvPr/>
        </p:nvSpPr>
        <p:spPr>
          <a:xfrm>
            <a:off x="685800" y="1295280"/>
            <a:ext cx="5029200" cy="681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pítulo</a:t>
            </a:r>
            <a:endParaRPr b="0" lang="en-US" sz="10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r>
              <a:rPr b="0" lang="es-ES_tradnl" sz="1200" spc="-1" strike="noStrike">
                <a:solidFill>
                  <a:srgbClr val="000000"/>
                </a:solidFill>
                <a:latin typeface="Arial"/>
              </a:rPr>
              <a:t> </a:t>
            </a:r>
            <a:r>
              <a:rPr b="0" lang="es-ES_tradnl" sz="1200" spc="-1" strike="noStrike">
                <a:solidFill>
                  <a:srgbClr val="000000"/>
                </a:solidFill>
                <a:latin typeface="Arial"/>
              </a:rPr>
              <a:t>	</a:t>
            </a:r>
            <a:r>
              <a:rPr b="1" lang="es-ES_tradnl" sz="1200" spc="-1" strike="noStrike">
                <a:solidFill>
                  <a:srgbClr val="000000"/>
                </a:solidFill>
                <a:latin typeface="Arial"/>
              </a:rPr>
              <a:t>Población</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oblación por grupos de edad</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oblación potencial por grupo de edad</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oblación usuaria por grupo de edad</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I.</a:t>
            </a:r>
            <a:r>
              <a:rPr b="0" lang="es-ES_tradnl" sz="1200" spc="-1" strike="noStrike">
                <a:solidFill>
                  <a:srgbClr val="000000"/>
                </a:solidFill>
                <a:latin typeface="Arial"/>
              </a:rPr>
              <a:t>	</a:t>
            </a:r>
            <a:r>
              <a:rPr b="1" lang="es-ES_tradnl" sz="1200" spc="-1" strike="noStrike">
                <a:solidFill>
                  <a:srgbClr val="000000"/>
                </a:solidFill>
                <a:latin typeface="Arial"/>
              </a:rPr>
              <a:t>Daños a la salud</a:t>
            </a:r>
            <a:r>
              <a:rPr b="0" lang="es-ES_tradnl" sz="1200" spc="-1" strike="noStrike">
                <a:solidFill>
                  <a:srgbClr val="000000"/>
                </a:solidFill>
                <a:latin typeface="Arial"/>
              </a:rPr>
              <a:t>	</a:t>
            </a:r>
            <a:r>
              <a:rPr b="0" lang="es-ES_tradnl"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Casos nuevos de enfermedades</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orbilidad hospitalaria</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ortalidad hospitalaria</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nexo Lista Mexicana II</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II.</a:t>
            </a:r>
            <a:r>
              <a:rPr b="1" lang="es-ES_tradnl" sz="1200" spc="-1" strike="noStrike">
                <a:solidFill>
                  <a:srgbClr val="000000"/>
                </a:solidFill>
                <a:latin typeface="Arial"/>
              </a:rPr>
              <a:t>	</a:t>
            </a:r>
            <a:r>
              <a:rPr b="1" lang="es-ES_tradnl" sz="1200" spc="-1" strike="noStrike">
                <a:solidFill>
                  <a:srgbClr val="000000"/>
                </a:solidFill>
                <a:latin typeface="Arial"/>
              </a:rPr>
              <a:t>Recursos para la salud</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Recursos materiales</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Recursos humanos</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V.</a:t>
            </a:r>
            <a:r>
              <a:rPr b="1" lang="es-ES_tradnl" sz="1200" spc="-1" strike="noStrike">
                <a:solidFill>
                  <a:srgbClr val="000000"/>
                </a:solidFill>
                <a:latin typeface="Arial"/>
              </a:rPr>
              <a:t>	</a:t>
            </a:r>
            <a:r>
              <a:rPr b="1" lang="es-ES_tradnl" sz="1200" spc="-1" strike="noStrike">
                <a:solidFill>
                  <a:srgbClr val="000000"/>
                </a:solidFill>
                <a:latin typeface="Arial"/>
              </a:rPr>
              <a:t>Servicios otorgados</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rincipales servicios otorgados</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ención a la salud del niño</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alud reproductiva</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ención a la salud del adulto y el anciano</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icobacteriosis</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fermedades transmitidas por vector</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Zoonosis</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VIH/SIDA y otras enfermedades de transmisión      </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exual</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alud mental</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Lesiones</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alud indígena</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romoción de la salud</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ctividades por jurisdicción sanitaria y tipo de unidad </a:t>
            </a:r>
            <a:endParaRPr b="0" lang="en-US" sz="1200" spc="-1" strike="noStrike">
              <a:solidFill>
                <a:srgbClr val="000000"/>
              </a:solidFill>
              <a:latin typeface="Times New Roman"/>
            </a:endParaRPr>
          </a:p>
          <a:p>
            <a:pPr>
              <a:lnSpc>
                <a:spcPct val="100000"/>
              </a:lnSpc>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51" name=""/>
          <p:cNvSpPr/>
          <p:nvPr/>
        </p:nvSpPr>
        <p:spPr>
          <a:xfrm flipH="1">
            <a:off x="5714280" y="1295280"/>
            <a:ext cx="609480" cy="681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ágin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4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1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5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0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3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5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7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9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0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1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1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3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5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5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6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052640" y="6773760"/>
            <a:ext cx="47242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integración del documento fue posible gracias a la colaboración de las siguientes personas: Dra. Noemí Lam Osnaya, C. Alicia Mercado Sandoval, C. Esther Silva Flores, C. María Dolores de Paz Santos, Lic. Ma. del Carmen Herrera Torres, Lic. Diana Olivia López Melchor, C. Rosario  Pliego Moreno, Lic. Victoria Castro Borbonio T.I. Juan Carlos Riveros Alva, C. Alberto de la Rosa Rábag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7T02:01:42Z</dcterms:created>
  <dc:creator>Dirección de Estadística</dc:creator>
  <dc:description/>
  <dc:language>en-US</dc:language>
  <cp:lastModifiedBy>salud</cp:lastModifiedBy>
  <cp:lastPrinted>2003-03-03T17:52:59Z</cp:lastPrinted>
  <dcterms:modified xsi:type="dcterms:W3CDTF">2004-03-16T23:02:01Z</dcterms:modified>
  <cp:revision>38</cp:revision>
  <dc:subject/>
  <dc:title>Sin título de diapositiva</dc:title>
</cp:coreProperties>
</file>