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100-236C-4104-BD4C-A932129B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82B6-B2AA-4185-86EE-D44FC072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FF0-DB45-4C66-9CB4-27855F45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FCE-9171-4D47-B196-8DE3873B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940-C77B-42A3-A8B1-3079D4B0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ACF-27B8-4192-ADD6-B631D856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9AE-1913-4B4E-8F49-1F056681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914-6A41-4EF0-B74E-03B3DEE7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DFB-C092-4206-B3E9-A114836C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6C3-8BF8-42BC-B292-83DB025D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8884-4D10-4632-8864-57822934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334-7CA4-4551-844C-3E191CDA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3E7A-228E-4EB8-8FCE-FD7DEBCFA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 Cobertura de a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. Servicios otorg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Principales servicios otorg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tención a la salud del ni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Salud reprodu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429000" y="42498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Atención a la salu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adulto y del anc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5. Micobacteri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Enfermedades transmitidas por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Zoon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66880" y="420516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VIH/SIDA y otras infe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transmisión sex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Salud 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 Daños a la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 Le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 Promoción de la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005360" y="4205160"/>
            <a:ext cx="25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 Salud Indíg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743200" y="420516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 Actividades por jurisdi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itaria y tipo de u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420516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os nuevos de enferme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bilidad hospital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talidad hospital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357720" y="4284720"/>
            <a:ext cx="243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e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a mexicana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 Recursos para la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4205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20:09:49Z</dcterms:created>
  <dc:creator>Secretaria de Salud</dc:creator>
  <dc:description/>
  <dc:language>en-US</dc:language>
  <cp:lastModifiedBy>rwong</cp:lastModifiedBy>
  <cp:lastPrinted>2003-03-03T18:01:15Z</cp:lastPrinted>
  <dcterms:modified xsi:type="dcterms:W3CDTF">2003-11-04T00:43:21Z</dcterms:modified>
  <cp:revision>9</cp:revision>
  <dc:subject/>
  <dc:title>Sin título de diapositiva</dc:title>
</cp:coreProperties>
</file>