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AE0-3D34-4154-8711-D2E5FC83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C66-BC71-4F00-9AD7-F67FCE9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D6F-AE3C-47D9-8FBC-3ABAEF35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5D-BBC3-413E-B206-BE48C3C6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BD4-3647-45A7-949B-4DA5AA06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092-D537-474F-8B43-DB15E71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5C5-1756-4DDB-8E65-1AFC26E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D11-528E-4289-97BD-032DAD03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C2E-9455-49A3-8D28-C99F495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AA2-FB60-4C59-96E4-38E21DC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52F-6D91-4E15-BFE3-45E1395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CDF-5BCD-4B2F-A710-A68E9A4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E5FA-6135-4BDA-B0E6-5B8AF4F7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600200"/>
            <a:ext cx="26668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información contenida en éste capítulo fue obtenida a través del Registro Nacional de Infraestructura para la Salud (RENIS), uno de los componentes del SISPA, y se distribuye de la siguiente mane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otal de un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es de consulta exter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especializ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ormación por jurisdicción sanitaria y t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un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el año 2001, la Secretaría de Salud contó con 11,835 unidades médicas, distribuidas en 233 Jurisdicciones Sanitarias, éste número de unidades representa un incremento de 6.3% respecto al año 2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305520" y="1447920"/>
            <a:ext cx="3257280" cy="3099240"/>
            <a:chOff x="3305520" y="1447920"/>
            <a:chExt cx="3257280" cy="3099240"/>
          </a:xfrm>
        </p:grpSpPr>
        <p:sp>
          <p:nvSpPr>
            <p:cNvPr id="44" name=""/>
            <p:cNvSpPr/>
            <p:nvPr/>
          </p:nvSpPr>
          <p:spPr>
            <a:xfrm>
              <a:off x="4086360" y="1919160"/>
              <a:ext cx="285480" cy="2471760"/>
            </a:xfrm>
            <a:custGeom>
              <a:avLst/>
              <a:gdLst/>
              <a:ahLst/>
              <a:rect l="l" t="t" r="r" b="b"/>
              <a:pathLst>
                <a:path w="180" h="1557">
                  <a:moveTo>
                    <a:pt x="0" y="1557"/>
                  </a:moveTo>
                  <a:lnTo>
                    <a:pt x="180" y="1415"/>
                  </a:lnTo>
                  <a:lnTo>
                    <a:pt x="180" y="0"/>
                  </a:lnTo>
                  <a:lnTo>
                    <a:pt x="0" y="142"/>
                  </a:lnTo>
                  <a:lnTo>
                    <a:pt x="0" y="155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86360" y="4165560"/>
              <a:ext cx="2476440" cy="225360"/>
            </a:xfrm>
            <a:custGeom>
              <a:avLst/>
              <a:gdLst/>
              <a:ahLst/>
              <a:rect l="l" t="t" r="r" b="b"/>
              <a:pathLst>
                <a:path w="1560" h="142">
                  <a:moveTo>
                    <a:pt x="0" y="142"/>
                  </a:moveTo>
                  <a:lnTo>
                    <a:pt x="1380" y="142"/>
                  </a:lnTo>
                  <a:lnTo>
                    <a:pt x="1560" y="0"/>
                  </a:lnTo>
                  <a:lnTo>
                    <a:pt x="180" y="0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71840" y="1919160"/>
              <a:ext cx="2190960" cy="22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6360" y="1919160"/>
              <a:ext cx="285480" cy="2471760"/>
            </a:xfrm>
            <a:custGeom>
              <a:avLst/>
              <a:gdLst/>
              <a:ahLst/>
              <a:rect l="l" t="t" r="r" b="b"/>
              <a:pathLst>
                <a:path w="180" h="1557">
                  <a:moveTo>
                    <a:pt x="180" y="0"/>
                  </a:moveTo>
                  <a:lnTo>
                    <a:pt x="0" y="142"/>
                  </a:lnTo>
                  <a:lnTo>
                    <a:pt x="0" y="1557"/>
                  </a:lnTo>
                  <a:lnTo>
                    <a:pt x="180" y="1415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6360" y="4165560"/>
              <a:ext cx="2476440" cy="225360"/>
            </a:xfrm>
            <a:custGeom>
              <a:avLst/>
              <a:gdLst/>
              <a:ahLst/>
              <a:rect l="l" t="t" r="r" b="b"/>
              <a:pathLst>
                <a:path w="1560" h="142">
                  <a:moveTo>
                    <a:pt x="0" y="142"/>
                  </a:moveTo>
                  <a:lnTo>
                    <a:pt x="1380" y="142"/>
                  </a:lnTo>
                  <a:lnTo>
                    <a:pt x="1560" y="0"/>
                  </a:lnTo>
                  <a:lnTo>
                    <a:pt x="180" y="0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71840" y="1919160"/>
              <a:ext cx="2190960" cy="224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33880" y="3684600"/>
              <a:ext cx="1000080" cy="147600"/>
            </a:xfrm>
            <a:custGeom>
              <a:avLst/>
              <a:gdLst/>
              <a:ahLst/>
              <a:rect l="l" t="t" r="r" b="b"/>
              <a:pathLst>
                <a:path w="630" h="93">
                  <a:moveTo>
                    <a:pt x="0" y="93"/>
                  </a:moveTo>
                  <a:lnTo>
                    <a:pt x="510" y="93"/>
                  </a:lnTo>
                  <a:lnTo>
                    <a:pt x="630" y="0"/>
                  </a:lnTo>
                  <a:lnTo>
                    <a:pt x="120" y="0"/>
                  </a:lnTo>
                  <a:lnTo>
                    <a:pt x="0" y="9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33880" y="3832200"/>
              <a:ext cx="809640" cy="293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3520" y="3684600"/>
              <a:ext cx="190440" cy="441360"/>
            </a:xfrm>
            <a:custGeom>
              <a:avLst/>
              <a:gdLst/>
              <a:ahLst/>
              <a:rect l="l" t="t" r="r" b="b"/>
              <a:pathLst>
                <a:path w="120" h="278">
                  <a:moveTo>
                    <a:pt x="120" y="185"/>
                  </a:moveTo>
                  <a:lnTo>
                    <a:pt x="0" y="278"/>
                  </a:lnTo>
                  <a:lnTo>
                    <a:pt x="0" y="93"/>
                  </a:lnTo>
                  <a:lnTo>
                    <a:pt x="120" y="0"/>
                  </a:lnTo>
                  <a:lnTo>
                    <a:pt x="120" y="18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02720" y="37638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33880" y="2928960"/>
              <a:ext cx="1257120" cy="147600"/>
            </a:xfrm>
            <a:custGeom>
              <a:avLst/>
              <a:gdLst/>
              <a:ahLst/>
              <a:rect l="l" t="t" r="r" b="b"/>
              <a:pathLst>
                <a:path w="792" h="93">
                  <a:moveTo>
                    <a:pt x="0" y="93"/>
                  </a:moveTo>
                  <a:lnTo>
                    <a:pt x="672" y="93"/>
                  </a:lnTo>
                  <a:lnTo>
                    <a:pt x="792" y="0"/>
                  </a:lnTo>
                  <a:lnTo>
                    <a:pt x="120" y="0"/>
                  </a:lnTo>
                  <a:lnTo>
                    <a:pt x="0" y="9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33880" y="3076560"/>
              <a:ext cx="106668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00560" y="2928960"/>
              <a:ext cx="190440" cy="45252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120" y="192"/>
                  </a:moveTo>
                  <a:lnTo>
                    <a:pt x="0" y="285"/>
                  </a:lnTo>
                  <a:lnTo>
                    <a:pt x="0" y="93"/>
                  </a:lnTo>
                  <a:lnTo>
                    <a:pt x="120" y="0"/>
                  </a:lnTo>
                  <a:lnTo>
                    <a:pt x="120" y="19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42480" y="301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33880" y="2184480"/>
              <a:ext cx="1962000" cy="147600"/>
            </a:xfrm>
            <a:custGeom>
              <a:avLst/>
              <a:gdLst/>
              <a:ahLst/>
              <a:rect l="l" t="t" r="r" b="b"/>
              <a:pathLst>
                <a:path w="1236" h="93">
                  <a:moveTo>
                    <a:pt x="0" y="93"/>
                  </a:moveTo>
                  <a:lnTo>
                    <a:pt x="1122" y="93"/>
                  </a:lnTo>
                  <a:lnTo>
                    <a:pt x="1236" y="0"/>
                  </a:lnTo>
                  <a:lnTo>
                    <a:pt x="120" y="0"/>
                  </a:lnTo>
                  <a:lnTo>
                    <a:pt x="0" y="9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33880" y="2332080"/>
              <a:ext cx="1781280" cy="293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15160" y="2184480"/>
              <a:ext cx="180720" cy="441360"/>
            </a:xfrm>
            <a:custGeom>
              <a:avLst/>
              <a:gdLst/>
              <a:ahLst/>
              <a:rect l="l" t="t" r="r" b="b"/>
              <a:pathLst>
                <a:path w="114" h="278">
                  <a:moveTo>
                    <a:pt x="114" y="185"/>
                  </a:moveTo>
                  <a:lnTo>
                    <a:pt x="0" y="278"/>
                  </a:lnTo>
                  <a:lnTo>
                    <a:pt x="0" y="93"/>
                  </a:lnTo>
                  <a:lnTo>
                    <a:pt x="114" y="0"/>
                  </a:lnTo>
                  <a:lnTo>
                    <a:pt x="114" y="18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5480" y="229248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4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6360" y="4390920"/>
              <a:ext cx="219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8636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2448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6260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0072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3884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76960" y="4390920"/>
              <a:ext cx="1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85280" y="4440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4240" y="44402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12920" y="44402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21520" y="444024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200" y="44402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49160" y="444024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86360" y="2144520"/>
              <a:ext cx="1440" cy="22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057560" y="4390920"/>
              <a:ext cx="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057560" y="3645000"/>
              <a:ext cx="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057560" y="2890800"/>
              <a:ext cx="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057560" y="2144880"/>
              <a:ext cx="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3280" y="3900600"/>
              <a:ext cx="64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1440" y="4017960"/>
              <a:ext cx="576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cializ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83280" y="3144960"/>
              <a:ext cx="64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55360" y="326232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05520" y="2459160"/>
              <a:ext cx="72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ulta Exte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1447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dades médicas por tip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152280" y="4800600"/>
          <a:ext cx="3657600" cy="220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4800600"/>
                    <a:ext cx="3657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09480" y="45720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ción de un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080" y="7451640"/>
            <a:ext cx="28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el año 2001, el número de consultorios se incrementó en un 3.7% y las camas censables en 1.4% con respecto al año 2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90920" y="6324480"/>
          <a:ext cx="4572000" cy="236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6324480"/>
                    <a:ext cx="4572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46680" y="6477120"/>
            <a:ext cx="22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amas cens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5440" y="4876920"/>
            <a:ext cx="283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s unidades médicas de la SSA en el 2001,  se distribuyeron de la siguiente manera: el 96% en consulta externa, el 2.1%   en hospitales generales y el 0.6% en hospitales especializ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ayor parte de las unidades se localizan  en zona rural  66%, el 12.5% se encuentra en zonas urbanas. El 16.3% son unidades moviles y el 3.7% de hospit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670572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 Incluye Unidades de consulta externa con hospitalización y clínicas de especial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857160"/>
          <a:ext cx="408636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57160"/>
                    <a:ext cx="408636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429000" y="1523880"/>
            <a:ext cx="28954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nformación sobre recursos humanos está organizada de la siguiente  forma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úmero total de recursos humanos por jurisdicción sanitaria y tipo de un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en unidades de consulta externa, hospitalización general y especiali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ción sobre Institutos Nacionales de Salud y organismos descentraliz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962520"/>
            <a:ext cx="5943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tro de las unidades el número de médicos  se incrementó  en 3.5% al pasar de 49,700 médicos  en el 2000 a 51,443 en el año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 el año 2000 se contó con 67,938 enfermeras en contacto con el paciente y en 2001 con 68,87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5334120"/>
          <a:ext cx="321012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334120"/>
                    <a:ext cx="32101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638440" y="5600880"/>
          <a:ext cx="4219560" cy="23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8440" y="5600880"/>
                    <a:ext cx="42195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90720" y="13539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3341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édicos según especi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1440" y="533412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fermeras por especi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2:08:10Z</dcterms:created>
  <dc:creator>Dirección de Estadística</dc:creator>
  <dc:description/>
  <dc:language>en-US</dc:language>
  <cp:lastModifiedBy>Alberto de la Rosa Rábago</cp:lastModifiedBy>
  <cp:lastPrinted>2002-11-21T19:01:54Z</cp:lastPrinted>
  <dcterms:modified xsi:type="dcterms:W3CDTF">2003-04-08T21:52:35Z</dcterms:modified>
  <cp:revision>17</cp:revision>
  <dc:subject/>
  <dc:title>Sin título de diapositiva</dc:title>
</cp:coreProperties>
</file>