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609480"/>
            <a:ext cx="685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Índice Específ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762120" y="1066680"/>
            <a:ext cx="4881600" cy="72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bertura de aten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oblación total por grupo de e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oblación femenina por grupo de e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oblación masculina por grupo de edad, 200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oblación potencial por grupo de e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oblación usuaria por grupo de e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años a la salu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asos nuevos de enfermedad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sos nuevos de enfermedades  por grupo de e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orbilidad y mortalidad hospital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orbilidad hospital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gresos hospitalarios por grupos  de edad, según causa de la lista mexican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gresos hospitalarios en hombres  por grupos de edad, según causa de la lista mexican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gresos hospitalarios en mujeres por grupos de edad, según causa de la lista  mexican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gresos hospitalarios por grupos de edad y lugar de ocurrenc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6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gresos hospitalarios por servicio y lugar de ocurrenc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7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incipales causas de morbilidad hospitalaria general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8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gresos hospitalarios maternos por caus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ortalidad hospital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funciones hospitalarias por grupo de edad según causa de la  lista   mexican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1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funciones hospitalarias en hombres por grupo de edad según causa de la lista  mexican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1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funciones hospitalarias en mujeres por grupo de edad según causa de la lista mexican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1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funciones hospitalarias por grupos de edad y lugar de ocurrenc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1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funciones  hospitalarias por servicio de egreso y unidad de ocurrenc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1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incipales causas de mortalidad hospitalaria general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.1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funciones hospitalarias maternas por  caus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) Lista Mex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b) Criterio de agrupación para la selección de principales cau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486400" y="1054080"/>
            <a:ext cx="770040" cy="72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ág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457200"/>
            <a:ext cx="4749840" cy="72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II.             Recursos para la salu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cursos materi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Total de un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nidades médicas de consulta externa y hospitalización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nidades médicas por condición de funcionamient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3             Consultorios por especiali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4             Camas por tipo y especiali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5             Otros recursos materiale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Unidades de consulta exter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orios por especialidad y camas en unidades de consulta extern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7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tros recursos materiales en unidades de consulta extern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Unidades de hospitalización gene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8             Consultorios por especialidad en unidades de hospitalización general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mas  por tipo y especialidad en unidades de hospitalización general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tros recursos materiales en unidades de hospitalización general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Unidades de hospitalización especializ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1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orios por especialidad en unidades de hospitalización especializad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mas  por tipo y especialidad en unidades de hospitalización especializad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tros recursos materiales en unidades de hospitalización especializad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cursos por jurisdicción sanitaria y tipo de u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cursos materiales en las unidades médicas según jurisdicción sanitar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tros recursos materiales en las unidades médicas según jurisdicción sanitar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6           Recursos materiales por  tipo de unidad, 200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7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tros recursos materiales por  tipo de uni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59480" y="457200"/>
            <a:ext cx="770040" cy="72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ág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2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4800" y="299880"/>
            <a:ext cx="5114880" cy="73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cursos human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Total de un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8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cursos humanos en unidades médica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édicos en contacto con el paciente por especiali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0            Médicos en otras labore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fermeras y otros profesionista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ersonal técnico y otro personal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Unidades de consulta exter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ersonal médico por especialidad en unidades de consulta extern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fermeras y otros profesionistas en unidades de consulta extern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ersonal técnico y otro personal en unidades de consulta extern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Unidades de hospitalización gene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6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édicos en contacto con el paciente por especialidad en unidades de hospitalización general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7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fermeras y otros profesionistas en unidades de hospitaliz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eneral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8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ersonal técnico y otro personal en unidades de hospitaliz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eneral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Unidades de hospitalización especializ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édicos en contacto con el paciente por especialidad en unidades de hospitalización especializad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3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fermeras y otros profesionistas en unidades de hospitaliz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pecializad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3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ersonal técnico y otro personal en unidades de hospitaliz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pecializad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cursos por jurisdicción sanitaria y tipo de u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3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édicos por especialidad según jurisdicción sanitar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3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fermeras y otro personal en unidades médicas por jurisdi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anitaria. 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3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édicos  por especialidad según tipo de uni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3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fermeras y otro personal según tipo de uni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stitutos Nacionales de Sal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36            Recursos  materiales y humanos en los Institutos Naciona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 Salu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57960" y="287280"/>
            <a:ext cx="846000" cy="74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ág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7080" y="452520"/>
            <a:ext cx="4810320" cy="63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V.        Servicios otorga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incipales servicios otorgados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cientes atendidos por primera vez en el año por tip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 servicio, 2001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 extern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 externa, primera vez y subsecuente por sex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 externa  por grupo de e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 externa por program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6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 externa especializad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7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 estomatología,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8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rgencias atendidas por motivo y destino del paciente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plicación de biológico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1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gistros hospitalario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1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s y egresos hospitalario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1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gresos hospitalarios por especiali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1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ías paciente por especiali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1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ías estancia por especiali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1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en el servicio de corta estanc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16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ervicios auxiliares de diagnóstic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17</a:t>
            </a:r>
            <a:r>
              <a:rPr b="0" lang="es-ES_tradnl" sz="1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ventos impartidos de capacitación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2.      Atención a la Salud del Niño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18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 externa otorgada a niño sano por grupo de e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1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 otorgada a menores de 5 años por grad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utricional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2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tenciones a menores de 5 año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trategia de Extensión de Cober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2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s por enfermedad diarréica aguda en menor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 5 año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22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obres repartidos y  madres capacitadas por enfermedad  diarréica agud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2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nores de 5 años atendidos por enfermedad diarréica aguda, 2001 Estrategia de Extensión  de Cober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2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fecciones respiratorias agudas en  menores de 5 año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59480" y="477720"/>
            <a:ext cx="770040" cy="60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ág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7080" y="465120"/>
            <a:ext cx="5051520" cy="61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2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quemas completos de vacuna antituberculosa (B.C.G.) por grupo de e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26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plicación de vacuna antipoliomielítica (Sabin) por dosi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27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plicación de vacuna pentavalente y DPT por dosi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28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plicación de vacuna triple viral y  antisarampionosa por dosi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2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plicación de vacuna antitifoídica por dosi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3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láticas y asistentes, apoyo a programas prioritario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alud Reproductiv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3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 externa de control prenatal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3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acimientos atendidos y nacidos vivo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3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bortos y defunciones fetale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3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ujeres atendidas por embarazo y puerperio, 200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trategia de Extensión de  Cober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3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tos y abortos atendidos, 200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trategia de Extensión de Cober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36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láticas y asistentes, apoyo a programas prioritario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37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plicación de toxoide tetánico/diftérico a embarazadas por dosi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38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plicación de toxoide tetánico/diftérico a mujeres en edad fértil no embarazada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3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s, detecciones, ingresos y  casos en control de cáncer cérv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terin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4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tección de cáncer ginecológico por resultad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4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s, detecciones, ingresos y casos en control de cáncer de mam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4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s y atenciones de planificación familiar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4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s y atenciones de planificación familiar por grupo de edad 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4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s de planificación familiar y métodos repartido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trategia de Extensión de Cobertu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4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tervenciones quirúrgicas de planificación familiar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46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 planificación familiar postevento obstétric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47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suarios nuevos de planificación familiar por métod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48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suarios activos de planificación familiar por métod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4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suarios nuevos de planificación familiar por métod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trategia de Extensión de Cobertu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5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suarios activos de planificación familiar por métod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trategia de Extensión de Cobertu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59480" y="477720"/>
            <a:ext cx="770040" cy="61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ág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7080" y="452520"/>
            <a:ext cx="5343840" cy="67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4.     Atención a la salud del adulto y el ancia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5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para programas de enfermedades crónico-degenerativa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5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a externa por grupo de e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5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tecciones de enfermedades crónico-degenerativas por sex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5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s y casos en control de diabetes mellitus por grupo de edad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001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5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s y casos en  control  de hipertensión arterial por grupo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da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56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plicación de toxoide tetánico/diftérico a otra población por dosis,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5.        Micobacterios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57                 Actividades del Programa de tuberculosi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58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grama de tuberculosis, baciloscopías y cultivos realizado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5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l Programa de lepr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6.        Enfermedades transmitidas por ve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6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l Programa de vectores en la unidad médic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6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l Programa de paludismo en la comunidad, 2001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6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 prevención y control del dengue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7.       Zoonosis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6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l Programa de Zoonosis en la unidad médic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6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 los centros antirrábicos veterinario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8.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VIH/SIDA y otras enfermedades de transmisión sexu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6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evención y control del VIH/SIDA y otras enfermedades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ransmisión sexual,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9.        Adiccio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66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 prevención y control de las adiccione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5800" y="461880"/>
            <a:ext cx="769680" cy="61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ág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4800" y="299880"/>
            <a:ext cx="5165640" cy="67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10.       Accide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67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tención por accidentes y violencia por grupo de edad y sex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68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tenciones por accidentes y violencia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6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tención de accidentes y violencia por sex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11.       Promoción de la Salu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7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 promoción de la salud escolar por tip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7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 apoyo a Programas Prioritario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7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l Programa La Salud Empieza en Cas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7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l Programa Mujer, Salud y Desarroll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7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l Programa Salud y Educación en el Adulto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7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l Programa Ejercicios para el Cuidado de la Salu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76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del Programa de Salud Municipal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12.       Organismos descentralizados e Institutos Nacionales de Salu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77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ervicios otorgados por los Institutos Nacionales de Salud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13.        Actividades por Jurisdicción Sanitaria y Tipo de Unida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78, 7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realizadas en el primer nivel de atención por jurisdicción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 8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anitar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81, 8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realizadas en el primer nivel de atención por tipo de unidad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 83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001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8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realizadas fuera de la unidad médica por jurisdi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anitar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8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idades realizadas en el segundo nivel de atención p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nidad  de ocurrenc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86           Actividades realizadas en el segundo nivel de atención por unidad de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currenc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87           Actividades realizadas en el segundo nivel de atención por unidad de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currenc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Glos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59480" y="306360"/>
            <a:ext cx="770040" cy="66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ág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1:59:42Z</dcterms:created>
  <dc:creator/>
  <dc:description/>
  <dc:language>en-US</dc:language>
  <cp:lastModifiedBy>Alberto de la Rosa Rábago</cp:lastModifiedBy>
  <cp:lastPrinted>2003-03-28T17:23:14Z</cp:lastPrinted>
  <dcterms:modified xsi:type="dcterms:W3CDTF">2003-04-11T18:53:56Z</dcterms:modified>
  <cp:revision>145</cp:revision>
  <dc:subject/>
  <dc:title>Sin título de diapositiva</dc:title>
</cp:coreProperties>
</file>