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E436-4BDD-487E-89A1-A58FDCD9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A47F-1554-4AC1-B64B-14A02A45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0E17-8EFA-4753-A5F1-E402D805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B6D3-00ED-4C3C-B4D8-092DC8474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936D-7518-4A48-872D-EB60144F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5B05-7C7E-48AE-A4B1-296C9BFD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840A-75AD-4311-AF25-6D43A309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BDD7-8D64-4CF4-8D94-E1CD4CED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55DE-D013-4D2C-B6FE-91F1A502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7A50-B546-43E3-B461-2CC505E6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7865-8B69-4ADC-8A7F-B30CDA93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DD9D-476B-483C-9D7D-86924F2E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647E-C021-4B29-8D2D-8FA61D2E9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2051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 Cobertura de a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42051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rsos hum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42051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. Servicios otorg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42051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Principales servicios otorg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42051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tención a la salud del ni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42051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Salud reproduc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429000" y="4249800"/>
            <a:ext cx="3124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Atención a la salu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 adulto y del anci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42051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5. Micobacterio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42051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Enfermedades transmitidas por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42051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 Zoono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666880" y="4205160"/>
            <a:ext cx="3886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 VIH/SIDA y otras enferme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transmisión sex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2051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. Daños a la sal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42051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 Adi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42051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 Accid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42051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. Promoción de la sal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362320" y="4205160"/>
            <a:ext cx="4190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2. Organismos descentralizados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stitutos Nacionales de Sal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743200" y="420516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. Actividades por Jurisdi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itaria y tipo de un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2280" y="420516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s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2051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os nuevos de enferme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42051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bilidad y mortalidad hospital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42051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bilidad hospital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2051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talidad hospital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38280" y="3505320"/>
            <a:ext cx="4114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ex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 Lista mexic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 Criterios de agrupación para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ción de las princip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42051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 Recursos para la sal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42051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rsos 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20:09:49Z</dcterms:created>
  <dc:creator>Secretaria de Salud</dc:creator>
  <dc:description/>
  <dc:language>en-US</dc:language>
  <cp:lastModifiedBy>Alberto de la Rosa Rábago</cp:lastModifiedBy>
  <cp:lastPrinted>2003-03-03T18:01:15Z</cp:lastPrinted>
  <dcterms:modified xsi:type="dcterms:W3CDTF">2003-04-08T21:59:43Z</dcterms:modified>
  <cp:revision>3</cp:revision>
  <dc:subject/>
  <dc:title>Sin título de diapositiva</dc:title>
</cp:coreProperties>
</file>