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30EBA-E483-403C-B06D-7C2D70EB2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DC4FA-A464-42DE-905C-926B32BF6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31068-2261-4AC6-9EF0-315246ABA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DBA33-11FF-4FB2-A388-E817585B8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2F46E-D803-4586-8984-20D247876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F5BAE-A7FF-48F8-AF86-61BC53DE8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DE674-D7BB-48EC-92B0-D34E073E5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299FD-0AFE-47B1-974E-882B2A1CF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93C0A-FAB3-4AF8-B0F9-AFB58E25D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1C056-DB80-47C9-85CF-00843592A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2C8E7-F58A-4268-B75E-B23FDDD7C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0AC5E-2F33-405A-A82F-2AB3FEBAE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9951-83C5-4257-90FA-98EEF3B6A2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762120"/>
            <a:ext cx="685800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retaría de Salud</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ordinación General de Planeación Estratégica</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General de Información y Evaluación del Desempeño</a:t>
            </a:r>
            <a:endParaRPr b="0" lang="en-US" sz="1500" spc="-1" strike="noStrike">
              <a:solidFill>
                <a:srgbClr val="000000"/>
              </a:solidFill>
              <a:latin typeface="Times New Roman"/>
            </a:endParaRPr>
          </a:p>
        </p:txBody>
      </p:sp>
      <p:sp>
        <p:nvSpPr>
          <p:cNvPr id="42" name=""/>
          <p:cNvSpPr/>
          <p:nvPr/>
        </p:nvSpPr>
        <p:spPr>
          <a:xfrm>
            <a:off x="838080" y="3809880"/>
            <a:ext cx="51055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uario</a:t>
            </a:r>
            <a:r>
              <a:rPr b="1" i="1" lang="en-US" sz="2800" spc="-1" strike="noStrike">
                <a:solidFill>
                  <a:srgbClr val="000000"/>
                </a:solidFill>
                <a:latin typeface="Arial"/>
              </a:rPr>
              <a:t> </a:t>
            </a:r>
            <a:r>
              <a:rPr b="1" lang="en-US" sz="2800" spc="-1" strike="noStrike">
                <a:solidFill>
                  <a:srgbClr val="000000"/>
                </a:solidFill>
                <a:latin typeface="Arial"/>
              </a:rPr>
              <a:t>Estadístic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retaría de Salu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6400800"/>
            <a:ext cx="4191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ecretaría de Salud, 2002</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Dirección General de Información y Evaluación del Desempeñ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v. Reforma  No. 450, 11 piso, Col. Juárez</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México, D. 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La Secretaría de Salud pone a disposición de los usuarios la información en la página WEB: http:/www.salud.gob.m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Anuario Estadístico, 200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ISBN 970-721-123-7</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Se autoriza la reproducción parcial o total de la información contenida en esta publicación siempre y cuando se cite la fuent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447920" y="762120"/>
            <a:ext cx="4267080" cy="651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e Salu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r. Julio Frenk Mo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ecretari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r. Enrique Ruelas Baraja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bsecretario de Innovación y Calida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r. Roberto Tapia Cony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bsecretario de Prevención y Protección de la Salu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r. Roberto Castañón Rom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bsecretario de Relaciones Institucional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ic. María Eugenia de León - Ma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bsecretaria de Administración y Finanza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r. Guido Belsass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omisionado del Consejo Nacional Contra las Adiccion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r. Misael Uribe Esquiv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oordinador General de los Institutos Nacionales de Salu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r. Eduardo González Pi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oordinación General de Planeación Estratégic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ic. Gustavo Lomelín Cornej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irección General de Comunicación Soc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r. Rafael Lozano Ascenci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irección General de Información y Evaluación del Desempeñ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447920" y="762120"/>
            <a:ext cx="4267080" cy="746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ité Editor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r. Octavio Gómez Danté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irector General Adjunto de Evaluación del Desempeñ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ic. Raul Wong Lun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irector de Sistemas de Información en Salu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r. Felipe Asis González</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irector de Análisis y Difusión de la Información en  Salu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r. Francisco Garrido Latorr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irector de Evaluación de los Programas y Servicios de Salu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tra. María Fernanda Merino Juárez</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irectora de Evaluación de los Sistemas de Salu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bdirección de Integración de la Informa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ic. Victoria Castro Borboni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 Alberto de la Rosa Rába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ct. Beatriz E. Escobedo de la Peñ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bdirección de Información Institucion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ra. Noemi Lam Osnay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ic. María del Carmen Herrera Torr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ic. Alicia Mercado Sandov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ic. Gaspar Nino Ibarra Espinoz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bdirección  de Estudios Demográficos y de Salu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tro. Alejandro Suárez Valdés Ayal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 Juan José González Vilchi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bdirección  de Clasificación de Información en Salu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r. Luis Manuel Torres Palaci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ic. Angela Santillán Chávez</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 Jorge Lara Báez</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571840" y="533520"/>
            <a:ext cx="16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ción</a:t>
            </a:r>
            <a:endParaRPr b="0" lang="en-US" sz="1800" spc="-1" strike="noStrike">
              <a:solidFill>
                <a:srgbClr val="000000"/>
              </a:solidFill>
              <a:latin typeface="Times New Roman"/>
            </a:endParaRPr>
          </a:p>
        </p:txBody>
      </p:sp>
      <p:sp>
        <p:nvSpPr>
          <p:cNvPr id="47" name=""/>
          <p:cNvSpPr/>
          <p:nvPr/>
        </p:nvSpPr>
        <p:spPr>
          <a:xfrm>
            <a:off x="609480" y="1371600"/>
            <a:ext cx="5715000" cy="71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corde al compromiso de acercar la información estadística a trabajadores de la salud,   investigadores en salud pública, a quienes tienen la responsabilidad de tomar decisiones en la materia y a los usuarios de los servicios, la Secretaría de Salud, a través de la Dirección General de Información y Evaluación del Desempeño presenta el Anuario Estadístico 2001, que contiene la información estadística más relevante, generada al interior de la Secretaría durante el año 2001.</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n esta publicación se presenta la información generada por las 11,835 unidades médicas, agrupadas en las 233 Jurisdicciones Sanitarias existentes en la Secretaría de Salud, para el año 2001, las cuales reportan directamente al Sistema de Información (SISPA) que opera en la institución desde 1985.</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 contenido temático del Anuario Estadístico 2001, se concentra en los siguientes capítulos:</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oblación y Cobertura </a:t>
            </a:r>
            <a:endParaRPr b="0" lang="en-US" sz="11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años a la Salud</a:t>
            </a:r>
            <a:endParaRPr b="0" lang="en-US" sz="11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ursos materiales y humanos</a:t>
            </a:r>
            <a:endParaRPr b="0" lang="en-US" sz="11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ervicios otorgados</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 primer capítulo de población y cobertura incluye información sobre la distribución de la población de acuerdo a grupos de edad y sexo, por entidad federativa, cuya fuente es una combinación entre la población potencial calculada por la Secretaría de Salud y  la estimada por el Consejo Nacional de Población, CONAPO (volumen global estimado) para obtener la estructura etaria y por sexo.</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población potencial de la Secretaría de Salud aquí publicada se refiere al número de personas que la institución puede atender de acuerdo con los recursos humanos y materiales disponibles.</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población usuaria es entendida como el segmento de la población, que hizo uso de los servicios institucionales al menos una vez al año.</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n el segundo capítulo se presenta información sobre los Casos Nuevos de Enfermedades de Notificación Obligatoria,  contabilizados a través del Sistema Unico de Información para la Vigilancia Epidemiológica, (SUIVE).</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información sobre la morbilidad y mortalidad hospitalaria ocurrida en la institución, se obtiene a través  del Sistema de Información (SISPA) en su componente de estadística de egreso hospitalario que se genera mediante el Sistema Automatizado de Egresos Hospitalarios (SAEH).</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38080" y="914400"/>
            <a:ext cx="5486400" cy="595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 tercer capítulo se refiere a los recursos  materiales y humanos, obtenidos a través del Sistema de Información (SISPA) en su componente Registro Nacional de Infraestructura para la Salud (RENIS). </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 capítulo cuatro contiene los servicios otorgados tanto en el interior de las unidades médicas, ya sean de consulta externa, hospitalización general y hospitalización especializada, así como aquellas que se llevaron a cabo en exteriores. La información se obtuvo nuevamente a través del SISPA en su componente Servicios.</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publicación de este Anuario representa un esfuerzo de todo el personal que interviene en su realización, tanto los que se encuentran relacionados directamente en el proceso de generación de información, como quienes integran los reportes mensuales en unidades médicas, jurisdicciones sanitarias y entidades federativas, sin cuyo esfuerzo esta publicación no habría sido posible.</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uestro agradecimiento a los Servicios de Salud Estatales, a las Direcciones Generales de Epidemiología, a la Dirección General de Calidad y Educación en Salud y al Centro Nacional para la Salud de la Infancia y la Adolescencia, por su colaboración en la publicación.</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Finalmente la política editorial de esta Dirección General no es en modo alguno rígida ni se pretende como algo ya acabado, por lo que agradeceremos cualquier sugerencia que permita mejorar esta publicación.</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571840" y="685800"/>
            <a:ext cx="175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Índice General</a:t>
            </a:r>
            <a:endParaRPr b="0" lang="en-US" sz="1800" spc="-1" strike="noStrike">
              <a:solidFill>
                <a:srgbClr val="000000"/>
              </a:solidFill>
              <a:latin typeface="Times New Roman"/>
            </a:endParaRPr>
          </a:p>
        </p:txBody>
      </p:sp>
      <p:sp>
        <p:nvSpPr>
          <p:cNvPr id="50" name=""/>
          <p:cNvSpPr/>
          <p:nvPr/>
        </p:nvSpPr>
        <p:spPr>
          <a:xfrm>
            <a:off x="685800" y="1295280"/>
            <a:ext cx="5029200" cy="681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apítul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r>
              <a:rPr b="0" lang="es-ES_tradnl" sz="1200" spc="-1" strike="noStrike">
                <a:solidFill>
                  <a:srgbClr val="000000"/>
                </a:solidFill>
                <a:latin typeface="Arial"/>
              </a:rPr>
              <a:t> </a:t>
            </a:r>
            <a:r>
              <a:rPr b="0" lang="es-ES_tradnl" sz="1200" spc="-1" strike="noStrike">
                <a:solidFill>
                  <a:srgbClr val="000000"/>
                </a:solidFill>
                <a:latin typeface="Arial"/>
              </a:rPr>
              <a:t>	</a:t>
            </a:r>
            <a:r>
              <a:rPr b="1" lang="es-ES_tradnl" sz="1200" spc="-1" strike="noStrike">
                <a:solidFill>
                  <a:srgbClr val="000000"/>
                </a:solidFill>
                <a:latin typeface="Arial"/>
              </a:rPr>
              <a:t>Cobertura de aten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obla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Cobertur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I.</a:t>
            </a:r>
            <a:r>
              <a:rPr b="0" lang="es-ES_tradnl" sz="1200" spc="-1" strike="noStrike">
                <a:solidFill>
                  <a:srgbClr val="000000"/>
                </a:solidFill>
                <a:latin typeface="Arial"/>
              </a:rPr>
              <a:t>	</a:t>
            </a:r>
            <a:r>
              <a:rPr b="1" lang="es-ES_tradnl" sz="1200" spc="-1" strike="noStrike">
                <a:solidFill>
                  <a:srgbClr val="000000"/>
                </a:solidFill>
                <a:latin typeface="Arial"/>
              </a:rPr>
              <a:t>Daños a la salud</a:t>
            </a:r>
            <a:r>
              <a:rPr b="0" lang="es-ES_tradnl" sz="1200" spc="-1" strike="noStrike">
                <a:solidFill>
                  <a:srgbClr val="000000"/>
                </a:solidFill>
                <a:latin typeface="Arial"/>
              </a:rPr>
              <a:t>	</a:t>
            </a:r>
            <a:r>
              <a:rPr b="0" lang="es-ES_tradnl"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Casos nuevos de enfermedad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orbilidad hospitalar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ortalidad hospitalar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nex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II.</a:t>
            </a:r>
            <a:r>
              <a:rPr b="1" lang="es-ES_tradnl" sz="1200" spc="-1" strike="noStrike">
                <a:solidFill>
                  <a:srgbClr val="000000"/>
                </a:solidFill>
                <a:latin typeface="Arial"/>
              </a:rPr>
              <a:t>	</a:t>
            </a:r>
            <a:r>
              <a:rPr b="1" lang="es-ES_tradnl" sz="1200" spc="-1" strike="noStrike">
                <a:solidFill>
                  <a:srgbClr val="000000"/>
                </a:solidFill>
                <a:latin typeface="Arial"/>
              </a:rPr>
              <a:t>Recursos para la salu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Recursos materia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Recursos human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V.</a:t>
            </a:r>
            <a:r>
              <a:rPr b="1" lang="es-ES_tradnl" sz="1200" spc="-1" strike="noStrike">
                <a:solidFill>
                  <a:srgbClr val="000000"/>
                </a:solidFill>
                <a:latin typeface="Arial"/>
              </a:rPr>
              <a:t>	</a:t>
            </a:r>
            <a:r>
              <a:rPr b="1" lang="es-ES_tradnl" sz="1200" spc="-1" strike="noStrike">
                <a:solidFill>
                  <a:srgbClr val="000000"/>
                </a:solidFill>
                <a:latin typeface="Arial"/>
              </a:rPr>
              <a:t>Servicios otorgad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rincipales servicios otorgad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ención a la salud del niñ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alud reproductiv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ención a la salud del adulto y el ancia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icobacterio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fermedades transmitidas por vec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Zoono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VIH/SIDA y otras enfermedades de transmisió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exu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dicc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cciden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romoción de la salu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Organismos descentralizados e Institutos Naciona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de Salu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ctividades por jurisdicción sanitaria y tipo de unida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                  Glosario</a:t>
            </a:r>
            <a:r>
              <a:rPr b="0"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51" name=""/>
          <p:cNvSpPr/>
          <p:nvPr/>
        </p:nvSpPr>
        <p:spPr>
          <a:xfrm flipH="1">
            <a:off x="5714280" y="1295280"/>
            <a:ext cx="609480" cy="681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ágin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4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990720" y="6773760"/>
            <a:ext cx="472428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integración del documento fue posible gracias a la colaboración de las siguientes personas: Dra. Noemi Lam Osnaya, Lic. María del Carmen Herrera Torres, Lic. Alicia Mercado Sandoval, Dr. Luis Manuel Torres Palacios, Lic. Angela Santillán Chávez, C. Jorge Lara Báez, C. Juán José González Vilchis, C. Alberto de la Rosa Rábago. Lic. Victoria Castro Borbonio. Lic. Luisa Martha Hernández Gamboa, C. Graciela Benitez Granados, C. Alicia García Cornejo,C. Sonia E. Quezada Ocampo, Ma. Hermelinda López Mejorad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7T02:01:42Z</dcterms:created>
  <dc:creator>Dirección de Estadística</dc:creator>
  <dc:description/>
  <dc:language>en-US</dc:language>
  <cp:lastModifiedBy>Alberto de la Rosa Rábago</cp:lastModifiedBy>
  <cp:lastPrinted>2003-03-03T17:52:59Z</cp:lastPrinted>
  <dcterms:modified xsi:type="dcterms:W3CDTF">2003-04-08T21:37:59Z</dcterms:modified>
  <cp:revision>26</cp:revision>
  <dc:subject/>
  <dc:title>Sin título de diapositiva</dc:title>
</cp:coreProperties>
</file>