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CA6F-BD64-4819-99FF-9823E3C5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0EF6-A799-41B9-A1E3-9CA7D02F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C8E-9A0C-49E5-9BDD-989D2983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081A-21D8-4142-914A-7CFEE246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8B9-86D3-48B5-BE77-D836D28F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E7A-0A77-4A72-BC5D-E4C55DFC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A3A5-B6A6-41F2-A2B7-53A7964F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45B-F816-4BF8-A359-8FB463A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9A0-71AD-4525-8E49-DC0463C2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905-D5D6-4807-875B-143566D5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2B40-659E-4165-AB44-2CBA698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E69-5CC8-46F0-A9E3-09F70594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93DA-D29B-490B-8CD5-6B6392589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5360" y="324000"/>
            <a:ext cx="2371680" cy="180000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8760" y="266760"/>
            <a:ext cx="2371680" cy="1800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10360" y="35244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43760" y="295200"/>
            <a:ext cx="237168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67160" y="31428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00560" y="266760"/>
            <a:ext cx="2371680" cy="1800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7360" y="279072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760" y="2743200"/>
            <a:ext cx="237168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84440" y="2784600"/>
            <a:ext cx="2371680" cy="180000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17840" y="2736720"/>
            <a:ext cx="237168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32400" y="2770200"/>
            <a:ext cx="237204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65800" y="2712960"/>
            <a:ext cx="237168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62640" y="487044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96040" y="4822920"/>
            <a:ext cx="2371680" cy="1800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5520" y="493380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4886280"/>
            <a:ext cx="237168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40240" y="4933800"/>
            <a:ext cx="2371680" cy="1800360"/>
          </a:xfrm>
          <a:prstGeom prst="rect">
            <a:avLst/>
          </a:prstGeom>
          <a:solidFill>
            <a:srgbClr val="3333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3280" y="4886280"/>
            <a:ext cx="2372040" cy="180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ANUARIO1" descr=""/>
          <p:cNvPicPr/>
          <p:nvPr/>
        </p:nvPicPr>
        <p:blipFill>
          <a:blip r:embed="rId1"/>
          <a:stretch/>
        </p:blipFill>
        <p:spPr>
          <a:xfrm>
            <a:off x="438120" y="27612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ANUARIO1" descr=""/>
          <p:cNvPicPr/>
          <p:nvPr/>
        </p:nvPicPr>
        <p:blipFill>
          <a:blip r:embed="rId2"/>
          <a:stretch/>
        </p:blipFill>
        <p:spPr>
          <a:xfrm>
            <a:off x="3400560" y="26676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ANUARIO1" descr=""/>
          <p:cNvPicPr/>
          <p:nvPr/>
        </p:nvPicPr>
        <p:blipFill>
          <a:blip r:embed="rId3"/>
          <a:stretch/>
        </p:blipFill>
        <p:spPr>
          <a:xfrm>
            <a:off x="6143760" y="29520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ANUARIO1" descr=""/>
          <p:cNvPicPr/>
          <p:nvPr/>
        </p:nvPicPr>
        <p:blipFill>
          <a:blip r:embed="rId4"/>
          <a:stretch/>
        </p:blipFill>
        <p:spPr>
          <a:xfrm>
            <a:off x="324000" y="2743200"/>
            <a:ext cx="2366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" name="ANUARIO1" descr=""/>
          <p:cNvPicPr/>
          <p:nvPr/>
        </p:nvPicPr>
        <p:blipFill>
          <a:blip r:embed="rId5"/>
          <a:stretch/>
        </p:blipFill>
        <p:spPr>
          <a:xfrm>
            <a:off x="3419640" y="2733840"/>
            <a:ext cx="2366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ANUARIO1" descr=""/>
          <p:cNvPicPr/>
          <p:nvPr/>
        </p:nvPicPr>
        <p:blipFill>
          <a:blip r:embed="rId6"/>
          <a:stretch/>
        </p:blipFill>
        <p:spPr>
          <a:xfrm>
            <a:off x="6267600" y="2724120"/>
            <a:ext cx="2366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5" name="ANUARIO1" descr=""/>
          <p:cNvPicPr/>
          <p:nvPr/>
        </p:nvPicPr>
        <p:blipFill>
          <a:blip r:embed="rId7"/>
          <a:stretch/>
        </p:blipFill>
        <p:spPr>
          <a:xfrm>
            <a:off x="361800" y="488628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6" name="ANUARIO1" descr=""/>
          <p:cNvPicPr/>
          <p:nvPr/>
        </p:nvPicPr>
        <p:blipFill>
          <a:blip r:embed="rId8"/>
          <a:stretch/>
        </p:blipFill>
        <p:spPr>
          <a:xfrm>
            <a:off x="3476520" y="488628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ANUARIO1" descr=""/>
          <p:cNvPicPr/>
          <p:nvPr/>
        </p:nvPicPr>
        <p:blipFill>
          <a:blip r:embed="rId9"/>
          <a:stretch/>
        </p:blipFill>
        <p:spPr>
          <a:xfrm>
            <a:off x="6296040" y="4819680"/>
            <a:ext cx="236700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9T01:46:04Z</dcterms:created>
  <dc:creator>S.S.A.</dc:creator>
  <dc:description/>
  <dc:language>en-US</dc:language>
  <cp:lastModifiedBy>Isaac</cp:lastModifiedBy>
  <cp:lastPrinted>2001-10-18T19:13:14Z</cp:lastPrinted>
  <dcterms:modified xsi:type="dcterms:W3CDTF">2001-10-18T19:14:54Z</dcterms:modified>
  <cp:revision>40</cp:revision>
  <dc:subject/>
  <dc:title>Sin título de diapositiva</dc:title>
</cp:coreProperties>
</file>