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8240" y="615960"/>
            <a:ext cx="5626080" cy="798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676520" y="3827520"/>
            <a:ext cx="4043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. Cobertura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3880" y="3805200"/>
            <a:ext cx="420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95520" y="3844800"/>
            <a:ext cx="4130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ursos Financie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6520" y="3803760"/>
            <a:ext cx="412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ursos Mate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00200" y="4056120"/>
            <a:ext cx="412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V. Servicios Otorg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95520" y="4056120"/>
            <a:ext cx="4132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Principales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org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95520" y="4132440"/>
            <a:ext cx="41320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Atención a la Sal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 Ni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95520" y="4208400"/>
            <a:ext cx="413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3. Salud Reproduc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00200" y="3979800"/>
            <a:ext cx="4125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Atención a la Salud 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ulto y del Anci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23880" y="4132440"/>
            <a:ext cx="4124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5. Micobacterio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00200" y="3979800"/>
            <a:ext cx="4125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 Enfermedades Transmitid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V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523880" y="3903840"/>
            <a:ext cx="4199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. Daños a la Sal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00200" y="4132440"/>
            <a:ext cx="412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7. Zoono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00200" y="4056120"/>
            <a:ext cx="4125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 VIH/SIDA y otras Enferme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Transmisión Sex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00200" y="4056120"/>
            <a:ext cx="412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 Adic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00200" y="4132440"/>
            <a:ext cx="412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 Accid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3880" y="4132440"/>
            <a:ext cx="4202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 Promoción de la Sal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00200" y="3979800"/>
            <a:ext cx="41259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95520" y="3979800"/>
            <a:ext cx="4124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 Organismos Descentralizados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itutos Nacionales de Sal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600200" y="3984480"/>
            <a:ext cx="4121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95520" y="3979800"/>
            <a:ext cx="41241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 Actividades por Jurisdi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nitaria y Tipo de Un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3903840"/>
            <a:ext cx="4199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sos Nuevos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ferme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76520" y="3809880"/>
            <a:ext cx="403848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 Lista Mexic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) Criterios de agrupación para la sele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las Principales Cau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429000"/>
            <a:ext cx="4199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3979800"/>
            <a:ext cx="42037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bilidad y Mort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pital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76520" y="3792600"/>
            <a:ext cx="41274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bilidad Hospital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3805200"/>
            <a:ext cx="412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rtalidad Hospital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92280" y="4056120"/>
            <a:ext cx="4052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es Interven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rúrg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00200" y="4110120"/>
            <a:ext cx="4114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I. Recursos para la Sal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9T14:47:23Z</dcterms:created>
  <dc:creator/>
  <dc:description/>
  <dc:language>en-US</dc:language>
  <cp:lastModifiedBy>Dirección de Estadística</cp:lastModifiedBy>
  <cp:lastPrinted>2000-09-20T16:24:32Z</cp:lastPrinted>
  <dcterms:modified xsi:type="dcterms:W3CDTF">2001-06-18T14:28:47Z</dcterms:modified>
  <cp:revision>35</cp:revision>
  <dc:subject/>
  <dc:title>Sin título de diapositiva</dc:title>
</cp:coreProperties>
</file>