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685800" y="3995640"/>
            <a:ext cx="5486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BOLETIN DE INFORMACIÓN ESTADÍST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Se terminó de imprimir en el mes de julio de 2005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Talleres Gráficos de México, Canal del Norte 80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Col. Felipe Pescador, C.P. 06280, México, D.F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La edición consta de 150 ejempla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56-09-03T13:50:10Z</dcterms:created>
  <dc:creator>SECRETARIA DE SALUD</dc:creator>
  <dc:description/>
  <dc:language>en-US</dc:language>
  <cp:lastModifiedBy>Libia Gregoria Cid Sánchez</cp:lastModifiedBy>
  <cp:lastPrinted>2002-10-23T16:00:38Z</cp:lastPrinted>
  <dcterms:modified xsi:type="dcterms:W3CDTF">2005-07-06T19:09:39Z</dcterms:modified>
  <cp:revision>30</cp:revision>
  <dc:subject/>
  <dc:title>PORTADAS BOL. SECT. 98</dc:title>
</cp:coreProperties>
</file>