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06440" y="971640"/>
            <a:ext cx="42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E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22160" y="3454560"/>
            <a:ext cx="54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TÍ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ORMA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39956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VICI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RGAD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GRAM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A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74520" y="73818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mero 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26800" y="7381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ño 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0200" y="73818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olumen  I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cp:keywords/>
  <dc:language>en-US</dc:language>
  <cp:lastModifiedBy>Juan Carlos Riveros Alva</cp:lastModifiedBy>
  <cp:lastPrinted>2002-10-23T16:00:38Z</cp:lastPrinted>
  <dcterms:modified xsi:type="dcterms:W3CDTF">2005-03-14T21:38:28Z</dcterms:modified>
  <cp:revision>28</cp:revision>
  <dc:subject/>
  <dc:title>PORTADAS BOL. SECT. 98</dc:title>
</cp:coreProperties>
</file>