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125360" y="3343320"/>
            <a:ext cx="520704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. POB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65400" y="3657600"/>
            <a:ext cx="4149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II.4    SALUD BU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812960" y="7070760"/>
            <a:ext cx="297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54280" y="3657600"/>
            <a:ext cx="3683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II.5    MICOBACTERIO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041560" y="7223040"/>
            <a:ext cx="297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09720" y="3670200"/>
            <a:ext cx="4518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II.6    ACCID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041560" y="7223040"/>
            <a:ext cx="297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09720" y="3670200"/>
            <a:ext cx="4518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V.    ASISTENCIA 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125360" y="3343320"/>
            <a:ext cx="520704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V.    INDICADORES DE SERVI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041560" y="7223040"/>
            <a:ext cx="297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09720" y="3670200"/>
            <a:ext cx="4518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OS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1125360" y="3343320"/>
            <a:ext cx="520704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I.    SERVICIOS OTORGADO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R INSTIT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125360" y="3343320"/>
            <a:ext cx="520704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I. 1   SERVICIOS AMBULATO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25360" y="3343320"/>
            <a:ext cx="520704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I. 2   SERVICIOS HOSPITAL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125360" y="3343320"/>
            <a:ext cx="520704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I. 3   SERVICIOS AUXILIARES DE DIAGNÓSTICO Y TRAT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125360" y="3343320"/>
            <a:ext cx="520704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II.  PROGRAMAS SUSTAN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125360" y="3343320"/>
            <a:ext cx="520704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II.1 SALUD REPRODUCTIV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Y DE LA MUJ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125360" y="3343320"/>
            <a:ext cx="520704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II.2    ATENCIÓN A LA SALUD DEL NI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143000" y="3352680"/>
            <a:ext cx="51847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II.3    ATENCIÓN  A  LA  SALUD  DEL</a:t>
            </a:r>
            <a:br>
              <a:rPr sz="2000"/>
            </a:b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DULTO  Y  DEL  ANCI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56-09-03T13:50:10Z</dcterms:created>
  <dc:creator>SECRETARIA DE SALUD</dc:creator>
  <dc:description/>
  <dc:language>en-US</dc:language>
  <cp:lastModifiedBy>Lic. María Victoria Castro Borbonio</cp:lastModifiedBy>
  <cp:lastPrinted>2003-01-15T21:13:44Z</cp:lastPrinted>
  <dcterms:modified xsi:type="dcterms:W3CDTF">2005-07-06T17:25:47Z</dcterms:modified>
  <cp:revision>32</cp:revision>
  <dc:subject/>
  <dc:title>PORTADAS BOL. SECT. 98</dc:title>
</cp:coreProperties>
</file>