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D14-8FE4-4496-95C0-DE7DACD1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9FA-8BFB-47B9-BCD6-D7BFD78A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6A7-7FFB-46D1-AB60-91F6042D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EA6-4C64-4758-A6C6-CAB9F40B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1E4-783B-40F9-B92B-C2F1D5F1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D3A-A1D5-4F4B-95EB-839B6997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299-CDFC-4E87-9968-F425B61A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598-FC0B-4D8F-9ED7-B04D82AF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2A2-945D-4DF6-9650-CB62F046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C38-61B4-4B94-A5BC-EEEB1625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F2C-7DFF-4E93-ADF0-394CC7F2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FCF-A507-4030-87CB-9CC26E83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AEFD-911C-4199-9B28-169C1636E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92320" y="968400"/>
          <a:ext cx="4329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2320" y="968400"/>
                    <a:ext cx="4329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44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Consulta externa prenatal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9360" y="8064360"/>
            <a:ext cx="455616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1/ Incluye: Universitarios,  PEMEX, SEDENA, SEMAR, STC (Metro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2/ Incluye: Universitarios,  STC (Metro)   y  Estatale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Fuente:  Capítulo  I.  Salud reproductiva y de la muj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47680" y="4427640"/>
          <a:ext cx="3260520" cy="32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4427640"/>
                    <a:ext cx="3260520" cy="32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436920" y="4464000"/>
          <a:ext cx="3208320" cy="316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6920" y="4464000"/>
                    <a:ext cx="320832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824760" y="3997440"/>
            <a:ext cx="236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Cobertura de embarazadas atendidas </a:t>
            </a:r>
            <a:br>
              <a:rPr sz="900"/>
            </a:b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urante el primer trimestre de gestación</a:t>
            </a:r>
            <a:br>
              <a:rPr sz="900"/>
            </a:b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9960" y="5751360"/>
            <a:ext cx="267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68200" y="39974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Proporción de nacimientos por cesárea</a:t>
            </a:r>
            <a:br>
              <a:rPr sz="900"/>
            </a:b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41840" y="5780160"/>
            <a:ext cx="272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87840" y="546876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Nac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0.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9120" y="7245360"/>
            <a:ext cx="275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81080"/>
                <a:tab algn="ctr" pos="447840"/>
                <a:tab algn="ctr" pos="808200"/>
                <a:tab algn="ctr" pos="1165320"/>
                <a:tab algn="ctr" pos="1434960"/>
                <a:tab algn="ctr" pos="1793880"/>
                <a:tab algn="ctr" pos="2063880"/>
                <a:tab algn="ctr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Secretaría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   IMSS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  IMSS-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ISSSTE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   PEMEX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 SEDENA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   SEMAR  Otras2/ 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de Salud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 Oportunidad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2840" y="7286760"/>
            <a:ext cx="29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00"/>
                <a:tab algn="ctr" pos="628560"/>
                <a:tab algn="ctr" pos="898560"/>
                <a:tab algn="ctr" pos="1257480"/>
                <a:tab algn="ctr" pos="1523880"/>
                <a:tab algn="ctr" pos="1882800"/>
                <a:tab algn="ctr" pos="2241720"/>
                <a:tab algn="ctr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Secretaría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IMSS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  IMSS-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ISSSTE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   PEMEX 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SEDENA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   SEMAR    Otras 2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0000"/>
                <a:tab algn="ctr" pos="628560"/>
                <a:tab algn="ctr" pos="898560"/>
                <a:tab algn="ctr" pos="1257480"/>
                <a:tab algn="ctr" pos="1523880"/>
                <a:tab algn="ctr" pos="1882800"/>
                <a:tab algn="ctr" pos="2241720"/>
                <a:tab algn="ctr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de Salud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Oportunidad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0608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Usuarios activos de planificación familiar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según método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5480" y="8077320"/>
            <a:ext cx="4952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Incluye: Universitarios,  STC (Metro)  y 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. Salud reproductiva y de la muj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14240" y="1092240"/>
          <a:ext cx="528804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092240"/>
                    <a:ext cx="52880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09480" y="4572000"/>
          <a:ext cx="5270760" cy="351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572000"/>
                    <a:ext cx="527076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619600" y="5905440"/>
            <a:ext cx="711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9.8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1000" y="6556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7664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Consultas de primera vez de planificación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00240" y="7612200"/>
            <a:ext cx="43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91960"/>
                <a:tab algn="ctr" pos="863640"/>
                <a:tab algn="ctr" pos="1244520"/>
                <a:tab algn="ctr" pos="1714680"/>
                <a:tab algn="ctr" pos="2286000"/>
                <a:tab algn="ctr" pos="2857680"/>
                <a:tab algn="ctr" pos="3340080"/>
                <a:tab algn="ctr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cretaría     IMS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IMSS-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ISSSTE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MEX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DENA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MAR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tras 1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1960"/>
                <a:tab algn="ctr" pos="863640"/>
                <a:tab algn="ctr" pos="1244520"/>
                <a:tab algn="ctr" pos="1714680"/>
                <a:tab algn="ctr" pos="2286000"/>
                <a:tab algn="ctr" pos="2857680"/>
                <a:tab algn="ctr" pos="3340080"/>
                <a:tab algn="ctr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 Salud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533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Detecciones de diabetes mellitus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 Sistema Nacional de Salud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09640" y="1066680"/>
          <a:ext cx="524016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066680"/>
                    <a:ext cx="524016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305440" y="3898800"/>
            <a:ext cx="233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Detecciones de hipertensión arterial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 Sistema Nacional de Salud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8240" y="4495680"/>
          <a:ext cx="5322960" cy="302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8240" y="4495680"/>
                    <a:ext cx="532296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820800" y="8089920"/>
            <a:ext cx="34909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1/ Otras  incluye: Universitarios, PEMEX, SEMAR, STC (Metro) y Estatale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Fuente: Capítulo III. Atención a la salud del adulto y del ancian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16:59:30Z</dcterms:created>
  <dc:creator>,</dc:creator>
  <dc:description/>
  <dc:language>en-US</dc:language>
  <cp:lastModifiedBy>Rosalino Hdez S</cp:lastModifiedBy>
  <cp:lastPrinted>2003-11-28T21:52:39Z</cp:lastPrinted>
  <dcterms:modified xsi:type="dcterms:W3CDTF">2004-10-16T00:41:24Z</dcterms:modified>
  <cp:revision>474</cp:revision>
  <dc:subject/>
  <dc:title>Sin título de diapositiva</dc:title>
</cp:coreProperties>
</file>