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95400" y="97164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22160" y="3454560"/>
            <a:ext cx="54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ETÍ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FORMA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D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39956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S SUSTA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898920" y="7381800"/>
            <a:ext cx="5010120" cy="337320"/>
            <a:chOff x="898920" y="7381800"/>
            <a:chExt cx="5010120" cy="337320"/>
          </a:xfrm>
        </p:grpSpPr>
        <p:sp>
          <p:nvSpPr>
            <p:cNvPr id="42" name=""/>
            <p:cNvSpPr/>
            <p:nvPr/>
          </p:nvSpPr>
          <p:spPr>
            <a:xfrm>
              <a:off x="898920" y="7381800"/>
              <a:ext cx="298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úmero 22           Volumen  I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71080" y="738180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ño  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Lic. María Victoria Castro Borbonio</cp:lastModifiedBy>
  <cp:lastPrinted>2002-10-23T16:00:38Z</cp:lastPrinted>
  <dcterms:modified xsi:type="dcterms:W3CDTF">2004-07-06T18:44:14Z</dcterms:modified>
  <cp:revision>25</cp:revision>
  <dc:subject/>
  <dc:title>PORTADAS BOL. SECT. 98</dc:title>
</cp:coreProperties>
</file>