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125360" y="3343320"/>
            <a:ext cx="52070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    SALUD REPRODUCTIV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DE LA MUJ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09720" y="3657600"/>
            <a:ext cx="544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   ATENCIÓN  A LA SALUD DEL NI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352680"/>
            <a:ext cx="5184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.    ATENCIÓN  A  LA  SALUD  DE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ULTO  Y  DEL  ANC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65400" y="3657600"/>
            <a:ext cx="414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.    SALUD BU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54280" y="3657600"/>
            <a:ext cx="368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.    MICOBACTERI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41560" y="722304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17880" y="7391520"/>
            <a:ext cx="3673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3670200"/>
            <a:ext cx="451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.   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cp:keywords/>
  <dc:language>en-US</dc:language>
  <cp:lastModifiedBy>Secretaría de Salud</cp:lastModifiedBy>
  <cp:lastPrinted>2003-01-15T21:13:44Z</cp:lastPrinted>
  <dcterms:modified xsi:type="dcterms:W3CDTF">2004-07-07T20:21:37Z</dcterms:modified>
  <cp:revision>28</cp:revision>
  <dc:subject/>
  <dc:title>PORTADAS BOL. SECT. 98</dc:title>
</cp:coreProperties>
</file>