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EBC0-F86B-4344-834C-9EEE0A602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D4D0-B65E-4774-BFF6-D196DC1B1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186BE-E51E-4D1A-B1FA-157256A85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BEFFB-5562-4E35-88E6-95B2A62C3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7738-60D2-4413-9CF7-DC085AE70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FEFB6-A3F1-47FB-ADC7-EFE2BA8C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316C-5A73-458D-BF16-394B9C6C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B83A1-8FD9-4B24-812C-100AF216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5506-74AA-4A0C-8200-D1AA9690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FB2D1-CFA5-46A6-A79C-CDDB0AED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E742-F92A-402E-85BA-34B10A620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8FE4-CD4A-4A90-9518-D19CA96BB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A62A-18BF-459B-8ACF-461EADD1B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p:nvPr>
        </p:nvSpPr>
        <p:spPr>
          <a:xfrm>
            <a:off x="666720" y="1828440"/>
            <a:ext cx="1619280" cy="645156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MSS-Solidarida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 Seguro Social</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362320" y="1828800"/>
            <a:ext cx="4114800" cy="678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s unidades de consulta externa están incluidos los centros de salud urbanos, centros de salud rurales, clínicas de especialidades, unidades móviles y centros de salud con hospitalización, y en estas unidades de consulta externa, los hospitales generales y especializados, quienes incluyen además los  hospitales psiquiátricos e institutos nacionales de salu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consultorios incluye odontología y urgenci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santes, incluye pasantes de medicina en servicio social e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dontólogos, incluye odontólogo general, odontólogo especialista y pasantes de odontología en servicio social.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incluye pasantes de enfermería, en servicio social y enfermeras en otra actividad.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personal de trabajo social.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servicios auxiliares de diagnóstico y tratamiento, incluye profesionistas y técnicos.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 administrativo, incluye personal de intendencia, de conservación y mantenimiento además de personal administrativo propiamente.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incluye promotores en salud, archivo clínico, personal de estadística, otros técnicos y otro pers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ogía, medicina preventiva, urgencias y ot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personal médico incluye médicos y enfermeras de nivel deleg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incluyen las unidades médicas subrogadas (ya que sólo se subroga el servicio), ni las unidades de apoy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de consulta externa general incluyen unidades de medicina familiar y unidades auxiliares de medicina familiar.</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médicas de hospitalización general consideran las unidades de medicina familiar con hospital, hospital general regional con medicina familiar, hospital general regional, hospital rural con esquema modificado, hospital general de zona con medicina familiar y hospital general de zon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quipos de radioterapia incluye aparatos de radioterapia superficial y profunda, unidad de telecobalto, acelerador de partículas  y unidad de terapia intracavitar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 name=""/>
          <p:cNvSpPr/>
          <p:nvPr/>
        </p:nvSpPr>
        <p:spPr>
          <a:xfrm>
            <a:off x="0" y="1066680"/>
            <a:ext cx="685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tas a la información de recurso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PlaceHolder 2"/>
          <p:cNvSpPr>
            <a:spLocks noGrp="1"/>
          </p:cNvSpPr>
          <p:nvPr>
            <p:ph/>
          </p:nvPr>
        </p:nvSpPr>
        <p:spPr>
          <a:xfrm>
            <a:off x="457200" y="914040"/>
            <a:ext cx="1619280" cy="762012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róleos Mexicanos</a:t>
            </a:r>
            <a:endParaRPr b="0" lang="en-US" sz="1000" spc="-1" strike="noStrike">
              <a:solidFill>
                <a:srgbClr val="000000"/>
              </a:solidFill>
              <a:latin typeface="Times New Roman"/>
            </a:endParaRPr>
          </a:p>
          <a:p>
            <a:pPr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Marina</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59" name=""/>
          <p:cNvSpPr/>
          <p:nvPr/>
        </p:nvSpPr>
        <p:spPr>
          <a:xfrm>
            <a:off x="2209680" y="914400"/>
            <a:ext cx="3962520" cy="708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consideran los hospitales subrogados, ya que únicamente    se  subroga el servicio.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personal médico en otras labores incluye al cuerpo de gobierno de la unidad, dirección y subdirección: jefes de servicios, departamentos y divisiones médicas;  medicina preventiva: enseñanza e investigación; planificación familiar; médicos en servicios auxiliares de diagnóstico y tratamiento e incluye médicos de contrat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nfermeras, no se incluyen las que se encuentran en  labores administrativa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está formado por jefe, subjefe, supervisor de enfermería y parteras, así como personal de confianza en el área de enfermerí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o social, de confianza y becari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recursos humanos, se incluyó en médicos y pasantes, a los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en otras labores, incluye a médicos en gerencia y cuerpos de gobierno de área médic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adoras sociales, farmacéuticos, dietistas y de archivo clínic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se refiere a operadores de telecomunicaciones, personal administrativo y de servicios generale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ógic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rubro de médicos en otras labores se incluye a personal directivo, de administración, de investigación y de docen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comprende al de archivo clínico, estadística y auxiliar de farma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 personal, se incluye a los de intendencia y otras actividades no médicas.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total de médicos se incluyen pasantes e internos de pregrado.</a:t>
            </a:r>
            <a:endParaRPr b="0" lang="en-US" sz="1000" spc="-1" strike="noStrike">
              <a:solidFill>
                <a:srgbClr val="000000"/>
              </a:solidFill>
              <a:latin typeface="Times New Roman"/>
            </a:endParaRPr>
          </a:p>
          <a:p>
            <a:pPr algn="just">
              <a:lnSpc>
                <a:spcPct val="100000"/>
              </a:lnSpc>
              <a:spcBef>
                <a:spcPts val="349"/>
              </a:spcBef>
              <a:tabLst>
                <a:tab algn="l" pos="0"/>
                <a:tab algn="l" pos="3809880"/>
                <a:tab algn="l" pos="39052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de población derechohabiente, incluye la Seguridad Social para trabajadores estatales  y  al Sistema de Transporte Colectivo (Metr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PlaceHolder 2"/>
          <p:cNvSpPr>
            <a:spLocks noGrp="1"/>
          </p:cNvSpPr>
          <p:nvPr>
            <p:ph/>
          </p:nvPr>
        </p:nvSpPr>
        <p:spPr>
          <a:xfrm>
            <a:off x="457200" y="3352680"/>
            <a:ext cx="1619280" cy="381024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stema Nacional  de</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209680" y="3429000"/>
            <a:ext cx="3886200" cy="35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total de consultorios,  incluye a los generales, de especialidad y otros consulto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se refiere a los médicos en contacto con el paciente y en otras labor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 unidades de consulta externa, están incluidos  los centros de salud urbanos, centros de salud rurales, clínicas de especialidades o unidades móvil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0" y="1752480"/>
            <a:ext cx="685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tas a la información de recursos por nivel de atenció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PlaceHolder 2"/>
          <p:cNvSpPr>
            <a:spLocks noGrp="1"/>
          </p:cNvSpPr>
          <p:nvPr>
            <p:ph/>
          </p:nvPr>
        </p:nvSpPr>
        <p:spPr>
          <a:xfrm>
            <a:off x="1066320" y="3428640"/>
            <a:ext cx="4876920" cy="4699080"/>
          </a:xfrm>
          <a:prstGeom prst="rect">
            <a:avLst/>
          </a:prstGeom>
          <a:noFill/>
          <a:ln w="0">
            <a:noFill/>
          </a:ln>
        </p:spPr>
        <p:txBody>
          <a:bodyPr lIns="90000" rIns="90000" tIns="46800" bIns="4680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el Distrito Federal,  se consideró a las Delegaciones Políticas como áreas geopolíticas equivalentes a municip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unque el total de personal médico y de enfermería  coincide con las cifras reportadas en el capítulo de recursos físicos, materiales y humanos, las columnas de médicos generales, especialistas y otros, y en las enfermeras generales, especializadas y otras no coinciden con las registradas en dicho capítulo, debido a que en algunas instituciones y  unidades médicas que dependen de los gobiernos estatales sumaron a los médicos generales con los pasantes  y   a los especialistas con los residentes, odontólogos e internos de pregrado, consideran también médicos subrogad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da entidad se incluyó al final  de los municipios un rubro de “No especificado” que se refiere a los recursos de las unidades que las diferentes instituciones no pudieron ubicar por municipio.</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gresos se considera egresos intrahospitalar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partos normales, están incluidos los partos distócicos vaginales y partos subrogados; en nacidos vivos se consideran partos múltiple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mbarazadas atendidas se consideró para las instituciones consulta externa  prenatal de 1a. vez y para los hospitales universitarios y estatales se consideraron los nacimientos atendidos. </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0" y="1447920"/>
            <a:ext cx="685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recursos y servicios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ra la salud por municip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PlaceHolder 2"/>
          <p:cNvSpPr>
            <a:spLocks noGrp="1"/>
          </p:cNvSpPr>
          <p:nvPr>
            <p:ph/>
          </p:nvPr>
        </p:nvSpPr>
        <p:spPr>
          <a:xfrm>
            <a:off x="514080" y="3047760"/>
            <a:ext cx="1771560" cy="507996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  -</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darida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marL="343080"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  d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blación  Derechohabient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7" name=""/>
          <p:cNvSpPr/>
          <p:nvPr/>
        </p:nvSpPr>
        <p:spPr>
          <a:xfrm>
            <a:off x="2514600" y="3048120"/>
            <a:ext cx="3657600" cy="5079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hospitalización de pediatría incluye prematu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egresos reportados en cada división incluyen los movimientos intrahospitala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servicios auxiliares de diagnóstico se incluyen  electrocardiografía y electroencefalografí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áticas de educación para la salud, incluye  entrevistas, pláticas y curs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se refiere a la información de los servicios de salud otorgados por unidades médicas dependientes del  ISSSTE  del gobierno del estado,  y cuyos beneficiarios son los trabajadores del gobierno estatal o municipal.  En el caso del  DF incluye información  del  STC  (ME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
          <p:cNvSpPr/>
          <p:nvPr/>
        </p:nvSpPr>
        <p:spPr>
          <a:xfrm>
            <a:off x="0" y="12952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servic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2"/>
          <p:cNvSpPr>
            <a:spLocks noGrp="1"/>
          </p:cNvSpPr>
          <p:nvPr>
            <p:ph type="title"/>
          </p:nvPr>
        </p:nvSpPr>
        <p:spPr>
          <a:xfrm>
            <a:off x="914400" y="2437920"/>
            <a:ext cx="5105520" cy="1752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_tradnl" sz="1100" spc="-1" strike="noStrike">
                <a:solidFill>
                  <a:srgbClr val="000000"/>
                </a:solidFill>
                <a:latin typeface="Arial"/>
              </a:rPr>
              <a:t>La información de este capítulo fue recabada  a  través  de  las   entidades  federativas mediante la Encuesta de Unidades Médicas Privadas con servicio  de  hospitalización que se levantó conjuntamente con el  Instituto Nacional de Estadística, Geografía e Informática.</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br>
              <a:rPr sz="1100"/>
            </a:br>
            <a:br>
              <a:rPr sz="1100"/>
            </a:br>
            <a:br>
              <a:rPr sz="1100"/>
            </a:br>
            <a:r>
              <a:rPr b="0" lang="es-ES_tradnl" sz="1100" spc="-1" strike="noStrike">
                <a:solidFill>
                  <a:srgbClr val="000000"/>
                </a:solidFill>
                <a:latin typeface="Arial"/>
              </a:rPr>
              <a:t>El criterio para la inclusión de las unidades médicas privadas fue que éstas contaran con servicios de hospitalización, la disponibilidad de camas censables y que realizaran cirugías de corta estancia.. </a:t>
            </a:r>
            <a:br>
              <a:rPr sz="1100"/>
            </a:br>
            <a:br>
              <a:rPr sz="1100"/>
            </a:br>
            <a:r>
              <a:rPr b="0" lang="es-ES_tradnl" sz="1100" spc="-1" strike="noStrike">
                <a:solidFill>
                  <a:srgbClr val="000000"/>
                </a:solidFill>
                <a:latin typeface="Arial"/>
              </a:rPr>
              <a:t>La definición usada para la  clasificación  por  tipo  de unidad, se  basó  en  el número de camas censables de acuerdo a los parámetros siguientes:</a:t>
            </a:r>
            <a:br>
              <a:rPr sz="1100"/>
            </a:br>
            <a:endParaRPr b="0" lang="en-US" sz="1100" spc="-1" strike="noStrike">
              <a:solidFill>
                <a:srgbClr val="000000"/>
              </a:solidFill>
              <a:latin typeface="Times New Roman"/>
            </a:endParaRPr>
          </a:p>
        </p:txBody>
      </p:sp>
      <p:sp>
        <p:nvSpPr>
          <p:cNvPr id="97" name="PlaceHolder 3"/>
          <p:cNvSpPr>
            <a:spLocks noGrp="1"/>
          </p:cNvSpPr>
          <p:nvPr>
            <p:ph/>
          </p:nvPr>
        </p:nvSpPr>
        <p:spPr>
          <a:xfrm>
            <a:off x="914400" y="4572000"/>
            <a:ext cx="1752480" cy="355608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línica</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atori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ospital</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o  médic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8" name=""/>
          <p:cNvSpPr/>
          <p:nvPr/>
        </p:nvSpPr>
        <p:spPr>
          <a:xfrm>
            <a:off x="2895480" y="4572000"/>
            <a:ext cx="3200400" cy="182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1    a   14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15  a   24   camas censables </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25  a   49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ás  de    50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9" name=""/>
          <p:cNvSpPr/>
          <p:nvPr/>
        </p:nvSpPr>
        <p:spPr>
          <a:xfrm>
            <a:off x="0" y="10666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Notas a la información de: Unidades de medicina privada con hospitalizac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p:nvPr>
        </p:nvSpPr>
        <p:spPr>
          <a:xfrm>
            <a:off x="837720" y="2895120"/>
            <a:ext cx="2057400" cy="5232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bertura  de  Población</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jeres en Edad  Fértil</a:t>
            </a:r>
            <a:endParaRPr b="0" lang="en-US" sz="1200" spc="-1" strike="noStrike">
              <a:solidFill>
                <a:srgbClr val="000000"/>
              </a:solidFill>
              <a:latin typeface="Times New Roman"/>
            </a:endParaRPr>
          </a:p>
        </p:txBody>
      </p:sp>
      <p:sp>
        <p:nvSpPr>
          <p:cNvPr id="108" name=""/>
          <p:cNvSpPr/>
          <p:nvPr/>
        </p:nvSpPr>
        <p:spPr>
          <a:xfrm>
            <a:off x="3048120" y="2895480"/>
            <a:ext cx="3200400" cy="5232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stimación de los indicadores de cobertura de población de los servicios nacionales de salud estuvieron divididos en dos procesos: primero, para la población total como para el  total de derechohabiente y no derechohabiente se utilizó como denominador la reportada por el CONAPO; y segundo, para cada una de las instituciones se utilizó a la población legal y/o potencial reportada por cada institución</a:t>
            </a:r>
            <a:r>
              <a:rPr b="0" lang="es-ES_tradnl"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ra la estimación de indicadores donde se encuentra como denominador a mujeres en edad fértil se consideró a la población de mujeres de 15 a 49 años reportada como legal para cada institución.</a:t>
            </a:r>
            <a:endParaRPr b="0" lang="en-US" sz="1100" spc="-1" strike="noStrike">
              <a:solidFill>
                <a:srgbClr val="000000"/>
              </a:solidFill>
              <a:latin typeface="Times New Roman"/>
            </a:endParaRPr>
          </a:p>
        </p:txBody>
      </p:sp>
      <p:sp>
        <p:nvSpPr>
          <p:cNvPr id="109" name=""/>
          <p:cNvSpPr/>
          <p:nvPr/>
        </p:nvSpPr>
        <p:spPr>
          <a:xfrm>
            <a:off x="0" y="1066680"/>
            <a:ext cx="685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tas a la información de Indicadores estadísticos </a:t>
            </a:r>
            <a:br>
              <a:rPr sz="1400"/>
            </a:br>
            <a:r>
              <a:rPr b="1" lang="es-ES_tradnl" sz="1400" spc="-1" strike="noStrike">
                <a:solidFill>
                  <a:srgbClr val="000000"/>
                </a:solidFill>
                <a:latin typeface="Arial"/>
              </a:rPr>
              <a:t>básicos del Sistema Nacional de Salu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p:nvPr>
        </p:nvSpPr>
        <p:spPr>
          <a:xfrm>
            <a:off x="3352320" y="2590560"/>
            <a:ext cx="2971800" cy="601956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457200"/>
            <a:ext cx="68580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Black"/>
              </a:rPr>
              <a:t>Fórmulas utilizadas para la construcción de indicadores</a:t>
            </a:r>
            <a:endParaRPr b="0" lang="en-US" sz="1000" spc="-1" strike="noStrike">
              <a:solidFill>
                <a:srgbClr val="000000"/>
              </a:solidFill>
              <a:latin typeface="Times New Roman"/>
            </a:endParaRPr>
          </a:p>
        </p:txBody>
      </p:sp>
      <p:sp>
        <p:nvSpPr>
          <p:cNvPr id="118" name=""/>
          <p:cNvSpPr/>
          <p:nvPr/>
        </p:nvSpPr>
        <p:spPr>
          <a:xfrm>
            <a:off x="533520" y="1447920"/>
            <a:ext cx="5867280" cy="678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2"/>
          <p:cNvSpPr>
            <a:spLocks noGrp="1"/>
          </p:cNvSpPr>
          <p:nvPr>
            <p:ph/>
          </p:nvPr>
        </p:nvSpPr>
        <p:spPr>
          <a:xfrm>
            <a:off x="685440" y="1218960"/>
            <a:ext cx="2438280" cy="6629400"/>
          </a:xfrm>
          <a:prstGeom prst="rect">
            <a:avLst/>
          </a:prstGeom>
          <a:noFill/>
          <a:ln w="0">
            <a:noFill/>
          </a:ln>
        </p:spPr>
        <p:txBody>
          <a:bodyPr lIns="90000" rIns="90000" tIns="46800" bIns="46800" anchor="t">
            <a:norm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físicos por 100,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humanos por 100,000 Hab. 1/</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rabajadores de salud  2/</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Servicios por 1 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generale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a:t>
            </a:r>
            <a:endParaRPr b="0" lang="en-US" sz="800" spc="-1" strike="noStrike">
              <a:solidFill>
                <a:srgbClr val="000000"/>
              </a:solidFill>
              <a:latin typeface="Times New Roman"/>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or 1,000  mujeres en edad férti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roductividad diaria de los recursos  3/</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iarias por médic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genera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especialista</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odontólog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consul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por quirófano</a:t>
            </a:r>
            <a:endParaRPr b="0" lang="en-US" sz="800" spc="-1" strike="noStrike">
              <a:solidFill>
                <a:srgbClr val="000000"/>
              </a:solidFill>
              <a:latin typeface="Times New Roman"/>
            </a:endParaRPr>
          </a:p>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Hospitalizac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cupación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medio días estan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mortalidad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médico</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cam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rtos por 1,000  egres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medicina intern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cirug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gineco-obstetri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pediatr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0" name=""/>
          <p:cNvSpPr/>
          <p:nvPr/>
        </p:nvSpPr>
        <p:spPr>
          <a:xfrm>
            <a:off x="3048120" y="1019160"/>
            <a:ext cx="3276360" cy="6858000"/>
          </a:xfrm>
          <a:prstGeom prst="rect">
            <a:avLst/>
          </a:prstGeom>
          <a:noFill/>
          <a:ln w="0">
            <a:noFill/>
          </a:ln>
        </p:spPr>
        <p:style>
          <a:lnRef idx="0"/>
          <a:fillRef idx="0"/>
          <a:effectRef idx="0"/>
          <a:fontRef idx="minor"/>
        </p:style>
        <p:txBody>
          <a:bodyPr lIns="90000" rIns="90000" tIns="46800" bIns="46800" anchor="t">
            <a:normAutofit/>
          </a:bodyPr>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órmulas</a:t>
            </a: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 censable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  Población legal  X  100,000</a:t>
            </a: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 en contacto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cursos humanos  / Población legal  X 100,000</a:t>
            </a:r>
            <a:endParaRPr b="0" lang="en-US" sz="800" spc="-1" strike="noStrike">
              <a:solidFill>
                <a:srgbClr val="000000"/>
              </a:solidFill>
              <a:latin typeface="Times New Roman"/>
            </a:endParaRPr>
          </a:p>
          <a:p>
            <a:pPr marL="101520" indent="101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 externa gral./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s. quirúr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 / Pob. legal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 / MEF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 Médicos en contacto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Med. grales. </a:t>
            </a:r>
            <a:r>
              <a:rPr b="1" lang="es-ES_tradnl" sz="800" spc="-1" strike="noStrike">
                <a:solidFill>
                  <a:srgbClr val="000000"/>
                </a:solidFill>
                <a:latin typeface="Arial"/>
              </a:rPr>
              <a:t>+</a:t>
            </a:r>
            <a:r>
              <a:rPr b="0" lang="es-ES_tradnl" sz="800" spc="-1" strike="noStrike">
                <a:solidFill>
                  <a:srgbClr val="000000"/>
                </a:solidFill>
                <a:latin typeface="Arial"/>
              </a:rPr>
              <a:t> Pasa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sp. / Especialistas </a:t>
            </a:r>
            <a:r>
              <a:rPr b="1" lang="es-ES_tradnl" sz="800" spc="-1" strike="noStrike">
                <a:solidFill>
                  <a:srgbClr val="000000"/>
                </a:solidFill>
                <a:latin typeface="Arial"/>
              </a:rPr>
              <a:t>+</a:t>
            </a:r>
            <a:r>
              <a:rPr b="0" lang="es-ES_tradnl" sz="800" spc="-1" strike="noStrike">
                <a:solidFill>
                  <a:srgbClr val="000000"/>
                </a:solidFill>
                <a:latin typeface="Arial"/>
              </a:rPr>
              <a:t> Reside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X  odontólogo  / Odontólogo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Consultorios gral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 Quirófanos / 365</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paciente  / Camas censables  X   365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estancia  /  Egreso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unciones  /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Médicos en contacto</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Camas censable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Egresos  X  1,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med. Intern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cirug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gineco-Obst.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pediatr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
          <p:cNvSpPr/>
          <p:nvPr/>
        </p:nvSpPr>
        <p:spPr>
          <a:xfrm>
            <a:off x="533520" y="7620120"/>
            <a:ext cx="58672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  Para el cálculo de los indicadores institucionales se consideró la población legal o potenci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Para los valores estatales, los denominadores se refieren a la población proyectada para el  2001 por 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onsejo Nacional de Població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  Incluye el total del personal que labora en unidades médic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  Para fines de este Boletín se consideraron  252  días hábiles.</a:t>
            </a:r>
            <a:endParaRPr b="0" lang="en-US" sz="800" spc="-1" strike="noStrike">
              <a:solidFill>
                <a:srgbClr val="000000"/>
              </a:solidFill>
              <a:latin typeface="Times New Roman"/>
            </a:endParaRPr>
          </a:p>
        </p:txBody>
      </p:sp>
      <p:sp>
        <p:nvSpPr>
          <p:cNvPr id="122" name=""/>
          <p:cNvSpPr/>
          <p:nvPr/>
        </p:nvSpPr>
        <p:spPr>
          <a:xfrm>
            <a:off x="2409840" y="12654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4T15:58:34Z</dcterms:created>
  <dc:creator>,</dc:creator>
  <dc:description/>
  <dc:language>en-US</dc:language>
  <cp:lastModifiedBy>Alberto de la Rosa Rábago</cp:lastModifiedBy>
  <cp:lastPrinted>2002-10-28T19:14:15Z</cp:lastPrinted>
  <dcterms:modified xsi:type="dcterms:W3CDTF">2004-03-09T17:55:13Z</dcterms:modified>
  <cp:revision>146</cp:revision>
  <dc:subject/>
  <dc:title>A partir de este año el presupuesto se presenta por Función, Subfunción y Actividad Institucional debido a que cambió la  apertura programática vigente. Las claves que  se incluyen corresponden a la Actividad Institucional y están conformadas de acuerdo al ejemplo siguien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0975197</vt:r8>
  </property>
  <property fmtid="{D5CDD505-2E9C-101B-9397-08002B2CF9AE}" pid="3" name="_AuthorEmail">
    <vt:lpwstr>brhernandez@DGEI-S01.SSA.com</vt:lpwstr>
  </property>
  <property fmtid="{D5CDD505-2E9C-101B-9397-08002B2CF9AE}" pid="4" name="_AuthorEmailDisplayName">
    <vt:lpwstr>ROSALINO HERNANDEZ SAMPAYO</vt:lpwstr>
  </property>
  <property fmtid="{D5CDD505-2E9C-101B-9397-08002B2CF9AE}" pid="5" name="_EmailSubject">
    <vt:lpwstr>Notas a la Información de Indicadores</vt:lpwstr>
  </property>
</Properties>
</file>