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28600"/>
            <a:ext cx="6095880" cy="8610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048120" y="1371600"/>
            <a:ext cx="2971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80880" y="762120"/>
            <a:ext cx="266724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241960" y="865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457200"/>
            <a:ext cx="289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861048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53352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533520"/>
            <a:ext cx="5867280" cy="82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40" y="1828800"/>
            <a:ext cx="25146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INDIC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lud  Perina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úmero promedio de consultas prena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embarazadas captadas en el 1er trime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embarazadas de alto ries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mbarazadas atendidas por 1,000 MEF  1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omedio de consultas por puérpera atendi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omedio de puérperas atendi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nacimientos por ces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nacidos vivos de bajo pe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cimientos atendidos por 1,000 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cidos vivos por 1,000 habi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uertes intrauterinas por 1,000 nacidos v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uertes maternas por 10,000  nacidos v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Planificación Fam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por 1,000 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intervenciones quirúrgicas en homb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vasectomías sin bistur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uevas aceptantes por 1,000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uarias activas por  1,000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usuarias activas con método defini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usuarias activas con D.I.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usuarias activas con método horm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lud de la Muj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CaCu por mil MEF   1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isplasias por mil detecciones de Ca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positivas de CaCu por mil 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cáncer de mama por mil ME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  De  población  poten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.E.F.  Mujeres en Edad Férti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: Mujeres que se les envío a hacerse la prueba de cán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533520"/>
            <a:ext cx="5867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FÓRMULAS UTILIZADAS PARA LA CONSTRUCCIÓN DE INDIC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ALUD  REPRODUCTIVA  Y  DE  LA  MUJ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52760" y="1790640"/>
            <a:ext cx="38098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ÓRMU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tal Cons. Ext. Prenatal/Cons. Prenatal de 1a. v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de 1a.Vez en el 1er trim. Gestal./Cons.Prenat.de 1a.vez por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mbarazadas de alto riesgo/Cons.prenatal de 1a. vez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  Prenatal de 1a. vez /MEF  por 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tal de cons. a puérperas/Cons. de 1a. vez a puérp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 de 1a. vez a puérperas/Nacimientos atendi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esáreas/Nacimientos atendidos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cidos vivos &lt; 2,500 grms./Nacidos vivos por 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tal de nacimientos atendidos/MEF por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cidos vivos/Población*  por 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tal de muertes intrauterinas / Total de nacidos vivos por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uertes maternas/Nacidos vivos por  10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 de planificación familiar/MEF  por 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tervs. Quirúrgicas en hombres/Total de intervenc. Quirúrg.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tervs. Quirúrgicas en hombres sin bisturí/Interv.Quirúrg en hombres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uevas aceptantes por método/MEF  por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uarias Activas por método/MEF  por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uarias activas por método quirúrg./Usu.activas por método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uarias activas por método D.I.U./Usuarias activas por método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uarias activas por método hormonal/Usuarias activas por método por 10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CaCu/MEF  por 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displasias de CaCu/Detecciones de CaCu por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positivas de CaCu/Detecciones de CaCu  por 1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tecciones de cáncer mamario/MEF  por  1,00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920" y="7894800"/>
            <a:ext cx="613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ota. Para el cálculo de indicadores nacional, de población derechohabiente y población no derechohabiente se tomó como bas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a muestra censal de 2000 y las estimaciones de población de CONAP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n el caso de los indicadores por institución se consideró a la población leg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80128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657600"/>
            <a:ext cx="459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NCIÓN  A LA SALUD DEL NI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094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esnutrición en niños menores de cinco año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8077320"/>
            <a:ext cx="4952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/  Incluye Universitarios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nte: Capítulo  II. Atención a la salud del niñ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295280"/>
          <a:ext cx="457344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457344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914400" y="5334120"/>
          <a:ext cx="5029200" cy="28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334120"/>
                    <a:ext cx="5029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562720" y="6095880"/>
            <a:ext cx="838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.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6603840"/>
            <a:ext cx="4572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068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obertura de atención a niños menores de un año por 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80128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09480"/>
            <a:ext cx="573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obertura de biológicos por tip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 Sistema Nacional de Salu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8534520"/>
            <a:ext cx="480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nte:  Capítulo II.  Atención  a la  salud del niñ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1371600"/>
          <a:ext cx="5715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5715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838080" y="4800600"/>
          <a:ext cx="5511960" cy="378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00600"/>
                    <a:ext cx="551196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880128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Alberto de la Rosa Rábago</cp:lastModifiedBy>
  <cp:lastPrinted>2003-01-15T21:13:44Z</cp:lastPrinted>
  <dcterms:modified xsi:type="dcterms:W3CDTF">2004-04-06T18:20:54Z</dcterms:modified>
  <cp:revision>30</cp:revision>
  <dc:subject/>
  <dc:title>PORTADAS BOL. SECT. 98</dc:title>
</cp:coreProperties>
</file>