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FCA-60A6-4FC7-93BA-F2F938FB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694-3D91-47B0-9A11-4422DABB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A6D-56FA-4087-A8FA-F99D3C79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221-F530-4990-B225-19F5089A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B2B-613C-4101-934D-55C39882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123-1D4F-4E61-B35F-6E897962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861-6BD1-4384-A156-3A477046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530-0DE4-4A1C-9F69-9FAB3738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D3F-74AF-4CA2-90D8-0E11DD02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9F0-AFAE-4F78-9E05-4E5C2D96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E7B-4735-4768-964B-C0F2A52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093-31C1-4EF8-82C8-FBAB6D13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C2E5-FAAB-4944-BDA2-0D8441AE4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76360" y="2438280"/>
            <a:ext cx="2971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762120"/>
            <a:ext cx="2666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22840" y="865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57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572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86868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33520"/>
            <a:ext cx="5867280" cy="81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641680"/>
            <a:ext cx="2514600" cy="59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INDIC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etecciones por  1,000 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en tratamiento  por 100,000  habitant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roporción de ingresos / casos en 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%  de casos en control  T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Le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registrados  por  100,000 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Relación de ingresos / casos en 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%  de vigilancia post 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666880"/>
            <a:ext cx="329544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ÓRMU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otal de detecciones / Población*  por  1,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en tratamiento / Población*  por  100,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gresos a control / Casos en 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en tratamiento TAES/ Total de casos en tratamiento   por  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registrados / Población*  por  100,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gresos a control / Casos en 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igilancia post tratamiento / Casos registrados por 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0666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FÓRMULAS UTILIZADAS PARA LA CONSTRUCCIÓN DE INDIC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M I C O B A C T E R I O S I 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5040" y="6770520"/>
            <a:ext cx="613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ota. Para el cálculo de indicadores nacional, de población derechohabiente y población no derechohabiente se tomó como bas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a muestra censal de 2000 y las estimaciones de población de CONAP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n el caso de los indicadores por institución se consideró a la población leg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80128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26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76720" y="3809880"/>
            <a:ext cx="28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 C C I D E N T E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15:58:34Z</dcterms:created>
  <dc:creator>,</dc:creator>
  <dc:description/>
  <dc:language>en-US</dc:language>
  <cp:lastModifiedBy>Alberto de la Rosa Rábago</cp:lastModifiedBy>
  <cp:lastPrinted>2003-01-28T23:26:15Z</cp:lastPrinted>
  <dcterms:modified xsi:type="dcterms:W3CDTF">2004-04-06T19:07:23Z</dcterms:modified>
  <cp:revision>143</cp:revision>
  <dc:subject/>
  <dc:title>A partir de este año el presupuesto se presenta por Función, Subfunción y Actividad Institucional debido a que cambió la  apertura programática vigente. Las claves que  se incluyen corresponden a la Actividad Institucional y están conformadas de acuerdo al ejemplo siguiente:</dc:title>
</cp:coreProperties>
</file>