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055520" y="133524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09480" y="3505320"/>
            <a:ext cx="541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LETÍN DE 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ADÍST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5070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AS SUSTAN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92280" y="7745400"/>
            <a:ext cx="28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ÚMERO 21    VOLUMEN  I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400" y="77454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ÑO 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83236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12600" y="422280"/>
            <a:ext cx="6740280" cy="7631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880128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-25560" y="317520"/>
            <a:ext cx="6861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0320" y="412920"/>
            <a:ext cx="242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Black"/>
              </a:rPr>
              <a:t>Usuarios activos de planificación famili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95560" y="565200"/>
            <a:ext cx="86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Black"/>
              </a:rPr>
              <a:t>según méto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44680" y="71748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Black"/>
              </a:rPr>
              <a:t>2 0 0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880128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1000080"/>
            <a:ext cx="6870600" cy="71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0400" y="5638680"/>
            <a:ext cx="561204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3400" y="609480"/>
            <a:ext cx="5729400" cy="768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3400" y="676440"/>
            <a:ext cx="5729400" cy="72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3400" y="682560"/>
            <a:ext cx="5729400" cy="70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622080" y="711360"/>
            <a:ext cx="5331960" cy="7396200"/>
            <a:chOff x="622080" y="711360"/>
            <a:chExt cx="5331960" cy="7396200"/>
          </a:xfrm>
        </p:grpSpPr>
        <p:sp>
          <p:nvSpPr>
            <p:cNvPr id="50" name=""/>
            <p:cNvSpPr/>
            <p:nvPr/>
          </p:nvSpPr>
          <p:spPr>
            <a:xfrm>
              <a:off x="3084480" y="71136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ÍND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72080" y="7113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2080" y="135252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2800" y="1554120"/>
              <a:ext cx="61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31560" y="154944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056960" y="2214720"/>
              <a:ext cx="3006000" cy="5892480"/>
              <a:chOff x="1056960" y="2214720"/>
              <a:chExt cx="3006000" cy="5892480"/>
            </a:xfrm>
          </p:grpSpPr>
          <p:sp>
            <p:nvSpPr>
              <p:cNvPr id="56" name=""/>
              <p:cNvSpPr/>
              <p:nvPr/>
            </p:nvSpPr>
            <p:spPr>
              <a:xfrm>
                <a:off x="1155600" y="2214720"/>
                <a:ext cx="2295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alud Reproductiva y de la Muj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450960" y="2214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63160" y="2565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427400" y="2565000"/>
                <a:ext cx="18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Estados Unidos Mexicano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19200" y="2565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252080" y="27396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428120" y="2739600"/>
                <a:ext cx="1235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Entidad federati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666520" y="27396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061280" y="3377880"/>
                <a:ext cx="1923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tención a la Salud del Niñ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993760" y="3377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27400" y="3728880"/>
                <a:ext cx="1844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Estados Unidos Mexican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276360" y="372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28120" y="3904920"/>
                <a:ext cx="1235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Entidad federati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66520" y="3904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63160" y="4079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056960" y="4543200"/>
                <a:ext cx="3006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tención a la Salud del Adulto y del</a:t>
                </a: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</a:rPr>
                  <a:t> Ancia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163160" y="47178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18760" y="489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27400" y="4890600"/>
                <a:ext cx="1844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Estados Unidos Mexican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33160" y="541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88760" y="5594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428120" y="5067000"/>
                <a:ext cx="1235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Entidad federati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33160" y="5945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688760" y="6119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065960" y="5663880"/>
                <a:ext cx="860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Salud Bucal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63160" y="5837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418760" y="601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181880" y="6027480"/>
                <a:ext cx="210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Estados Unidos Mexican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63160" y="6538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418760" y="6713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424880" y="6219360"/>
                <a:ext cx="1235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Entidad federati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877760" y="6219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86120" y="6686280"/>
                <a:ext cx="1095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Micobacteriosi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87360" y="6686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175400" y="7040160"/>
                <a:ext cx="210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Estados Unidos Mexican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92200" y="70401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76120" y="7216560"/>
                <a:ext cx="149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Entidad federati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679480" y="7216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90440" y="7570440"/>
                <a:ext cx="1600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Atención de Acciden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4680" y="7570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175400" y="7924320"/>
                <a:ext cx="210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Estados Unidos Mexican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292200" y="7924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451840" y="1585800"/>
              <a:ext cx="502200" cy="6521760"/>
              <a:chOff x="5451840" y="1585800"/>
              <a:chExt cx="502200" cy="6521760"/>
            </a:xfrm>
          </p:grpSpPr>
          <p:sp>
            <p:nvSpPr>
              <p:cNvPr id="99" name=""/>
              <p:cNvSpPr/>
              <p:nvPr/>
            </p:nvSpPr>
            <p:spPr>
              <a:xfrm>
                <a:off x="5451840" y="1585800"/>
                <a:ext cx="50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á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gi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54440" y="2263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739480" y="2214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25880" y="2214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644440" y="256536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16160" y="2565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643720" y="273996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816160" y="2739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643720" y="337824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6160" y="337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643720" y="3728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816160" y="372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643720" y="39052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8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16160" y="3905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74960" y="453384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15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574960" y="491508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15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574960" y="506736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1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74960" y="566424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18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598720" y="604512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1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596920" y="621972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19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856120" y="62197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596920" y="668664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2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856120" y="6686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596920" y="704052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22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856120" y="7040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96920" y="721692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22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56120" y="7216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596920" y="757080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26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56120" y="75708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96920" y="792468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2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855760" y="7961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647280" y="1854360"/>
              <a:ext cx="434160" cy="6252840"/>
              <a:chOff x="647280" y="1854360"/>
              <a:chExt cx="434160" cy="6252840"/>
            </a:xfrm>
          </p:grpSpPr>
          <p:sp>
            <p:nvSpPr>
              <p:cNvPr id="131" name=""/>
              <p:cNvSpPr/>
              <p:nvPr/>
            </p:nvSpPr>
            <p:spPr>
              <a:xfrm>
                <a:off x="660240" y="185436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aramond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60240" y="203976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aramond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0600" y="221436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I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88760" y="2214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0240" y="2388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020600" y="2916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60240" y="30906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0600" y="337788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</a:rPr>
                  <a:t>II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66080" y="331920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60240" y="355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0240" y="372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60240" y="3904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60240" y="4079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60240" y="4254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6080" y="448272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020600" y="506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929880" y="5243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929880" y="5770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60240" y="6295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020600" y="6470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66080" y="560340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60240" y="6187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60240" y="6362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7640" y="456696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</a:rPr>
                  <a:t>III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47280" y="5663880"/>
                <a:ext cx="18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</a:rPr>
                  <a:t>IV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6080" y="63957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83360" y="662580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76080" y="6864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6080" y="70401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6080" y="7216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37880" y="7394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76080" y="7570440"/>
                <a:ext cx="18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I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03160" y="7570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76080" y="7748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76080" y="7924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7280" y="6717960"/>
                <a:ext cx="145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Arial"/>
                  </a:rPr>
                  <a:t>V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2720" y="19080"/>
            <a:ext cx="5612040" cy="82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12720" y="533520"/>
            <a:ext cx="5612040" cy="79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14400" y="3581280"/>
            <a:ext cx="5207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UD REPRODUCTIVA Y DE LA MUJ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56-09-03T13:50:10Z</dcterms:created>
  <dc:creator>SECRETARIA DE SALUD</dc:creator>
  <dc:description/>
  <dc:language>en-US</dc:language>
  <cp:lastModifiedBy>Alberto de la Rosa Rábago</cp:lastModifiedBy>
  <cp:lastPrinted>2002-10-23T16:00:38Z</cp:lastPrinted>
  <dcterms:modified xsi:type="dcterms:W3CDTF">2004-04-07T15:36:02Z</dcterms:modified>
  <cp:revision>39</cp:revision>
  <dc:subject/>
  <dc:title>PORTADAS BOL. SECT. 98</dc:title>
</cp:coreProperties>
</file>