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276720" y="2438280"/>
            <a:ext cx="2971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2120" y="762120"/>
            <a:ext cx="2666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622840" y="865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57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572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86868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5867280" cy="81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257560"/>
            <a:ext cx="251460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INDIC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Consulta a Niño Sa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 por  ni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nor  de  1  a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  1  a  4 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úmero promedio de consul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nor  de  1  a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  1  a  4  año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Nutr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consultas  con desnutr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revalencia de desnutrición moderada y gr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or mil consul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Enfermedad Diarre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de casos con deshidrat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obres por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Infecciones Respiratorias Agu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%  de casos de neumon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8880" y="2228760"/>
            <a:ext cx="38671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ÓRMU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 de 1a. vez a niño &lt; de 1 año más subsecuente de &lt; de 1 año / Total de cons. de 1a vez más el total de subsecuente de consulta a niño sa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 de 1a. vez a niño de 1 a 4 años más subsecuente de 1a 4 años / Total de cons. de 1ra vez más el total de subsecuente de consulta a niño sa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de &lt; de 1 año de 1ra vez más consultas de &lt; de 1 año de subsecuente /Cons de &lt; de 1 año de 1ra vez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ultas de 1 a 4 años de 1a. vez más consultas de 1a 4  años de subsecuente /Cons. de 1 a 4 años de 1a. vez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.en niños &lt;de 5 años con desnut./Total de cons.en niños &lt;5 años por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s.en niños &lt;de 5 años con desnut. Moderada más cons.en niños &lt; 5 a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 desnutrición severa/Total de cons. en niños &lt; 5 años por 1,00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nores deshidratados/Niños atendidos de enfermedad diarreica  por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obres de hidratación oral repartidos/Niños atendidos de enf.diarreica por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sos de neumonía/Niños atendidos de IRAS  por 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90720"/>
            <a:ext cx="5867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FORMULAS UTILIZADAS PARA LA CONSTRUCCIÓN DE INDIC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TENCIÓN  A  LA  SALUD  DEL  NI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80128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3352680"/>
            <a:ext cx="5184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NCIÓN  A  LA  SALUD  DEL ADU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 DEL  ANC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41560" y="722304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17880" y="7391520"/>
            <a:ext cx="3673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533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Detecciones de diabetes mellitus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 Sistema Nacional de Salud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43000" y="1066680"/>
          <a:ext cx="48769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48769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305440" y="3898800"/>
            <a:ext cx="23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etecciones de hipertensión arteria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 Sistema Nacional de Salu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90720" y="4495680"/>
          <a:ext cx="495288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495680"/>
                    <a:ext cx="4952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770840" y="7924680"/>
            <a:ext cx="31874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/ Otras  incluye: Universitarios, PEMEX, SDN, SM, STC (Metro) y Estatal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MSS no proporcionó informació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uente: Capítulo III. Atención a la salud del adulto y del ancian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80128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Alberto de la Rosa Rábago</cp:lastModifiedBy>
  <cp:lastPrinted>2003-01-15T21:13:44Z</cp:lastPrinted>
  <dcterms:modified xsi:type="dcterms:W3CDTF">2004-03-05T18:00:12Z</dcterms:modified>
  <cp:revision>26</cp:revision>
  <dc:subject/>
  <dc:title>PORTADAS BOL. SECT. 98</dc:title>
</cp:coreProperties>
</file>