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0880" y="228600"/>
            <a:ext cx="6096240" cy="8610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276720" y="2438280"/>
            <a:ext cx="2971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2120" y="762120"/>
            <a:ext cx="2666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622840" y="865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572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86868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5867280" cy="81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641680"/>
            <a:ext cx="260964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INDIC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abetes  Melli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etecciones por  1,000 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Hipertensión  Ar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sos en control  por 1,000 habi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roporción de ingresos a control / casos en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roporción de casos nuevos / casos en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666880"/>
            <a:ext cx="329544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FÓRMU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ecciones / Población* por  1,00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os en control / Población*  por  1,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resos a control / Casos en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os nuevos / caso en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0666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FÓRMULAS UTILIZADAS PARA LA CONSTRUCCIÓN DE INDIC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TENCIÓN  A  LA  SALUD  DEL  ADULTO Y  DEL  ANCI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5680" y="5894280"/>
            <a:ext cx="613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ota. Para el cálculo de indicadores nacional, de población derechohabiente y población no derechohabiente se tomó como bas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la muestra censal de 2000 y las estimaciones de población de CONAP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n el caso de los indicadores por institución se consideró a la población leg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80128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41560" y="722304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17880" y="7391520"/>
            <a:ext cx="3673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809880"/>
            <a:ext cx="28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UD BU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Alberto de la Rosa Rábago</cp:lastModifiedBy>
  <cp:lastPrinted>2003-01-15T21:13:44Z</cp:lastPrinted>
  <dcterms:modified xsi:type="dcterms:W3CDTF">2004-04-06T19:10:43Z</dcterms:modified>
  <cp:revision>27</cp:revision>
  <dc:subject/>
  <dc:title>PORTADAS BOL. SECT. 98</dc:title>
</cp:coreProperties>
</file>