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13D-3DFE-4E1D-A4FA-4C482433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6DF-C554-4246-A91C-25348560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700-224C-4A84-957B-521EC441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20E-5D9D-406C-AB42-66730BC5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CC7-CFDA-4E5E-A69A-5686B398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50F2-1458-45DB-BEDB-906A22F5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D22-8350-4B49-84FA-1CA62C28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093-FE44-4B03-8683-C8142A00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2B7-3024-4254-BDD2-2E47B1DD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933-4082-4306-B01D-B574A5CF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0B1-5DA0-48D6-9BAC-2032C125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93F-F6D3-4A2A-85DF-80EB8540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BF79-0F5D-4CBA-A738-41F9D9C92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371600"/>
            <a:ext cx="5410080" cy="71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ETÍ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ORMA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D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AS SUSTA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ÚME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UM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III                                 AÑO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64960" y="1087560"/>
            <a:ext cx="273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25760" y="1812960"/>
            <a:ext cx="181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34400" y="1989000"/>
            <a:ext cx="179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JULIO FRENK M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0720" y="2163600"/>
            <a:ext cx="99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CRE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0680" y="2924280"/>
            <a:ext cx="201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97880" y="30988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31560" y="3624120"/>
            <a:ext cx="159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SANTIAGO  LE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2440" y="3798720"/>
            <a:ext cx="156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47600" y="2924280"/>
            <a:ext cx="21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DE SEGURIDAD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95760" y="3098880"/>
            <a:ext cx="226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RVICIOS SOCIALES DE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78120" y="3273480"/>
            <a:ext cx="229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RABAJADORES DEL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46360" y="3624120"/>
            <a:ext cx="256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BENJAMÍN GONZÁLEZ RO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41720" y="3798720"/>
            <a:ext cx="156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9640" y="4151160"/>
            <a:ext cx="208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NACIONAL PAR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82600" y="41511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95480" y="4324320"/>
            <a:ext cx="188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SARROLLO INTEG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80320" y="4500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LA FAM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1760" y="4851360"/>
            <a:ext cx="25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. ANA TERESA ARANDA OROZ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2760" y="5025960"/>
            <a:ext cx="167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A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82040" y="4151160"/>
            <a:ext cx="149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9560" y="4324320"/>
            <a:ext cx="157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FENSA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22920" y="4851360"/>
            <a:ext cx="185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RAL. DE BRIGADA M. 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8400" y="5025960"/>
            <a:ext cx="29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RBERTO MANUEL HEREDIA JAR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6680" y="5200560"/>
            <a:ext cx="182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7960" y="5376960"/>
            <a:ext cx="132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ANIDAD MILI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46520" y="5729400"/>
            <a:ext cx="198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RECCIÓN  GENERAL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86360" y="5902200"/>
            <a:ext cx="130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NIDAD  N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21680" y="6427800"/>
            <a:ext cx="20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TRALMIRANTE S.N.M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9200" y="6603840"/>
            <a:ext cx="247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RLOS ENRÍQUE GÓMEZ LL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16040" y="6778800"/>
            <a:ext cx="84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Y  TAVIZ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71200" y="6953400"/>
            <a:ext cx="233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 ADJU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8880" y="7129440"/>
            <a:ext cx="147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SANIDAD N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54880" y="572940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NACIONAL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20960" y="5902200"/>
            <a:ext cx="221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DÍSTICA, GEOGRAFÍA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94440" y="6076800"/>
            <a:ext cx="10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01800" y="6427800"/>
            <a:ext cx="255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T. JAVIER GUTIÉRREZ GUZMÁ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4280" y="6603840"/>
            <a:ext cx="182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GENERAL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5040" y="6778800"/>
            <a:ext cx="100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DÍS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58080" y="7655040"/>
            <a:ext cx="195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ETRÓLEOS  MEXIC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84240" y="8005680"/>
            <a:ext cx="309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JOSÉ LUIS DESCHAMPS CONTRE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80040" y="8180280"/>
            <a:ext cx="186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IDAD DE PLANE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4920" y="8356680"/>
            <a:ext cx="232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RMATIVIDAD E INNO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92040" y="777960"/>
            <a:ext cx="247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 NACIONAL  DE 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06360" y="1127160"/>
            <a:ext cx="444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RUPO INTERINSTITUCIONAL DE INFORMACIÓN EN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25760" y="1655640"/>
            <a:ext cx="181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SAL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28040" y="2004840"/>
            <a:ext cx="24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RAFAEL LOZANO ASCEN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44400" y="2181240"/>
            <a:ext cx="197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ORDINADOR 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666880"/>
            <a:ext cx="170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RAUL WONG L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88400" y="2881440"/>
            <a:ext cx="172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CRETARIO TÉ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65440" y="3583080"/>
            <a:ext cx="333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 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2520" y="3757680"/>
            <a:ext cx="254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ÉGIMEN DE SEGURIDAD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0440" y="4108320"/>
            <a:ext cx="254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A. SONIA FERNÁNDEZ CANT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74960" y="4282920"/>
            <a:ext cx="291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 LA DIVISIÓN D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0000" y="4459320"/>
            <a:ext cx="182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DICA Y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65440" y="5159520"/>
            <a:ext cx="333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MEXICANO DEL SEGURO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99760" y="5335560"/>
            <a:ext cx="206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ÉGIMEN DE SOLIDA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76640" y="5686560"/>
            <a:ext cx="229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MARIO MUNGUÍA RAMÍ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8440" y="5861160"/>
            <a:ext cx="213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ITULAR DE LA DIVISIÓN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5480" y="6035760"/>
            <a:ext cx="21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LANEACIÓN Y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04800" y="6737400"/>
            <a:ext cx="385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DE SEGURIDAD Y SERVICIOS SO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77840" y="6912000"/>
            <a:ext cx="290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LOS TRABAJADORES DEL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7120" y="7262640"/>
            <a:ext cx="219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C. HILDA MORALES M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4200" y="7439040"/>
            <a:ext cx="1757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 SERVICIOS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0480" y="7613640"/>
            <a:ext cx="224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ADÍSTICA  INSTITU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80120" y="762120"/>
            <a:ext cx="195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ETRÓLEOS  MEXIC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61520" y="1111320"/>
            <a:ext cx="258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DELFINO GARCÍA HERNÁND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7800" y="1287360"/>
            <a:ext cx="253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ORDINADOR  DE  PROGRA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4000" y="1461960"/>
            <a:ext cx="178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DICO PREVEN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0520" y="2163600"/>
            <a:ext cx="310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DE LA DEFENSA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5200" y="2514600"/>
            <a:ext cx="328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YOR M. C. ARIADNA MA. POZOS VICA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20560" y="2689200"/>
            <a:ext cx="410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A DE LA SECCIÓN DE PLANEACIÓN Y SUPER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64280" y="3389400"/>
            <a:ext cx="198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ÍA  DE  MA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8120" y="3740040"/>
            <a:ext cx="2995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IENTE DE CORBETA S N. M C. M S 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6040" y="3916440"/>
            <a:ext cx="315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A. ASUNCIÓN E. CERVANTES SALG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8680" y="4091040"/>
            <a:ext cx="374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BDIRECTORA DE MEDICINA PREVENTIVA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78200" y="4265640"/>
            <a:ext cx="31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CIÓN GENERAL DE SANIDAD N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6120" y="4967280"/>
            <a:ext cx="204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STEMA NACIONAL PA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78040" y="49672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32920" y="5141880"/>
            <a:ext cx="304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SARROLLO INTEGRAL DE LA FAM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5492880"/>
            <a:ext cx="25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R. VÍCTOR E. BÁEZ VÁZQ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39040" y="5715000"/>
            <a:ext cx="458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EFE DEL DEPARTAMENTO DE EVALUACIÓN PROGRA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3080" y="6369120"/>
            <a:ext cx="300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TITUTO NACIONAL DE ESTADÍSTIC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68880" y="6545160"/>
            <a:ext cx="217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EOGRAFÍA E INFOR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90960" y="6894360"/>
            <a:ext cx="273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T. ANTONIO ESCOBEDO AGUI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57720" y="7070760"/>
            <a:ext cx="21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RECTOR DE ESTADÍS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59880" y="7245360"/>
            <a:ext cx="219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MOGRÁFICAS Y SO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457200"/>
            <a:ext cx="289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86868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438280"/>
            <a:ext cx="556236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ORDINADORE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r. Rafael Lozano Ascen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c. Raúl Wong L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ORDINACIÓN DE 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c. María Victoria Castro Borb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POYO TÉC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eatriz E. Escobedo de la Peñ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bia G. Cid Sánch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a. Del Pilar Fragoso M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her Silva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V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raciela Benítez Gran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icia García Cornej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5040" y="5506920"/>
            <a:ext cx="2090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SECRETARÍA DE SALUD, 2002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1160" y="5813280"/>
            <a:ext cx="421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Dirección General de Información y Evaluación del Desempeñ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9400" y="5973840"/>
            <a:ext cx="3493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v. Paseo de la Reforma No. 450-11o. piso, Col. Juáre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8280" y="6135840"/>
            <a:ext cx="82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México, D. F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3320" y="6616800"/>
            <a:ext cx="526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La  Secretaría de Salud pone a disposición de los usuarios la información en el WE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5160" y="6778800"/>
            <a:ext cx="166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ttp://www.salud.gob.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2560" y="7162920"/>
            <a:ext cx="368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Boletín de Información Estadística No. 20  Vol. III,  2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2280" y="7321680"/>
            <a:ext cx="241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SBN 970-721-048-6 (Obra complet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160" y="7483320"/>
            <a:ext cx="20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SBN 970-721-051-6 (Volume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9760" y="7748640"/>
            <a:ext cx="5569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e autoriza la reproducción parcial o total de la información contenida en esta public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" y="7908840"/>
            <a:ext cx="220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iempre y cuando se cite  la fuen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7:35:03Z</dcterms:created>
  <dc:creator>Dirección de Estadística</dc:creator>
  <dc:description/>
  <dc:language>en-US</dc:language>
  <cp:lastModifiedBy>Dirección de Estadística</cp:lastModifiedBy>
  <cp:lastPrinted>2002-11-27T20:41:00Z</cp:lastPrinted>
  <dcterms:modified xsi:type="dcterms:W3CDTF">2004-04-29T16:09:55Z</dcterms:modified>
  <cp:revision>12</cp:revision>
  <dc:subject/>
  <dc:title>Sin título de diapositiva</dc:title>
</cp:coreProperties>
</file>