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18313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20" y="792000"/>
            <a:ext cx="911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87280" y="163440"/>
            <a:ext cx="86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gresos y defunciones hospitalarias, análisis sectorial, 2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457200" y="1143000"/>
          <a:ext cx="84200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420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1332000" y="2995560"/>
            <a:ext cx="669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40360" y="2781360"/>
            <a:ext cx="101916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263,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  5.7 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3120" y="330192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98560" y="32846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6560" y="330192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0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8024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1840" y="33051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09480" y="330192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2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520" y="184464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184464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7280" y="206064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000" y="206064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6560" y="206064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24000" y="206064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13920" y="907920"/>
            <a:ext cx="1310760" cy="515160"/>
            <a:chOff x="313920" y="907920"/>
            <a:chExt cx="1310760" cy="515160"/>
          </a:xfrm>
        </p:grpSpPr>
        <p:sp>
          <p:nvSpPr>
            <p:cNvPr id="55" name=""/>
            <p:cNvSpPr/>
            <p:nvPr/>
          </p:nvSpPr>
          <p:spPr>
            <a:xfrm>
              <a:off x="395280" y="912600"/>
              <a:ext cx="115092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3920" y="907920"/>
              <a:ext cx="131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gres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94200" y="3301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77240" y="3301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7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3680" y="3875040"/>
          <a:ext cx="84200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680" y="3875040"/>
                    <a:ext cx="8420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338120" y="5727600"/>
            <a:ext cx="669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6480" y="5513400"/>
            <a:ext cx="101916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9,644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8.0 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8720" y="611028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04680" y="609300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26560" y="611028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2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72240" y="609300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09480" y="609300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0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5160" y="484668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3160" y="482616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5320" y="499104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48000" y="499104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39640" y="499104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24000" y="499104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31920" y="3639960"/>
            <a:ext cx="1301760" cy="515160"/>
            <a:chOff x="331920" y="3639960"/>
            <a:chExt cx="1301760" cy="515160"/>
          </a:xfrm>
        </p:grpSpPr>
        <p:sp>
          <p:nvSpPr>
            <p:cNvPr id="75" name=""/>
            <p:cNvSpPr/>
            <p:nvPr/>
          </p:nvSpPr>
          <p:spPr>
            <a:xfrm>
              <a:off x="401400" y="3644640"/>
              <a:ext cx="115056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" y="3639960"/>
              <a:ext cx="1301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Defuncion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840400" y="6093000"/>
            <a:ext cx="701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0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7840" y="609300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3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80240" y="609300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9:21:49Z</dcterms:created>
  <dc:creator>SABRITAS S.A DE C.V.</dc:creator>
  <dc:description/>
  <dc:language>en-US</dc:language>
  <cp:lastModifiedBy>DCASTRO</cp:lastModifiedBy>
  <cp:lastPrinted>2000-04-05T18:51:26Z</cp:lastPrinted>
  <dcterms:modified xsi:type="dcterms:W3CDTF">2009-05-19T23:09:52Z</dcterms:modified>
  <cp:revision>85</cp:revision>
  <dc:subject/>
  <dc:title>Sin título de diapositiva</dc:title>
</cp:coreProperties>
</file>