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20" y="792000"/>
            <a:ext cx="911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71280" y="16344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gresos y defunciones hospitalarias, análisis sectorial, 20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461880" y="1143000"/>
          <a:ext cx="84376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143000"/>
                    <a:ext cx="84376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1332000" y="2995560"/>
            <a:ext cx="669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40360" y="2781360"/>
            <a:ext cx="101916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118,8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2.6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3120" y="32846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98560" y="32846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9840" y="3301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6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7844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07080" y="33051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0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3076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5240" y="33051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21000" y="3301920"/>
            <a:ext cx="615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0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15680" y="249228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4440" y="249228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8560" y="249228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000" y="249228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4320" y="249228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5440" y="249228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22920" y="3562200"/>
            <a:ext cx="1301760" cy="515160"/>
            <a:chOff x="322920" y="3562200"/>
            <a:chExt cx="1301760" cy="515160"/>
          </a:xfrm>
        </p:grpSpPr>
        <p:sp>
          <p:nvSpPr>
            <p:cNvPr id="57" name=""/>
            <p:cNvSpPr/>
            <p:nvPr/>
          </p:nvSpPr>
          <p:spPr>
            <a:xfrm>
              <a:off x="399960" y="3566880"/>
              <a:ext cx="115092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2920" y="3562200"/>
              <a:ext cx="1301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Defuncion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" name=""/>
          <p:cNvGraphicFramePr/>
          <p:nvPr/>
        </p:nvGraphicFramePr>
        <p:xfrm>
          <a:off x="468360" y="3789360"/>
          <a:ext cx="840888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789360"/>
                    <a:ext cx="8408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332000" y="5662440"/>
            <a:ext cx="669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68800" y="5446800"/>
            <a:ext cx="90792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 1,7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  1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8720" y="59324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98560" y="59324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2200" y="596592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2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1440" y="59529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81600" y="59529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0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5965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0560" y="59529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5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75640" y="596592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3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95160" y="491976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491976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8280" y="491976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9920" y="491976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99680" y="491976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25440" y="491976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13920" y="907920"/>
            <a:ext cx="1310760" cy="515160"/>
            <a:chOff x="313920" y="907920"/>
            <a:chExt cx="1310760" cy="515160"/>
          </a:xfrm>
        </p:grpSpPr>
        <p:sp>
          <p:nvSpPr>
            <p:cNvPr id="78" name=""/>
            <p:cNvSpPr/>
            <p:nvPr/>
          </p:nvSpPr>
          <p:spPr>
            <a:xfrm>
              <a:off x="395280" y="912600"/>
              <a:ext cx="115092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3920" y="907920"/>
              <a:ext cx="131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gres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9:21:49Z</dcterms:created>
  <dc:creator>SABRITAS S.A DE C.V.</dc:creator>
  <dc:description/>
  <dc:language>en-US</dc:language>
  <cp:lastModifiedBy>DANIEL CASTRO</cp:lastModifiedBy>
  <cp:lastPrinted>2000-04-05T18:51:26Z</cp:lastPrinted>
  <dcterms:modified xsi:type="dcterms:W3CDTF">2007-11-07T18:59:45Z</dcterms:modified>
  <cp:revision>82</cp:revision>
  <dc:subject/>
  <dc:title>Sin título de diapositiva</dc:title>
</cp:coreProperties>
</file>