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964613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8200" y="273600"/>
            <a:ext cx="806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8200" y="1604520"/>
            <a:ext cx="806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8200" y="3682080"/>
            <a:ext cx="806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8200" y="273600"/>
            <a:ext cx="806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8200" y="1604520"/>
            <a:ext cx="3936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82080" y="1604520"/>
            <a:ext cx="3936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48200" y="3682080"/>
            <a:ext cx="3936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582080" y="3682080"/>
            <a:ext cx="3936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8200" y="273600"/>
            <a:ext cx="806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8200" y="1604520"/>
            <a:ext cx="2597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75920" y="1604520"/>
            <a:ext cx="2597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03640" y="1604520"/>
            <a:ext cx="2597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8200" y="3682080"/>
            <a:ext cx="2597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175920" y="3682080"/>
            <a:ext cx="2597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903640" y="3682080"/>
            <a:ext cx="2597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8200" y="273600"/>
            <a:ext cx="806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48200" y="1604520"/>
            <a:ext cx="806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48200" y="273600"/>
            <a:ext cx="806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48200" y="1604520"/>
            <a:ext cx="806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8200" y="273600"/>
            <a:ext cx="806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48200" y="1604520"/>
            <a:ext cx="39366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582080" y="1604520"/>
            <a:ext cx="39366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8200" y="273600"/>
            <a:ext cx="806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48200" y="273600"/>
            <a:ext cx="8067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8200" y="273600"/>
            <a:ext cx="806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8200" y="1604520"/>
            <a:ext cx="3936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2080" y="1604520"/>
            <a:ext cx="39366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48200" y="3682080"/>
            <a:ext cx="3936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8200" y="273600"/>
            <a:ext cx="806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8200" y="1604520"/>
            <a:ext cx="39366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82080" y="1604520"/>
            <a:ext cx="3936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2080" y="3682080"/>
            <a:ext cx="3936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8200" y="273600"/>
            <a:ext cx="806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8200" y="1604520"/>
            <a:ext cx="3936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82080" y="1604520"/>
            <a:ext cx="3936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8200" y="3682080"/>
            <a:ext cx="806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0520" y="792000"/>
            <a:ext cx="893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69840" y="163440"/>
            <a:ext cx="878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gresos y defunciones hospitalarias, análisis sectorial, 200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" name=""/>
          <p:cNvGraphicFramePr/>
          <p:nvPr/>
        </p:nvGraphicFramePr>
        <p:xfrm>
          <a:off x="369720" y="1143000"/>
          <a:ext cx="84376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1143000"/>
                    <a:ext cx="84376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" name=""/>
          <p:cNvSpPr/>
          <p:nvPr/>
        </p:nvSpPr>
        <p:spPr>
          <a:xfrm>
            <a:off x="1306440" y="2995560"/>
            <a:ext cx="6564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059360" y="2781360"/>
            <a:ext cx="890640" cy="43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55680"/>
                <a:tab algn="l" pos="7113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 209 2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55680"/>
                <a:tab algn="l" pos="7113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 4.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8720" y="328464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39800" y="328464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65000" y="3301920"/>
            <a:ext cx="704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1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80160" y="330516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3.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0920" y="330516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0.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27520" y="330516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.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10560" y="330516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0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51240" y="3301920"/>
            <a:ext cx="666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-12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74280" y="2565360"/>
            <a:ext cx="964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cretarí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21080" y="2492280"/>
            <a:ext cx="1266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57040" y="2492280"/>
            <a:ext cx="725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SS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05080" y="2492280"/>
            <a:ext cx="731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21920" y="2492280"/>
            <a:ext cx="71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EM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7680" y="2492280"/>
            <a:ext cx="554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03840" y="3562200"/>
            <a:ext cx="1301760" cy="515160"/>
            <a:chOff x="303840" y="3562200"/>
            <a:chExt cx="1301760" cy="515160"/>
          </a:xfrm>
        </p:grpSpPr>
        <p:sp>
          <p:nvSpPr>
            <p:cNvPr id="57" name=""/>
            <p:cNvSpPr/>
            <p:nvPr/>
          </p:nvSpPr>
          <p:spPr>
            <a:xfrm>
              <a:off x="391680" y="3566880"/>
              <a:ext cx="1128600" cy="50004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3840" y="3562200"/>
              <a:ext cx="1301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Defuncion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Hospitalar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" name=""/>
          <p:cNvGraphicFramePr/>
          <p:nvPr/>
        </p:nvGraphicFramePr>
        <p:xfrm>
          <a:off x="458640" y="3789360"/>
          <a:ext cx="8244000" cy="22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8640" y="3789360"/>
                    <a:ext cx="824400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306440" y="5662440"/>
            <a:ext cx="6564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86360" y="5446800"/>
            <a:ext cx="890280" cy="43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55680"/>
                <a:tab algn="l" pos="7113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 8 5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55680"/>
                <a:tab algn="l" pos="7113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 7.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4680" y="593244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39800" y="593244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27280" y="5965920"/>
            <a:ext cx="61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9.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53880" y="5952960"/>
            <a:ext cx="615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5.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37320" y="595296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87840" y="596592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0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92480" y="5952960"/>
            <a:ext cx="666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-10.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40280" y="5965920"/>
            <a:ext cx="704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76.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53760" y="4919760"/>
            <a:ext cx="964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cretarí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63920" y="4919760"/>
            <a:ext cx="1266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23640" y="4919760"/>
            <a:ext cx="725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SS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65560" y="4919760"/>
            <a:ext cx="731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87080" y="4919760"/>
            <a:ext cx="71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EM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47680" y="4919760"/>
            <a:ext cx="554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94840" y="907920"/>
            <a:ext cx="1310760" cy="515160"/>
            <a:chOff x="294840" y="907920"/>
            <a:chExt cx="1310760" cy="515160"/>
          </a:xfrm>
        </p:grpSpPr>
        <p:sp>
          <p:nvSpPr>
            <p:cNvPr id="78" name=""/>
            <p:cNvSpPr/>
            <p:nvPr/>
          </p:nvSpPr>
          <p:spPr>
            <a:xfrm>
              <a:off x="387000" y="912600"/>
              <a:ext cx="1128960" cy="50004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4840" y="907920"/>
              <a:ext cx="1310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Egres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Hospitala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46240" y="6308640"/>
            <a:ext cx="847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Nota; Este análisis no contempla la información de SEDENA,  debido a que en el 2005, no se contó con la información relacionada con los egresos hospitalarios de esta                                 institu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9:21:49Z</dcterms:created>
  <dc:creator>SABRITAS S.A DE C.V.</dc:creator>
  <dc:description/>
  <dc:language>en-US</dc:language>
  <cp:lastModifiedBy>DANIEL CASTRO</cp:lastModifiedBy>
  <cp:lastPrinted>2000-04-05T18:51:26Z</cp:lastPrinted>
  <dcterms:modified xsi:type="dcterms:W3CDTF">2006-08-04T16:15:41Z</dcterms:modified>
  <cp:revision>77</cp:revision>
  <dc:subject/>
  <dc:title>Sin título de diapositiva</dc:title>
</cp:coreProperties>
</file>