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36640" y="3375000"/>
            <a:ext cx="482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ÍNTESIS EJECU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92280" y="3375000"/>
            <a:ext cx="497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   EGRESOS HOSPITALARI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57360" y="3348000"/>
            <a:ext cx="417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 MORTALIDAD HOSPITAL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3375000"/>
            <a:ext cx="35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 GLO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375000"/>
            <a:ext cx="35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 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ALICIA MERCADO</cp:lastModifiedBy>
  <cp:lastPrinted>2004-03-10T21:15:22Z</cp:lastPrinted>
  <dcterms:modified xsi:type="dcterms:W3CDTF">2004-11-18T19:12:03Z</dcterms:modified>
  <cp:revision>45</cp:revision>
  <dc:subject/>
  <dc:title>PORTADAS BOL. SECT. 98</dc:title>
</cp:coreProperties>
</file>