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69483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41360" y="13352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E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54200" y="3419640"/>
            <a:ext cx="54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ETÍN DE INFORMACIÓN 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4140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4920" y="761832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mero 23      Volumen 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11160" y="762300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ELOPEZ</cp:lastModifiedBy>
  <cp:lastPrinted>2002-10-23T15:57:10Z</cp:lastPrinted>
  <dcterms:modified xsi:type="dcterms:W3CDTF">2004-11-17T21:37:12Z</dcterms:modified>
  <cp:revision>34</cp:revision>
  <dc:subject/>
  <dc:title>PORTADAS BOL. SECT. 98</dc:title>
</cp:coreProperties>
</file>