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193760" y="3352680"/>
            <a:ext cx="497844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.   MORBILIDAD HOSPITAL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-152280" y="3505320"/>
            <a:ext cx="685800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. MORTALIDAD HOSPITALARI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3581280"/>
            <a:ext cx="358164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EX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dc:language>en-US</dc:language>
  <cp:lastModifiedBy>Lic. María Victoria Castro Borbonio</cp:lastModifiedBy>
  <cp:lastPrinted>2004-03-10T21:15:22Z</cp:lastPrinted>
  <dcterms:modified xsi:type="dcterms:W3CDTF">2004-07-07T18:32:26Z</dcterms:modified>
  <cp:revision>39</cp:revision>
  <dc:subject/>
  <dc:title>PORTADAS BOL. SECT. 98</dc:title>
</cp:coreProperties>
</file>