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1812960" y="6948360"/>
            <a:ext cx="2970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1341360" y="1335240"/>
            <a:ext cx="423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TEM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IONA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U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754200" y="3419640"/>
            <a:ext cx="541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LETÍN DE INFORMACIÓN ESTADÍST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685800" y="414036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ÑO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L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U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564920" y="7618320"/>
            <a:ext cx="264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Número 22      Volumen  I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11160" y="7623000"/>
            <a:ext cx="1137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ño  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56-09-03T13:50:10Z</dcterms:created>
  <dc:creator>SECRETARIA DE SALUD</dc:creator>
  <dc:description/>
  <dc:language>en-US</dc:language>
  <cp:lastModifiedBy>Lic. María Victoria Castro Borbonio</cp:lastModifiedBy>
  <cp:lastPrinted>2002-10-23T15:57:10Z</cp:lastPrinted>
  <dcterms:modified xsi:type="dcterms:W3CDTF">2004-07-07T18:21:14Z</dcterms:modified>
  <cp:revision>30</cp:revision>
  <dc:subject/>
  <dc:title>PORTADAS BOL. SECT. 98</dc:title>
</cp:coreProperties>
</file>