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image" Target="../media/image1.png"/><Relationship Id="rId20" Type="http://schemas.openxmlformats.org/officeDocument/2006/relationships/image" Target="../media/image2.png"/><Relationship Id="rId21" Type="http://schemas.openxmlformats.org/officeDocument/2006/relationships/image" Target="../media/image3.png"/><Relationship Id="rId22" Type="http://schemas.openxmlformats.org/officeDocument/2006/relationships/image" Target="../media/image4.png"/><Relationship Id="rId23" Type="http://schemas.openxmlformats.org/officeDocument/2006/relationships/image" Target="../media/image5.png"/><Relationship Id="rId24" Type="http://schemas.openxmlformats.org/officeDocument/2006/relationships/image" Target="../media/image6.png"/><Relationship Id="rId25" Type="http://schemas.openxmlformats.org/officeDocument/2006/relationships/image" Target="../media/image1.png"/><Relationship Id="rId26" Type="http://schemas.openxmlformats.org/officeDocument/2006/relationships/image" Target="../media/image2.png"/><Relationship Id="rId27" Type="http://schemas.openxmlformats.org/officeDocument/2006/relationships/image" Target="../media/image3.png"/><Relationship Id="rId28" Type="http://schemas.openxmlformats.org/officeDocument/2006/relationships/image" Target="../media/image4.png"/><Relationship Id="rId29" Type="http://schemas.openxmlformats.org/officeDocument/2006/relationships/image" Target="../media/image5.png"/><Relationship Id="rId30" Type="http://schemas.openxmlformats.org/officeDocument/2006/relationships/image" Target="../media/image6.png"/><Relationship Id="rId31" Type="http://schemas.openxmlformats.org/officeDocument/2006/relationships/image" Target="../media/image2.png"/><Relationship Id="rId32" Type="http://schemas.openxmlformats.org/officeDocument/2006/relationships/image" Target="../media/image5.png"/><Relationship Id="rId3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01280" y="399960"/>
            <a:ext cx="5581800" cy="92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tribución porcentual de la morbilidad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gún grupos de edad e institució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stema Nacional de Salu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00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798480" y="4222800"/>
            <a:ext cx="5432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tribución porcentual de la morbilidad según grupos de eda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 población no derechohabiente y derechohabi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613800" y="4870440"/>
            <a:ext cx="5599800" cy="3331800"/>
            <a:chOff x="613800" y="4870440"/>
            <a:chExt cx="5599800" cy="3331800"/>
          </a:xfrm>
        </p:grpSpPr>
        <p:sp>
          <p:nvSpPr>
            <p:cNvPr id="41" name=""/>
            <p:cNvSpPr/>
            <p:nvPr/>
          </p:nvSpPr>
          <p:spPr>
            <a:xfrm>
              <a:off x="801720" y="7885080"/>
              <a:ext cx="5411880" cy="119160"/>
            </a:xfrm>
            <a:custGeom>
              <a:avLst/>
              <a:gdLst/>
              <a:ahLst/>
              <a:rect l="l" t="t" r="r" b="b"/>
              <a:pathLst>
                <a:path w="3409" h="75">
                  <a:moveTo>
                    <a:pt x="3409" y="0"/>
                  </a:moveTo>
                  <a:lnTo>
                    <a:pt x="3318" y="75"/>
                  </a:lnTo>
                  <a:lnTo>
                    <a:pt x="0" y="75"/>
                  </a:lnTo>
                  <a:lnTo>
                    <a:pt x="91" y="0"/>
                  </a:lnTo>
                  <a:lnTo>
                    <a:pt x="340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01720" y="7885080"/>
              <a:ext cx="5411880" cy="119160"/>
            </a:xfrm>
            <a:custGeom>
              <a:avLst/>
              <a:gdLst/>
              <a:ahLst/>
              <a:rect l="l" t="t" r="r" b="b"/>
              <a:pathLst>
                <a:path w="3409" h="75">
                  <a:moveTo>
                    <a:pt x="0" y="75"/>
                  </a:moveTo>
                  <a:lnTo>
                    <a:pt x="91" y="0"/>
                  </a:lnTo>
                  <a:lnTo>
                    <a:pt x="34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01720" y="7518240"/>
              <a:ext cx="5411880" cy="106560"/>
            </a:xfrm>
            <a:custGeom>
              <a:avLst/>
              <a:gdLst/>
              <a:ahLst/>
              <a:rect l="l" t="t" r="r" b="b"/>
              <a:pathLst>
                <a:path w="3409" h="67">
                  <a:moveTo>
                    <a:pt x="0" y="67"/>
                  </a:moveTo>
                  <a:lnTo>
                    <a:pt x="91" y="0"/>
                  </a:lnTo>
                  <a:lnTo>
                    <a:pt x="34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01720" y="7137360"/>
              <a:ext cx="5411880" cy="108000"/>
            </a:xfrm>
            <a:custGeom>
              <a:avLst/>
              <a:gdLst/>
              <a:ahLst/>
              <a:rect l="l" t="t" r="r" b="b"/>
              <a:pathLst>
                <a:path w="3409" h="68">
                  <a:moveTo>
                    <a:pt x="0" y="68"/>
                  </a:moveTo>
                  <a:lnTo>
                    <a:pt x="91" y="0"/>
                  </a:lnTo>
                  <a:lnTo>
                    <a:pt x="34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01720" y="6757920"/>
              <a:ext cx="5411880" cy="106560"/>
            </a:xfrm>
            <a:custGeom>
              <a:avLst/>
              <a:gdLst/>
              <a:ahLst/>
              <a:rect l="l" t="t" r="r" b="b"/>
              <a:pathLst>
                <a:path w="3409" h="67">
                  <a:moveTo>
                    <a:pt x="0" y="67"/>
                  </a:moveTo>
                  <a:lnTo>
                    <a:pt x="91" y="0"/>
                  </a:lnTo>
                  <a:lnTo>
                    <a:pt x="34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01720" y="6378480"/>
              <a:ext cx="5411880" cy="119160"/>
            </a:xfrm>
            <a:custGeom>
              <a:avLst/>
              <a:gdLst/>
              <a:ahLst/>
              <a:rect l="l" t="t" r="r" b="b"/>
              <a:pathLst>
                <a:path w="3409" h="75">
                  <a:moveTo>
                    <a:pt x="0" y="75"/>
                  </a:moveTo>
                  <a:lnTo>
                    <a:pt x="91" y="0"/>
                  </a:lnTo>
                  <a:lnTo>
                    <a:pt x="34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720" y="6010200"/>
              <a:ext cx="5411880" cy="106560"/>
            </a:xfrm>
            <a:custGeom>
              <a:avLst/>
              <a:gdLst/>
              <a:ahLst/>
              <a:rect l="l" t="t" r="r" b="b"/>
              <a:pathLst>
                <a:path w="3409" h="67">
                  <a:moveTo>
                    <a:pt x="0" y="67"/>
                  </a:moveTo>
                  <a:lnTo>
                    <a:pt x="91" y="0"/>
                  </a:lnTo>
                  <a:lnTo>
                    <a:pt x="34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1720" y="5630760"/>
              <a:ext cx="5411880" cy="106560"/>
            </a:xfrm>
            <a:custGeom>
              <a:avLst/>
              <a:gdLst/>
              <a:ahLst/>
              <a:rect l="l" t="t" r="r" b="b"/>
              <a:pathLst>
                <a:path w="3409" h="67">
                  <a:moveTo>
                    <a:pt x="0" y="67"/>
                  </a:moveTo>
                  <a:lnTo>
                    <a:pt x="91" y="0"/>
                  </a:lnTo>
                  <a:lnTo>
                    <a:pt x="34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01720" y="5249880"/>
              <a:ext cx="5411880" cy="108000"/>
            </a:xfrm>
            <a:custGeom>
              <a:avLst/>
              <a:gdLst/>
              <a:ahLst/>
              <a:rect l="l" t="t" r="r" b="b"/>
              <a:pathLst>
                <a:path w="3409" h="68">
                  <a:moveTo>
                    <a:pt x="0" y="68"/>
                  </a:moveTo>
                  <a:lnTo>
                    <a:pt x="91" y="0"/>
                  </a:lnTo>
                  <a:lnTo>
                    <a:pt x="34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01720" y="4870440"/>
              <a:ext cx="5411880" cy="119160"/>
            </a:xfrm>
            <a:custGeom>
              <a:avLst/>
              <a:gdLst/>
              <a:ahLst/>
              <a:rect l="l" t="t" r="r" b="b"/>
              <a:pathLst>
                <a:path w="3409" h="75">
                  <a:moveTo>
                    <a:pt x="0" y="75"/>
                  </a:moveTo>
                  <a:lnTo>
                    <a:pt x="91" y="0"/>
                  </a:lnTo>
                  <a:lnTo>
                    <a:pt x="34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01720" y="7885080"/>
              <a:ext cx="5411880" cy="119160"/>
            </a:xfrm>
            <a:custGeom>
              <a:avLst/>
              <a:gdLst/>
              <a:ahLst/>
              <a:rect l="l" t="t" r="r" b="b"/>
              <a:pathLst>
                <a:path w="3409" h="75">
                  <a:moveTo>
                    <a:pt x="3409" y="0"/>
                  </a:moveTo>
                  <a:lnTo>
                    <a:pt x="3318" y="75"/>
                  </a:lnTo>
                  <a:lnTo>
                    <a:pt x="0" y="75"/>
                  </a:lnTo>
                  <a:lnTo>
                    <a:pt x="91" y="0"/>
                  </a:lnTo>
                  <a:lnTo>
                    <a:pt x="3409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01720" y="4870440"/>
              <a:ext cx="144360" cy="3133800"/>
            </a:xfrm>
            <a:custGeom>
              <a:avLst/>
              <a:gdLst/>
              <a:ahLst/>
              <a:rect l="l" t="t" r="r" b="b"/>
              <a:pathLst>
                <a:path w="91" h="1974">
                  <a:moveTo>
                    <a:pt x="0" y="1974"/>
                  </a:moveTo>
                  <a:lnTo>
                    <a:pt x="0" y="75"/>
                  </a:lnTo>
                  <a:lnTo>
                    <a:pt x="91" y="0"/>
                  </a:lnTo>
                  <a:lnTo>
                    <a:pt x="91" y="1899"/>
                  </a:lnTo>
                  <a:lnTo>
                    <a:pt x="0" y="197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46080" y="4870440"/>
              <a:ext cx="5267520" cy="3014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1720" y="8004240"/>
              <a:ext cx="5267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1720" y="8004240"/>
              <a:ext cx="144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60480" y="8004240"/>
              <a:ext cx="180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6640" y="8004240"/>
              <a:ext cx="180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3960" y="8004240"/>
              <a:ext cx="144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10120" y="8004240"/>
              <a:ext cx="144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68880" y="8004240"/>
              <a:ext cx="180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75840" y="808020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23720" y="8080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47840" y="8080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74480" y="8080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98600" y="8080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46120" y="8080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69880" y="80802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406240" y="8080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430360" y="8080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308040" y="8080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32160" y="8080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381120" y="8080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04880" y="80802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39800" y="8080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65360" y="8080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0" y="8080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78320" y="8080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27640" y="8080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74800" y="80802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11520" y="8080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0560" y="8080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13320" y="8080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460840" y="8080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08360" y="8080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45080" y="8080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92240" y="8080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16000" y="808020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32000" y="7564320"/>
              <a:ext cx="142920" cy="439920"/>
            </a:xfrm>
            <a:custGeom>
              <a:avLst/>
              <a:gdLst/>
              <a:ahLst/>
              <a:rect l="l" t="t" r="r" b="b"/>
              <a:pathLst>
                <a:path w="90" h="277">
                  <a:moveTo>
                    <a:pt x="90" y="202"/>
                  </a:moveTo>
                  <a:lnTo>
                    <a:pt x="90" y="0"/>
                  </a:lnTo>
                  <a:lnTo>
                    <a:pt x="0" y="68"/>
                  </a:lnTo>
                  <a:lnTo>
                    <a:pt x="0" y="277"/>
                  </a:lnTo>
                  <a:lnTo>
                    <a:pt x="90" y="20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30320" y="7672320"/>
              <a:ext cx="301680" cy="331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30320" y="7564320"/>
              <a:ext cx="444600" cy="108000"/>
            </a:xfrm>
            <a:custGeom>
              <a:avLst/>
              <a:gdLst/>
              <a:ahLst/>
              <a:rect l="l" t="t" r="r" b="b"/>
              <a:pathLst>
                <a:path w="280" h="68">
                  <a:moveTo>
                    <a:pt x="280" y="0"/>
                  </a:moveTo>
                  <a:lnTo>
                    <a:pt x="190" y="68"/>
                  </a:lnTo>
                  <a:lnTo>
                    <a:pt x="0" y="68"/>
                  </a:lnTo>
                  <a:lnTo>
                    <a:pt x="91" y="0"/>
                  </a:lnTo>
                  <a:lnTo>
                    <a:pt x="280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31880" y="7588080"/>
              <a:ext cx="144360" cy="416160"/>
            </a:xfrm>
            <a:custGeom>
              <a:avLst/>
              <a:gdLst/>
              <a:ahLst/>
              <a:rect l="l" t="t" r="r" b="b"/>
              <a:pathLst>
                <a:path w="91" h="262">
                  <a:moveTo>
                    <a:pt x="91" y="187"/>
                  </a:moveTo>
                  <a:lnTo>
                    <a:pt x="91" y="0"/>
                  </a:lnTo>
                  <a:lnTo>
                    <a:pt x="0" y="68"/>
                  </a:lnTo>
                  <a:lnTo>
                    <a:pt x="0" y="262"/>
                  </a:lnTo>
                  <a:lnTo>
                    <a:pt x="91" y="187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32000" y="7696080"/>
              <a:ext cx="299880" cy="3081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32000" y="7588080"/>
              <a:ext cx="444240" cy="108000"/>
            </a:xfrm>
            <a:custGeom>
              <a:avLst/>
              <a:gdLst/>
              <a:ahLst/>
              <a:rect l="l" t="t" r="r" b="b"/>
              <a:pathLst>
                <a:path w="280" h="68">
                  <a:moveTo>
                    <a:pt x="280" y="0"/>
                  </a:moveTo>
                  <a:lnTo>
                    <a:pt x="189" y="68"/>
                  </a:lnTo>
                  <a:lnTo>
                    <a:pt x="0" y="68"/>
                  </a:lnTo>
                  <a:lnTo>
                    <a:pt x="90" y="0"/>
                  </a:lnTo>
                  <a:lnTo>
                    <a:pt x="280" y="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378160" y="7731000"/>
              <a:ext cx="142920" cy="273240"/>
            </a:xfrm>
            <a:custGeom>
              <a:avLst/>
              <a:gdLst/>
              <a:ahLst/>
              <a:rect l="l" t="t" r="r" b="b"/>
              <a:pathLst>
                <a:path w="90" h="172">
                  <a:moveTo>
                    <a:pt x="90" y="97"/>
                  </a:moveTo>
                  <a:lnTo>
                    <a:pt x="90" y="0"/>
                  </a:lnTo>
                  <a:lnTo>
                    <a:pt x="0" y="67"/>
                  </a:lnTo>
                  <a:lnTo>
                    <a:pt x="0" y="172"/>
                  </a:lnTo>
                  <a:lnTo>
                    <a:pt x="90" y="97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76480" y="7837560"/>
              <a:ext cx="301680" cy="1666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76480" y="7731000"/>
              <a:ext cx="444600" cy="106560"/>
            </a:xfrm>
            <a:custGeom>
              <a:avLst/>
              <a:gdLst/>
              <a:ahLst/>
              <a:rect l="l" t="t" r="r" b="b"/>
              <a:pathLst>
                <a:path w="280" h="67">
                  <a:moveTo>
                    <a:pt x="280" y="0"/>
                  </a:moveTo>
                  <a:lnTo>
                    <a:pt x="190" y="67"/>
                  </a:lnTo>
                  <a:lnTo>
                    <a:pt x="0" y="67"/>
                  </a:lnTo>
                  <a:lnTo>
                    <a:pt x="91" y="0"/>
                  </a:lnTo>
                  <a:lnTo>
                    <a:pt x="280" y="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78040" y="7743960"/>
              <a:ext cx="144360" cy="260280"/>
            </a:xfrm>
            <a:custGeom>
              <a:avLst/>
              <a:gdLst/>
              <a:ahLst/>
              <a:rect l="l" t="t" r="r" b="b"/>
              <a:pathLst>
                <a:path w="91" h="164">
                  <a:moveTo>
                    <a:pt x="91" y="89"/>
                  </a:moveTo>
                  <a:lnTo>
                    <a:pt x="91" y="0"/>
                  </a:lnTo>
                  <a:lnTo>
                    <a:pt x="0" y="67"/>
                  </a:lnTo>
                  <a:lnTo>
                    <a:pt x="0" y="164"/>
                  </a:lnTo>
                  <a:lnTo>
                    <a:pt x="91" y="89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78160" y="7850160"/>
              <a:ext cx="299880" cy="15408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78160" y="7743960"/>
              <a:ext cx="444240" cy="106200"/>
            </a:xfrm>
            <a:custGeom>
              <a:avLst/>
              <a:gdLst/>
              <a:ahLst/>
              <a:rect l="l" t="t" r="r" b="b"/>
              <a:pathLst>
                <a:path w="280" h="67">
                  <a:moveTo>
                    <a:pt x="280" y="0"/>
                  </a:moveTo>
                  <a:lnTo>
                    <a:pt x="189" y="67"/>
                  </a:lnTo>
                  <a:lnTo>
                    <a:pt x="0" y="67"/>
                  </a:lnTo>
                  <a:lnTo>
                    <a:pt x="90" y="0"/>
                  </a:lnTo>
                  <a:lnTo>
                    <a:pt x="280" y="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35480" y="7672320"/>
              <a:ext cx="144360" cy="331920"/>
            </a:xfrm>
            <a:custGeom>
              <a:avLst/>
              <a:gdLst/>
              <a:ahLst/>
              <a:rect l="l" t="t" r="r" b="b"/>
              <a:pathLst>
                <a:path w="91" h="209">
                  <a:moveTo>
                    <a:pt x="91" y="134"/>
                  </a:moveTo>
                  <a:lnTo>
                    <a:pt x="91" y="0"/>
                  </a:lnTo>
                  <a:lnTo>
                    <a:pt x="0" y="67"/>
                  </a:lnTo>
                  <a:lnTo>
                    <a:pt x="0" y="209"/>
                  </a:lnTo>
                  <a:lnTo>
                    <a:pt x="91" y="134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35240" y="7778880"/>
              <a:ext cx="300240" cy="2253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135240" y="7672320"/>
              <a:ext cx="444600" cy="106560"/>
            </a:xfrm>
            <a:custGeom>
              <a:avLst/>
              <a:gdLst/>
              <a:ahLst/>
              <a:rect l="l" t="t" r="r" b="b"/>
              <a:pathLst>
                <a:path w="280" h="67">
                  <a:moveTo>
                    <a:pt x="280" y="0"/>
                  </a:moveTo>
                  <a:lnTo>
                    <a:pt x="189" y="67"/>
                  </a:lnTo>
                  <a:lnTo>
                    <a:pt x="0" y="67"/>
                  </a:lnTo>
                  <a:lnTo>
                    <a:pt x="91" y="0"/>
                  </a:lnTo>
                  <a:lnTo>
                    <a:pt x="280" y="0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36800" y="7696080"/>
              <a:ext cx="142920" cy="308160"/>
            </a:xfrm>
            <a:custGeom>
              <a:avLst/>
              <a:gdLst/>
              <a:ahLst/>
              <a:rect l="l" t="t" r="r" b="b"/>
              <a:pathLst>
                <a:path w="90" h="194">
                  <a:moveTo>
                    <a:pt x="90" y="119"/>
                  </a:moveTo>
                  <a:lnTo>
                    <a:pt x="90" y="0"/>
                  </a:lnTo>
                  <a:lnTo>
                    <a:pt x="0" y="67"/>
                  </a:lnTo>
                  <a:lnTo>
                    <a:pt x="0" y="194"/>
                  </a:lnTo>
                  <a:lnTo>
                    <a:pt x="90" y="119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435480" y="7802640"/>
              <a:ext cx="301320" cy="20160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35480" y="7696080"/>
              <a:ext cx="444240" cy="106560"/>
            </a:xfrm>
            <a:custGeom>
              <a:avLst/>
              <a:gdLst/>
              <a:ahLst/>
              <a:rect l="l" t="t" r="r" b="b"/>
              <a:pathLst>
                <a:path w="280" h="67">
                  <a:moveTo>
                    <a:pt x="280" y="0"/>
                  </a:moveTo>
                  <a:lnTo>
                    <a:pt x="190" y="67"/>
                  </a:lnTo>
                  <a:lnTo>
                    <a:pt x="0" y="67"/>
                  </a:lnTo>
                  <a:lnTo>
                    <a:pt x="91" y="0"/>
                  </a:lnTo>
                  <a:lnTo>
                    <a:pt x="280" y="0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94240" y="5072040"/>
              <a:ext cx="144360" cy="2932200"/>
            </a:xfrm>
            <a:custGeom>
              <a:avLst/>
              <a:gdLst/>
              <a:ahLst/>
              <a:rect l="l" t="t" r="r" b="b"/>
              <a:pathLst>
                <a:path w="91" h="1847">
                  <a:moveTo>
                    <a:pt x="91" y="1772"/>
                  </a:moveTo>
                  <a:lnTo>
                    <a:pt x="91" y="0"/>
                  </a:lnTo>
                  <a:lnTo>
                    <a:pt x="0" y="68"/>
                  </a:lnTo>
                  <a:lnTo>
                    <a:pt x="0" y="1847"/>
                  </a:lnTo>
                  <a:lnTo>
                    <a:pt x="91" y="1772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92560" y="5180040"/>
              <a:ext cx="301680" cy="282420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92560" y="5072040"/>
              <a:ext cx="446040" cy="108000"/>
            </a:xfrm>
            <a:custGeom>
              <a:avLst/>
              <a:gdLst/>
              <a:ahLst/>
              <a:rect l="l" t="t" r="r" b="b"/>
              <a:pathLst>
                <a:path w="281" h="68">
                  <a:moveTo>
                    <a:pt x="281" y="0"/>
                  </a:moveTo>
                  <a:lnTo>
                    <a:pt x="190" y="68"/>
                  </a:lnTo>
                  <a:lnTo>
                    <a:pt x="0" y="68"/>
                  </a:lnTo>
                  <a:lnTo>
                    <a:pt x="91" y="0"/>
                  </a:lnTo>
                  <a:lnTo>
                    <a:pt x="281" y="0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94120" y="5381640"/>
              <a:ext cx="144720" cy="2622600"/>
            </a:xfrm>
            <a:custGeom>
              <a:avLst/>
              <a:gdLst/>
              <a:ahLst/>
              <a:rect l="l" t="t" r="r" b="b"/>
              <a:pathLst>
                <a:path w="91" h="1652">
                  <a:moveTo>
                    <a:pt x="91" y="1577"/>
                  </a:moveTo>
                  <a:lnTo>
                    <a:pt x="91" y="0"/>
                  </a:lnTo>
                  <a:lnTo>
                    <a:pt x="0" y="67"/>
                  </a:lnTo>
                  <a:lnTo>
                    <a:pt x="0" y="1652"/>
                  </a:lnTo>
                  <a:lnTo>
                    <a:pt x="91" y="1577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94240" y="5487840"/>
              <a:ext cx="299880" cy="251640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94240" y="5381640"/>
              <a:ext cx="444600" cy="106200"/>
            </a:xfrm>
            <a:custGeom>
              <a:avLst/>
              <a:gdLst/>
              <a:ahLst/>
              <a:rect l="l" t="t" r="r" b="b"/>
              <a:pathLst>
                <a:path w="280" h="67">
                  <a:moveTo>
                    <a:pt x="280" y="0"/>
                  </a:moveTo>
                  <a:lnTo>
                    <a:pt x="189" y="67"/>
                  </a:lnTo>
                  <a:lnTo>
                    <a:pt x="0" y="67"/>
                  </a:lnTo>
                  <a:lnTo>
                    <a:pt x="91" y="0"/>
                  </a:lnTo>
                  <a:lnTo>
                    <a:pt x="280" y="0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40400" y="7635960"/>
              <a:ext cx="144360" cy="368280"/>
            </a:xfrm>
            <a:custGeom>
              <a:avLst/>
              <a:gdLst/>
              <a:ahLst/>
              <a:rect l="l" t="t" r="r" b="b"/>
              <a:pathLst>
                <a:path w="91" h="232">
                  <a:moveTo>
                    <a:pt x="91" y="157"/>
                  </a:moveTo>
                  <a:lnTo>
                    <a:pt x="91" y="0"/>
                  </a:lnTo>
                  <a:lnTo>
                    <a:pt x="0" y="68"/>
                  </a:lnTo>
                  <a:lnTo>
                    <a:pt x="0" y="232"/>
                  </a:lnTo>
                  <a:lnTo>
                    <a:pt x="91" y="157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38720" y="7743960"/>
              <a:ext cx="301680" cy="26028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38720" y="7635960"/>
              <a:ext cx="446040" cy="108000"/>
            </a:xfrm>
            <a:custGeom>
              <a:avLst/>
              <a:gdLst/>
              <a:ahLst/>
              <a:rect l="l" t="t" r="r" b="b"/>
              <a:pathLst>
                <a:path w="281" h="68">
                  <a:moveTo>
                    <a:pt x="281" y="0"/>
                  </a:moveTo>
                  <a:lnTo>
                    <a:pt x="190" y="68"/>
                  </a:lnTo>
                  <a:lnTo>
                    <a:pt x="0" y="68"/>
                  </a:lnTo>
                  <a:lnTo>
                    <a:pt x="91" y="0"/>
                  </a:lnTo>
                  <a:lnTo>
                    <a:pt x="281" y="0"/>
                  </a:lnTo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40280" y="7280280"/>
              <a:ext cx="144720" cy="723960"/>
            </a:xfrm>
            <a:custGeom>
              <a:avLst/>
              <a:gdLst/>
              <a:ahLst/>
              <a:rect l="l" t="t" r="r" b="b"/>
              <a:pathLst>
                <a:path w="91" h="456">
                  <a:moveTo>
                    <a:pt x="91" y="381"/>
                  </a:moveTo>
                  <a:lnTo>
                    <a:pt x="91" y="0"/>
                  </a:lnTo>
                  <a:lnTo>
                    <a:pt x="0" y="67"/>
                  </a:lnTo>
                  <a:lnTo>
                    <a:pt x="0" y="456"/>
                  </a:lnTo>
                  <a:lnTo>
                    <a:pt x="91" y="381"/>
                  </a:lnTo>
                  <a:close/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40400" y="7386480"/>
              <a:ext cx="299880" cy="61776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40400" y="7280280"/>
              <a:ext cx="444600" cy="106200"/>
            </a:xfrm>
            <a:custGeom>
              <a:avLst/>
              <a:gdLst/>
              <a:ahLst/>
              <a:rect l="l" t="t" r="r" b="b"/>
              <a:pathLst>
                <a:path w="280" h="67">
                  <a:moveTo>
                    <a:pt x="280" y="0"/>
                  </a:moveTo>
                  <a:lnTo>
                    <a:pt x="189" y="67"/>
                  </a:lnTo>
                  <a:lnTo>
                    <a:pt x="0" y="67"/>
                  </a:lnTo>
                  <a:lnTo>
                    <a:pt x="91" y="0"/>
                  </a:lnTo>
                  <a:lnTo>
                    <a:pt x="280" y="0"/>
                  </a:ln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801720" y="4989600"/>
              <a:ext cx="1440" cy="301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754200" y="8004240"/>
              <a:ext cx="47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754200" y="7624800"/>
              <a:ext cx="47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54200" y="7245360"/>
              <a:ext cx="47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754200" y="6864480"/>
              <a:ext cx="47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54200" y="6497640"/>
              <a:ext cx="47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754200" y="6116760"/>
              <a:ext cx="47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754200" y="5737320"/>
              <a:ext cx="47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754200" y="5357880"/>
              <a:ext cx="47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754200" y="4989600"/>
              <a:ext cx="47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4280" y="7950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3800" y="7569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4280" y="7569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3800" y="7189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4280" y="7189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3800" y="6810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4280" y="6810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3800" y="6442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4280" y="6442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3800" y="6062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4280" y="6062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3800" y="5683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4280" y="5683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13800" y="5302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74280" y="5302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3800" y="4935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4280" y="4935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01720" y="8004240"/>
              <a:ext cx="5267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01720" y="8004240"/>
              <a:ext cx="144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60480" y="8004240"/>
              <a:ext cx="180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06640" y="8004240"/>
              <a:ext cx="180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63960" y="8004240"/>
              <a:ext cx="144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10120" y="8004240"/>
              <a:ext cx="144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68880" y="8004240"/>
              <a:ext cx="180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75840" y="808020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23720" y="8080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47840" y="8080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74480" y="8080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98600" y="8080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46120" y="8080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69880" y="80802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406240" y="8080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30360" y="8080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08040" y="8080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32160" y="8080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81120" y="8080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04880" y="80802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39800" y="8080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65360" y="8080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24400" y="8080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78320" y="8080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27640" y="8080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80802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520" y="8080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0560" y="8080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13320" y="8080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60840" y="8080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08360" y="8080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45080" y="8080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92240" y="8080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16000" y="808020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16200" y="4971960"/>
              <a:ext cx="60120" cy="60480"/>
            </a:xfrm>
            <a:prstGeom prst="rect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29000" y="4952880"/>
              <a:ext cx="60480" cy="60480"/>
            </a:xfrm>
            <a:prstGeom prst="rect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642960" y="4543560"/>
            <a:ext cx="2318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8520" y="3807000"/>
            <a:ext cx="5407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isten diferencias con la información del Vol. I. Ver la nota en la presentació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371600" y="1676520"/>
            <a:ext cx="4876560" cy="2108160"/>
            <a:chOff x="1371600" y="1676520"/>
            <a:chExt cx="4876560" cy="2108160"/>
          </a:xfrm>
        </p:grpSpPr>
        <p:sp>
          <p:nvSpPr>
            <p:cNvPr id="184" name=""/>
            <p:cNvSpPr/>
            <p:nvPr/>
          </p:nvSpPr>
          <p:spPr>
            <a:xfrm>
              <a:off x="1374480" y="1676520"/>
              <a:ext cx="4383360" cy="2108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27480" y="2235240"/>
              <a:ext cx="412560" cy="15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.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.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.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.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.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.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.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.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25600" y="1838160"/>
              <a:ext cx="1152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titu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74800" y="1716120"/>
              <a:ext cx="6523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or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titu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06520" y="2235240"/>
              <a:ext cx="1455480" cy="15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 o t a 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ob. No Derechohab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en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S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MSS-S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ob. Derechohabien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M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SS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EME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DEN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CMA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759040" y="2235240"/>
              <a:ext cx="492120" cy="15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1.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6.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.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8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6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.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.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46200" y="1690560"/>
              <a:ext cx="2901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rupos de eda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63840" y="2235240"/>
              <a:ext cx="403200" cy="15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.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.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.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.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.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.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.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2693520" y="1676520"/>
              <a:ext cx="3240" cy="210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19200" y="1689120"/>
              <a:ext cx="0" cy="208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46240" y="2235240"/>
              <a:ext cx="352440" cy="15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.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.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.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.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.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27520" y="2235240"/>
              <a:ext cx="419040" cy="15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0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4.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4.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7.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6.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6.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5.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.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4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5.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22880" y="2235240"/>
              <a:ext cx="466560" cy="15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.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.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.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.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.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.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8.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.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.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38280" y="1963800"/>
              <a:ext cx="446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 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38320" y="1963800"/>
              <a:ext cx="4111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 - 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44760" y="1963800"/>
              <a:ext cx="479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 - 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51200" y="1963800"/>
              <a:ext cx="581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 - 6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02000" y="1963800"/>
              <a:ext cx="614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5 y má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11320" y="1909800"/>
              <a:ext cx="0" cy="18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4233240" y="1917720"/>
              <a:ext cx="1800" cy="18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00520" y="1917720"/>
              <a:ext cx="0" cy="18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5198400" y="1909800"/>
              <a:ext cx="1800" cy="18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30360" y="1903320"/>
              <a:ext cx="242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71600" y="2182680"/>
              <a:ext cx="438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882720" y="8286840"/>
            <a:ext cx="52639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rupos   de   Ed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8800" y="487692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oblación No derechohab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487692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oblación  Derechohab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01280" y="399960"/>
            <a:ext cx="5581800" cy="92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rtalidad hospitalaria según grupos de eda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stema Nacional de Salu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4 - 200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79480" y="1433520"/>
            <a:ext cx="51530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funciones hospitalarias según grupos de edad y tipo de institució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994 -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90720" y="5005440"/>
            <a:ext cx="48560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tribución porcentual de las defunciones hospitalari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gún grupos de edad y tipo de institu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994 -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20840" y="5638680"/>
            <a:ext cx="9637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ñ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65200" y="5518080"/>
            <a:ext cx="2892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rupos de eda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3840" y="5527800"/>
            <a:ext cx="3963960" cy="28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01760" y="5918040"/>
            <a:ext cx="3956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63760" y="5538960"/>
            <a:ext cx="0" cy="287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46320" y="5892840"/>
            <a:ext cx="116496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 o t a 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ob. No derechoh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ob. Derechohabien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94 2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95 2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73480" y="5919840"/>
            <a:ext cx="43020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.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7.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7.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8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6.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1.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2.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1.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0.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9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7.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7.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2.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1.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1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1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1.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0.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0.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89360" y="5919840"/>
            <a:ext cx="35388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38640" y="5919840"/>
            <a:ext cx="34452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95840" y="5919840"/>
            <a:ext cx="39528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8.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6.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6.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7.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7.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6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6.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6.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6.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7.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9.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9.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9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9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7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6.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7.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7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6.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4.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80040" y="5919840"/>
            <a:ext cx="39528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7.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8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1.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0.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2.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4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4.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4.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6.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6.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5.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8.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8.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5.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7.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8.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8.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8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0.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2.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86200" y="5902200"/>
            <a:ext cx="33660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703840"/>
            <a:ext cx="28954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82840" y="5719680"/>
            <a:ext cx="4460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 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82880" y="5719680"/>
            <a:ext cx="3762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 - 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89320" y="5719680"/>
            <a:ext cx="4348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 - 1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72080" y="5719680"/>
            <a:ext cx="4348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5 - 6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37200" y="5727600"/>
            <a:ext cx="5540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5 y má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70360" y="5727600"/>
            <a:ext cx="3780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. E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55880" y="5708520"/>
            <a:ext cx="0" cy="269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9600" y="5703840"/>
            <a:ext cx="0" cy="270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45080" y="5710320"/>
            <a:ext cx="0" cy="269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45120" y="5708520"/>
            <a:ext cx="0" cy="27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67120" y="5703840"/>
            <a:ext cx="0" cy="270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12840" y="8424720"/>
            <a:ext cx="4527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/ No disponible por grupos de edad para la Secretaría de Marina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xisten diferencias con la información del Vol. I. Ver la nota en la presentació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127160" y="1797120"/>
            <a:ext cx="4549680" cy="3202200"/>
            <a:chOff x="1127160" y="1797120"/>
            <a:chExt cx="4549680" cy="3202200"/>
          </a:xfrm>
        </p:grpSpPr>
        <p:sp>
          <p:nvSpPr>
            <p:cNvPr id="240" name=""/>
            <p:cNvSpPr/>
            <p:nvPr/>
          </p:nvSpPr>
          <p:spPr>
            <a:xfrm>
              <a:off x="1170000" y="1913040"/>
              <a:ext cx="101268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ñ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27160" y="2190600"/>
              <a:ext cx="1087560" cy="26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 o t a 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ob. No derechohab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ob. Derechohabient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4 2/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5 2/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70200" y="1797120"/>
              <a:ext cx="286704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Grupos de eda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35280" y="2190600"/>
              <a:ext cx="512640" cy="26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6,66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7,76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6,70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8,05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,21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8,12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8,04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,03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1,54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,46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,65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1,68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,94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,94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,62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,22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,24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,40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,53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,18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,1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62240" y="1913040"/>
              <a:ext cx="48744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143080" y="2190600"/>
              <a:ext cx="596880" cy="263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6,36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8,76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6,03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2,42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6,53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8,76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10,63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1,46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5,35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0,40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5,00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9,59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9,47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9,97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4,90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3,40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5,62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7,41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6,94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9,28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0,66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49480" y="1800360"/>
              <a:ext cx="4514760" cy="3020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158840" y="2160720"/>
              <a:ext cx="451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32000" y="1808280"/>
              <a:ext cx="3240" cy="300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66960" y="1809720"/>
              <a:ext cx="1800" cy="300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18040" y="2190600"/>
              <a:ext cx="471240" cy="26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27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37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54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47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02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76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67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12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23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14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08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15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7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2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14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13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39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39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6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8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4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692520" y="2190600"/>
              <a:ext cx="479520" cy="26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51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60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73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79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80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83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77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1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0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3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4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3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2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8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0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0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00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04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7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01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9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32440" y="2190600"/>
              <a:ext cx="504720" cy="26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3,0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2,52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5,23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8,22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0,7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0,55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0,43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1,62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,76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1,00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3,22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5,72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5,56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5,77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1,38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,75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4,23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4,99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5,07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4,98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4,65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48320" y="2190600"/>
              <a:ext cx="512640" cy="26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2,62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4,15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9,64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1,78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2,66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6,36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8,67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,68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,62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,97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,2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,18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1,12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1,52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4,93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5,47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1,67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2,57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2,48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5,24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7,15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21360" y="2190600"/>
              <a:ext cx="512640" cy="26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8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4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5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8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8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765520" y="1979640"/>
              <a:ext cx="28987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86040" y="1995480"/>
              <a:ext cx="44604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&lt; 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86080" y="1995480"/>
              <a:ext cx="41112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 - 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92520" y="1995480"/>
              <a:ext cx="47952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 - 1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75280" y="1995480"/>
              <a:ext cx="49680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5 - 6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56240" y="1994040"/>
              <a:ext cx="50004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40400" y="1995480"/>
              <a:ext cx="6141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5 y má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08560" y="1986120"/>
              <a:ext cx="36828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. E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59080" y="1996920"/>
              <a:ext cx="0" cy="281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83160" y="1996920"/>
              <a:ext cx="0" cy="281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148280" y="1996920"/>
              <a:ext cx="0" cy="281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648320" y="1996920"/>
              <a:ext cx="0" cy="281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87960" y="1996920"/>
              <a:ext cx="1440" cy="281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38320" y="4803840"/>
              <a:ext cx="406080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xisten diferencias con la información del Vol. I. Ver la nota en la presentación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01280" y="399960"/>
            <a:ext cx="5581800" cy="92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gresos hospitalarios según grupos de eda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stema Nacional de Salu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4 - 200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89080" y="1433520"/>
            <a:ext cx="4843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gresos hospitalarios según grupos de edad y tipo de institució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994 -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30200" y="4995720"/>
            <a:ext cx="45277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centaje de egresos hospitalari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gún grupos de edad y tipo de institució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994 -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74920" y="5638680"/>
            <a:ext cx="10062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ñ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25600" y="5910120"/>
            <a:ext cx="1157400" cy="25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 o t a 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ob. No derechoh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ob. Derechohabien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94 2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95 2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11360" y="5543640"/>
            <a:ext cx="29084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rupos de eda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29000" y="5925960"/>
            <a:ext cx="5126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.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.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.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0.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9.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8.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8.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.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.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.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.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.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47920" y="5527800"/>
            <a:ext cx="3981240" cy="28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55840" y="5918040"/>
            <a:ext cx="397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09920" y="5538960"/>
            <a:ext cx="0" cy="287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960640" y="5919840"/>
            <a:ext cx="47160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.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.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.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.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.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.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.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.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35480" y="5925960"/>
            <a:ext cx="47916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.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.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.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.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.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.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.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.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.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.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.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.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.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.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.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75040" y="5924520"/>
            <a:ext cx="49536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3.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0.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9.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9.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0.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9.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3.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4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4.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3.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5.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4.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4.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4.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8.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7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7.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8.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6.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6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00640" y="5908680"/>
            <a:ext cx="5126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8.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1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1.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2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1.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2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2.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.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.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.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.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.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.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.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0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4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4.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5.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4.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5.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6.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908600" y="5900760"/>
            <a:ext cx="5126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08120" y="5703840"/>
            <a:ext cx="29163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29000" y="5719680"/>
            <a:ext cx="446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 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29040" y="5719680"/>
            <a:ext cx="3841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 - 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435480" y="5719680"/>
            <a:ext cx="4521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 - 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17880" y="5719680"/>
            <a:ext cx="4604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5 - 6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00640" y="5719680"/>
            <a:ext cx="5619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5 y má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08680" y="5727600"/>
            <a:ext cx="4968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. 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02040" y="5708520"/>
            <a:ext cx="0" cy="269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425760" y="5703840"/>
            <a:ext cx="0" cy="270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90880" y="5710320"/>
            <a:ext cx="0" cy="269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90920" y="5708520"/>
            <a:ext cx="0" cy="27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81680" y="5703840"/>
            <a:ext cx="0" cy="270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71600" y="8416800"/>
            <a:ext cx="4527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/ No disponible por grupos de edad para la Secretaría de Marina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xisten diferencias con la información del Vol. I. Ver la nota en la presentació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219320" y="1828800"/>
            <a:ext cx="4592520" cy="3114720"/>
            <a:chOff x="1219320" y="1828800"/>
            <a:chExt cx="4592520" cy="3114720"/>
          </a:xfrm>
        </p:grpSpPr>
        <p:sp>
          <p:nvSpPr>
            <p:cNvPr id="298" name=""/>
            <p:cNvSpPr/>
            <p:nvPr/>
          </p:nvSpPr>
          <p:spPr>
            <a:xfrm>
              <a:off x="1332000" y="1957320"/>
              <a:ext cx="93348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ñ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19320" y="2220840"/>
              <a:ext cx="1172880" cy="251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 o t a 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ob. No derechohab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ob. Derechohabient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4 2/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5 2/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06640" y="1846080"/>
              <a:ext cx="28209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Grupos de eda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27440" y="2228760"/>
              <a:ext cx="461880" cy="24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77,33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75,00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73,06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89,38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04,03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25,08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34,75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13,86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14,44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8,14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17,77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4,67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37,37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46,51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63,46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60,56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64,91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71,61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79,36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87,71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88,24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352600" y="1957320"/>
              <a:ext cx="4539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25520" y="2228760"/>
              <a:ext cx="596880" cy="24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,981,61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,619,34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,632,35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,788,4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,852,10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,972,71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,052,54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124,7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244,00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230,81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348,48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490,38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598,94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698,00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856,91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375,33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401,54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440,01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361,72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373,77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354,53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57480" y="1828800"/>
              <a:ext cx="4533840" cy="2909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57480" y="2222280"/>
              <a:ext cx="453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314440" y="1836720"/>
              <a:ext cx="0" cy="28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24200" y="1838160"/>
              <a:ext cx="0" cy="290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00480" y="2222280"/>
              <a:ext cx="471600" cy="24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81,27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83,74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89,07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89,10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57,53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69,7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65,06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3,95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9,24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5,76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3,2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3,95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9,45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9,88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7,32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4,49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33,30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5,80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4,57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0,25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5,18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724200" y="2224080"/>
              <a:ext cx="496800" cy="24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14,50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02,04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04,11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11,85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15,4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26,13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22,39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9,05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6,59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1,065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0,54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8,08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6,57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8,28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45,45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5,45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33,04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31,31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7,41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9,56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4,11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89240" y="2232000"/>
              <a:ext cx="675000" cy="24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943,46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559,31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532,67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630,27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727,58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775,2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835,20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23,47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26,57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11,78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89,05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120,36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188,79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269,72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119,98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632,74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620,88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641,21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607,22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586,50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565,48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99160" y="2228760"/>
              <a:ext cx="512640" cy="24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53,44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97,71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09,67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53,12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46,7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75,90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94,84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2,81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5,64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9,09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3,06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4,13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6,68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13,38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00,63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31,74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40,57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70,06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52,66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69,22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81,46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65800" y="2228760"/>
              <a:ext cx="446040" cy="24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1,58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52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3,76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4,74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5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9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6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1,53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50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4,95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4,73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7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1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4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,80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8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1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824200" y="2011320"/>
              <a:ext cx="296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35360" y="2023920"/>
              <a:ext cx="44604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&lt; 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68520" y="2023920"/>
              <a:ext cx="37800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 - 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774960" y="2023920"/>
              <a:ext cx="43668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 - 1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257720" y="2023920"/>
              <a:ext cx="4539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5 - 6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38680" y="2022480"/>
              <a:ext cx="4399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24360" y="2033640"/>
              <a:ext cx="55584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5 y má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00720" y="2023920"/>
              <a:ext cx="36180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. E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316320" y="2011320"/>
              <a:ext cx="0" cy="27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765600" y="2004840"/>
              <a:ext cx="0" cy="273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230720" y="2012760"/>
              <a:ext cx="0" cy="271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80080" y="2004840"/>
              <a:ext cx="0" cy="273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89560" y="2022480"/>
              <a:ext cx="1440" cy="27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78000" y="4748040"/>
              <a:ext cx="406080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xisten diferencias con la información del Vol. I. Ver la nota en la presentación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01280" y="399960"/>
            <a:ext cx="5581800" cy="92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gresos hospitalario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stema Nacional de Salu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4 - 200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43000" y="1852560"/>
            <a:ext cx="6333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gresos hospitalarios y distribución porcentual según institu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994 -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90720" y="4952880"/>
            <a:ext cx="4619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sas de egresos hospitalarios según institu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994 -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658800" y="5334120"/>
            <a:ext cx="5230800" cy="2334240"/>
            <a:chOff x="658800" y="5334120"/>
            <a:chExt cx="5230800" cy="2334240"/>
          </a:xfrm>
        </p:grpSpPr>
        <p:sp>
          <p:nvSpPr>
            <p:cNvPr id="331" name=""/>
            <p:cNvSpPr/>
            <p:nvPr/>
          </p:nvSpPr>
          <p:spPr>
            <a:xfrm>
              <a:off x="685800" y="5334120"/>
              <a:ext cx="5203800" cy="1904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3200" y="5697360"/>
              <a:ext cx="5209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73720" y="5334120"/>
              <a:ext cx="1440" cy="18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079360" y="5334120"/>
              <a:ext cx="3240" cy="19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664000" y="5334120"/>
              <a:ext cx="2880" cy="18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191040" y="5334120"/>
              <a:ext cx="2880" cy="18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46520" y="5334120"/>
              <a:ext cx="3240" cy="18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268880" y="5334120"/>
              <a:ext cx="1440" cy="18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10360" y="5446800"/>
              <a:ext cx="55872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070000" y="5443560"/>
              <a:ext cx="53352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608200" y="5443560"/>
              <a:ext cx="55728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37040" y="5443560"/>
              <a:ext cx="56484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14840" y="5443560"/>
              <a:ext cx="49680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90720" y="5443560"/>
              <a:ext cx="105408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nstitu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85800" y="5715000"/>
              <a:ext cx="1327320" cy="139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T o t a 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ob. No derechohabient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SA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SA (Instit. Nales.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SA DF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MSS-SO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ob. Derechohabient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MS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SSS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PEME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D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4818240" y="5334120"/>
              <a:ext cx="1440" cy="18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259160" y="5443560"/>
              <a:ext cx="5223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38640" y="5707080"/>
              <a:ext cx="566640" cy="13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,743.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924.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32.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00.5*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038.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,424.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,595.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,857.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6,107.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,083.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308560" y="5707080"/>
              <a:ext cx="565200" cy="13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,617.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,508.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093.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,014.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,390.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,500.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4,059.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,027.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57400" y="5707080"/>
              <a:ext cx="587520" cy="13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,411.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847.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2.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,004.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651.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,603.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,487.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,544.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,234.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,632.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60680" y="5707080"/>
              <a:ext cx="565200" cy="13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,030.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986.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82.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787.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853.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,498.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,640.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3,671.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8,841.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,740.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125880" y="5707080"/>
              <a:ext cx="585720" cy="13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,825.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780.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68.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463.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930.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,051.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,729.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3,790.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,676.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4,542.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81360" y="5707080"/>
              <a:ext cx="565200" cy="13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,873.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756.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55.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728.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989.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,845.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,746.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2,264.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5,879.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4,827.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58800" y="7259760"/>
              <a:ext cx="519912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asa por 100,000 habitantes de población legal y/o potencial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xisten diferencias con la información del Vol. I. Ver la nota en la presentación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* A partir de este año la población para calcular los datos del DDF es la población de la Secretaría de Salud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807080" y="5443560"/>
              <a:ext cx="52200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762440" y="5707080"/>
              <a:ext cx="539640" cy="13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,684.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996.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32.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18.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059.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,222.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,487.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,802.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4,457.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,311.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90440" y="2286000"/>
            <a:ext cx="6476760" cy="2505240"/>
            <a:chOff x="190440" y="2286000"/>
            <a:chExt cx="6476760" cy="2505240"/>
          </a:xfrm>
        </p:grpSpPr>
        <p:sp>
          <p:nvSpPr>
            <p:cNvPr id="358" name=""/>
            <p:cNvSpPr/>
            <p:nvPr/>
          </p:nvSpPr>
          <p:spPr>
            <a:xfrm>
              <a:off x="269280" y="4382640"/>
              <a:ext cx="608688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/ A partir de 1994 se incorpora información de los Institutos Nacionales de Salud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/ A partir de 1997 se incorpora información del Hospital General de México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3/ A partir del 2000 se incorpora información de los Instituos Nacionales y de la Secretaría de Salud del D. F. dentro de la Secretaría de Salud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3280" y="2286000"/>
              <a:ext cx="6414480" cy="2060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982440" y="2527920"/>
              <a:ext cx="565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3280" y="2788920"/>
              <a:ext cx="64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5853960" y="2290680"/>
              <a:ext cx="3240" cy="20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67640" y="2293920"/>
              <a:ext cx="1440" cy="204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964440" y="2292480"/>
              <a:ext cx="1800" cy="20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1732680" y="2293920"/>
              <a:ext cx="4680" cy="20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552400" y="2286000"/>
              <a:ext cx="4680" cy="20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32080" y="2298960"/>
              <a:ext cx="0" cy="20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313680" y="2526120"/>
              <a:ext cx="1800" cy="180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1425240" y="2534040"/>
              <a:ext cx="4680" cy="180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37400" y="2534040"/>
              <a:ext cx="0" cy="180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018240" y="2534040"/>
              <a:ext cx="4680" cy="181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13480" y="2534040"/>
              <a:ext cx="3240" cy="180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593240" y="2534040"/>
              <a:ext cx="0" cy="181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9480" y="2445840"/>
              <a:ext cx="69264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nstitu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90440" y="2751480"/>
              <a:ext cx="841320" cy="15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 o t a 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ob. No derec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SA (Hospitales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SA (Instit. Nales.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SA DF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MSS-SO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ob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Derechohab</a:t>
              </a: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MS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SSS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PEME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D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868720" y="2553840"/>
              <a:ext cx="42372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úm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52480" y="2561760"/>
              <a:ext cx="47664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úm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77400" y="2561760"/>
              <a:ext cx="45144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úm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565360" y="2561760"/>
              <a:ext cx="45108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úm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146840" y="2561760"/>
              <a:ext cx="43164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úm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15480" y="2553840"/>
              <a:ext cx="32328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25600" y="2561760"/>
              <a:ext cx="27684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238840" y="2561760"/>
              <a:ext cx="30384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26160" y="2561760"/>
              <a:ext cx="32328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351240" y="2295720"/>
              <a:ext cx="4680" cy="204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365640" y="2561760"/>
              <a:ext cx="40320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úm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819960" y="2561760"/>
              <a:ext cx="31068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599720" y="2561760"/>
              <a:ext cx="2955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86360" y="2304000"/>
              <a:ext cx="7455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000 3/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68040" y="2312280"/>
              <a:ext cx="75024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4 1/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39160" y="2312280"/>
              <a:ext cx="76500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5 1/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50960" y="2312280"/>
              <a:ext cx="78552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6 1/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44760" y="2312280"/>
              <a:ext cx="77940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7 2/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28840" y="2312280"/>
              <a:ext cx="73620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463720" y="2529360"/>
              <a:ext cx="0" cy="180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080960" y="2815560"/>
              <a:ext cx="55188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,852,10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490,38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106,65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7,77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5,87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20,08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361,72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855,71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49,5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1,85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5,03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,52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987080" y="2557080"/>
              <a:ext cx="4413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úm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459040" y="2557080"/>
              <a:ext cx="3531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991760" y="2306880"/>
              <a:ext cx="82080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596480" y="2807280"/>
              <a:ext cx="39636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0.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8.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8.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.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.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1.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8.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.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.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.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799960" y="2807280"/>
              <a:ext cx="55188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,052,54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698,00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469,33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28,67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354,53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867,95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41,27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1,47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8,81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5,01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70480" y="2807280"/>
              <a:ext cx="39672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0.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1.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6.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.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8.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6.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.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.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910440" y="2815560"/>
              <a:ext cx="56016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,981,61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124,7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15,31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4,92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4,05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70,40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856,91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413,86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17,39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5,51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0,89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,25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20440" y="2815560"/>
              <a:ext cx="55188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,619,34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244,00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91,60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4,50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2,5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5,30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375,33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887,29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36,62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0,89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9,45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1,06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82680" y="2815560"/>
              <a:ext cx="39672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0.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4.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4.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.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.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5.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2.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.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.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14240" y="2815560"/>
              <a:ext cx="55980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,632,35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230,81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73,4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3,06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1,11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13,13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401,54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882,31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47,22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4,40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1,0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6,5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02400" y="2815560"/>
              <a:ext cx="38052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0.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3.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4.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.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6.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1.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.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300120" y="2815560"/>
              <a:ext cx="55980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,788,4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348,48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77,40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4,96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9,23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16,87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440,01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912,11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54,87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3,22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5,52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7,27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770280" y="2815560"/>
              <a:ext cx="40644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0.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5.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5.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.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.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4.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0.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.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.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.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89240" y="2815560"/>
              <a:ext cx="38052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0.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8.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0.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.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.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1.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0.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.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951800" y="2807280"/>
              <a:ext cx="55188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,972,71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598,94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192,46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2,64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7,05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26,78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373,77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881,62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45,19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9,19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0,76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7,00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327640" y="2807280"/>
              <a:ext cx="55188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0.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0.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0.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.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.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9.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7.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.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01280" y="399960"/>
            <a:ext cx="5581800" cy="92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rtalidad hospitalaria según institució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994 - 200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357200" y="1662120"/>
            <a:ext cx="43070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funciones hospitalarias y distribución porcentu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gún institu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994 -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055520" y="5022720"/>
            <a:ext cx="4619880" cy="393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rtalidad hospitalaria según institu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994 -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1020600" y="5442120"/>
            <a:ext cx="4689720" cy="1924200"/>
            <a:chOff x="1020600" y="5442120"/>
            <a:chExt cx="4689720" cy="1924200"/>
          </a:xfrm>
        </p:grpSpPr>
        <p:sp>
          <p:nvSpPr>
            <p:cNvPr id="417" name=""/>
            <p:cNvSpPr/>
            <p:nvPr/>
          </p:nvSpPr>
          <p:spPr>
            <a:xfrm>
              <a:off x="1086120" y="7064280"/>
              <a:ext cx="3485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asa por 100,000 egresos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Existen diferencias con la información del Vol. I. Ver la nota en la presentación</a:t>
              </a: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60560" y="5442120"/>
              <a:ext cx="4647960" cy="1600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74600" y="5654520"/>
              <a:ext cx="463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81760" y="5454720"/>
              <a:ext cx="0" cy="15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16280" y="5454720"/>
              <a:ext cx="0" cy="158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43320" y="5442120"/>
              <a:ext cx="0" cy="159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976480" y="5442120"/>
              <a:ext cx="0" cy="158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510000" y="5454720"/>
              <a:ext cx="0" cy="158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11480" y="5454720"/>
              <a:ext cx="0" cy="15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21360" y="5492880"/>
              <a:ext cx="51120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24200" y="5486400"/>
              <a:ext cx="50472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444760" y="5479920"/>
              <a:ext cx="51120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984400" y="5479920"/>
              <a:ext cx="51120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498840" y="5486400"/>
              <a:ext cx="51120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87720" y="5479920"/>
              <a:ext cx="51120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069920" y="5477040"/>
              <a:ext cx="98604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nstitució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20600" y="5651640"/>
              <a:ext cx="1025640" cy="14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 o t a 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ob. No derec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SA (Hospitales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SA (Instit. Nales.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SA DF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MSS-SO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ob. Derechohab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MS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SSS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PEME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D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546440" y="5442120"/>
              <a:ext cx="0" cy="158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541760" y="5479920"/>
              <a:ext cx="51120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22640" y="5691240"/>
              <a:ext cx="511200" cy="13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765.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669.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,126.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,519.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705.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963.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630.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122.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367.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115.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099040" y="5691240"/>
              <a:ext cx="511200" cy="13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730.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486.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506.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0,99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863.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,162.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392.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19.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924200" y="5691240"/>
              <a:ext cx="529920" cy="13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169.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833.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,560.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553.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207.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849.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496.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792.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369.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168.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405160" y="5691240"/>
              <a:ext cx="511200" cy="13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452.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911.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,801.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,266.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038.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200.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594.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835.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877.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333.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948040" y="5691240"/>
              <a:ext cx="530280" cy="13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643.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557.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,462.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172.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995.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852.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662.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721.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586.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052.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479760" y="5691240"/>
              <a:ext cx="511200" cy="13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703.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625.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576.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,358.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868.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870.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659.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134.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667.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184.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522680" y="5708520"/>
              <a:ext cx="511200" cy="13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737.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504.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338.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306.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582.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967.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900.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,394.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561.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893.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258840" y="4202280"/>
            <a:ext cx="3659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/ En este año se incorporó la información de los Institutos Nacionales de Salu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xisten diferencias con la información del Vol. I. Ver la nota en la presentació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/ A partir de 1997 se incorpora información del Hospital General de México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/ Las cifras de SSA comprende información de hospitales, Institutos y SSA DF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53120" y="2508120"/>
            <a:ext cx="1440" cy="168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035600" y="2720880"/>
            <a:ext cx="5475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06,53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9,59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9,54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,62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,67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,75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6,94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4,99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9,19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,31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,02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1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10040" y="2535120"/>
            <a:ext cx="4050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úm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327640" y="2535120"/>
            <a:ext cx="3510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175280" y="2292480"/>
            <a:ext cx="7315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38520" y="2720880"/>
            <a:ext cx="3938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0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7.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7.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2.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1.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7680" y="2266920"/>
            <a:ext cx="6261120" cy="19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90720" y="2502000"/>
            <a:ext cx="5518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47680" y="2719440"/>
            <a:ext cx="6261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976320" y="2279520"/>
            <a:ext cx="1440" cy="19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16440" y="2274840"/>
            <a:ext cx="1800" cy="19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757520" y="2273400"/>
            <a:ext cx="1440" cy="19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652840" y="2286000"/>
            <a:ext cx="1440" cy="19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7560" y="2266920"/>
            <a:ext cx="1440" cy="19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38840" y="2279520"/>
            <a:ext cx="1440" cy="19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424160" y="2508120"/>
            <a:ext cx="1440" cy="167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84560" y="2519280"/>
            <a:ext cx="1440" cy="167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987640" y="2508120"/>
            <a:ext cx="1800" cy="168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757680" y="2508120"/>
            <a:ext cx="1440" cy="168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578480" y="2508120"/>
            <a:ext cx="1440" cy="168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335560" y="2508120"/>
            <a:ext cx="1440" cy="168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63520" y="2422440"/>
            <a:ext cx="687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stitu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" y="2743200"/>
            <a:ext cx="835200" cy="15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 o t a 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ob. No derec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SA (Hospitale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SA (Instit. Nales.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SA D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MSS-SO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ob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erechoh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MS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SSS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EMEX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D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982800" y="2535120"/>
            <a:ext cx="420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úm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812960" y="2535120"/>
            <a:ext cx="4730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úm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03840" y="2525760"/>
            <a:ext cx="4478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úm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611440" y="2535120"/>
            <a:ext cx="4478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úm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54400" y="2535120"/>
            <a:ext cx="428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úm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425600" y="2535120"/>
            <a:ext cx="320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91280" y="2525760"/>
            <a:ext cx="2746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362320" y="2535120"/>
            <a:ext cx="3016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025800" y="2535120"/>
            <a:ext cx="320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62320" y="2276640"/>
            <a:ext cx="1800" cy="191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65640" y="2535120"/>
            <a:ext cx="3999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úm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16360" y="2535120"/>
            <a:ext cx="3078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0560" y="2535120"/>
            <a:ext cx="2934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990720" y="2286000"/>
            <a:ext cx="744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94 1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689440" y="2282760"/>
            <a:ext cx="7588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000 3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752480" y="2292480"/>
            <a:ext cx="779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95 1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73280" y="2292480"/>
            <a:ext cx="773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96 1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411360" y="2292480"/>
            <a:ext cx="7304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97 2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96760" y="2720880"/>
            <a:ext cx="54792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86,63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1,46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5,04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,94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,65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,76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4,90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4,65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,92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,27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83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2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390680" y="2720880"/>
            <a:ext cx="3938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0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6.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9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.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3.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1.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9.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595840" y="2720880"/>
            <a:ext cx="5558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10,63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9,97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6,53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,44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0,66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7,89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9,77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,94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95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738440" y="2720880"/>
            <a:ext cx="5475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88,76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5,35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8,02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,07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,35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,98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3,40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1,52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8,73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,30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,56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8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273400" y="2720880"/>
            <a:ext cx="3934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0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9.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1.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0.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.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9.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514600" y="2720880"/>
            <a:ext cx="5554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96,03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0,40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2,33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,83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,97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,25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5,62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3,69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9,24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,28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,12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7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051000" y="2720880"/>
            <a:ext cx="3780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0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1.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3.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.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8.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5.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276720" y="2720880"/>
            <a:ext cx="5554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02,02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5,00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5,65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,96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,33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,05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7,41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4,88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9,43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,56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,20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2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32120" y="2720880"/>
            <a:ext cx="403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0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4.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5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5.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3.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9.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64280" y="2720880"/>
            <a:ext cx="3776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0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6.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3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3.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2.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8.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915080" y="2292480"/>
            <a:ext cx="7794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791240" y="2720880"/>
            <a:ext cx="5475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08,76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9,47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9,86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,01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,00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,58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9,28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5,84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0,01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,00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,10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2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276880" y="2720880"/>
            <a:ext cx="436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00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6.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7.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3.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1.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9.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6T01:11:06Z</dcterms:created>
  <dc:creator>DIRECCION DE ESTADISTICA</dc:creator>
  <dc:description/>
  <dc:language>en-US</dc:language>
  <cp:lastModifiedBy>Alberto de la Rosa Rábago</cp:lastModifiedBy>
  <cp:lastPrinted>2002-11-25T23:03:38Z</cp:lastPrinted>
  <dcterms:modified xsi:type="dcterms:W3CDTF">2002-11-25T23:04:57Z</dcterms:modified>
  <cp:revision>168</cp:revision>
  <dc:subject/>
  <dc:title>Distribución porcentual de la morbilidad  según grupos de edad e institución Sistema Nacional de Salud  2000</dc:title>
</cp:coreProperties>
</file>