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package" Target="../embeddings/oleObject1.xlsx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0.png"/><Relationship Id="rId17" Type="http://schemas.openxmlformats.org/officeDocument/2006/relationships/image" Target="../media/image13.png"/><Relationship Id="rId18" Type="http://schemas.openxmlformats.org/officeDocument/2006/relationships/image" Target="../media/image12.png"/><Relationship Id="rId19" Type="http://schemas.openxmlformats.org/officeDocument/2006/relationships/package" Target="../embeddings/oleObject1.xlsx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6.png"/><Relationship Id="rId58" Type="http://schemas.openxmlformats.org/officeDocument/2006/relationships/image" Target="../media/image18.png"/><Relationship Id="rId59" Type="http://schemas.openxmlformats.org/officeDocument/2006/relationships/image" Target="../media/image16.png"/><Relationship Id="rId60" Type="http://schemas.openxmlformats.org/officeDocument/2006/relationships/image" Target="../media/image17.png"/><Relationship Id="rId6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18.png"/><Relationship Id="rId32" Type="http://schemas.openxmlformats.org/officeDocument/2006/relationships/image" Target="../media/image20.png"/><Relationship Id="rId33" Type="http://schemas.openxmlformats.org/officeDocument/2006/relationships/image" Target="../media/image17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0.png"/><Relationship Id="rId37" Type="http://schemas.openxmlformats.org/officeDocument/2006/relationships/image" Target="../media/image20.png"/><Relationship Id="rId38" Type="http://schemas.openxmlformats.org/officeDocument/2006/relationships/image" Target="../media/image20.png"/><Relationship Id="rId39" Type="http://schemas.openxmlformats.org/officeDocument/2006/relationships/image" Target="../media/image20.png"/><Relationship Id="rId40" Type="http://schemas.openxmlformats.org/officeDocument/2006/relationships/image" Target="../media/image20.png"/><Relationship Id="rId41" Type="http://schemas.openxmlformats.org/officeDocument/2006/relationships/image" Target="../media/image20.png"/><Relationship Id="rId42" Type="http://schemas.openxmlformats.org/officeDocument/2006/relationships/image" Target="../media/image20.png"/><Relationship Id="rId43" Type="http://schemas.openxmlformats.org/officeDocument/2006/relationships/image" Target="../media/image20.png"/><Relationship Id="rId44" Type="http://schemas.openxmlformats.org/officeDocument/2006/relationships/image" Target="../media/image20.png"/><Relationship Id="rId45" Type="http://schemas.openxmlformats.org/officeDocument/2006/relationships/image" Target="../media/image20.png"/><Relationship Id="rId46" Type="http://schemas.openxmlformats.org/officeDocument/2006/relationships/image" Target="../media/image20.png"/><Relationship Id="rId47" Type="http://schemas.openxmlformats.org/officeDocument/2006/relationships/image" Target="../media/image20.png"/><Relationship Id="rId48" Type="http://schemas.openxmlformats.org/officeDocument/2006/relationships/image" Target="../media/image20.png"/><Relationship Id="rId49" Type="http://schemas.openxmlformats.org/officeDocument/2006/relationships/image" Target="../media/image20.png"/><Relationship Id="rId50" Type="http://schemas.openxmlformats.org/officeDocument/2006/relationships/image" Target="../media/image20.png"/><Relationship Id="rId51" Type="http://schemas.openxmlformats.org/officeDocument/2006/relationships/image" Target="../media/image20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image" Target="../media/image20.png"/><Relationship Id="rId55" Type="http://schemas.openxmlformats.org/officeDocument/2006/relationships/image" Target="../media/image20.png"/><Relationship Id="rId56" Type="http://schemas.openxmlformats.org/officeDocument/2006/relationships/image" Target="../media/image20.png"/><Relationship Id="rId57" Type="http://schemas.openxmlformats.org/officeDocument/2006/relationships/image" Target="../media/image20.png"/><Relationship Id="rId5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547344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resos hospitalarios por grupos de eda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558720" y="5470560"/>
            <a:ext cx="5610240" cy="2911320"/>
            <a:chOff x="558720" y="5470560"/>
            <a:chExt cx="5610240" cy="2911320"/>
          </a:xfrm>
        </p:grpSpPr>
        <p:sp>
          <p:nvSpPr>
            <p:cNvPr id="40" name=""/>
            <p:cNvSpPr/>
            <p:nvPr/>
          </p:nvSpPr>
          <p:spPr>
            <a:xfrm>
              <a:off x="1386000" y="7824960"/>
              <a:ext cx="4782960" cy="77760"/>
            </a:xfrm>
            <a:custGeom>
              <a:avLst/>
              <a:gdLst/>
              <a:ahLst/>
              <a:rect l="l" t="t" r="r" b="b"/>
              <a:pathLst>
                <a:path w="3013" h="51">
                  <a:moveTo>
                    <a:pt x="0" y="51"/>
                  </a:moveTo>
                  <a:lnTo>
                    <a:pt x="106" y="0"/>
                  </a:lnTo>
                  <a:lnTo>
                    <a:pt x="3013" y="0"/>
                  </a:lnTo>
                  <a:lnTo>
                    <a:pt x="2907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386000" y="5470560"/>
              <a:ext cx="168120" cy="2432160"/>
            </a:xfrm>
            <a:custGeom>
              <a:avLst/>
              <a:gdLst/>
              <a:ahLst/>
              <a:rect l="l" t="t" r="r" b="b"/>
              <a:pathLst>
                <a:path w="106" h="1587">
                  <a:moveTo>
                    <a:pt x="0" y="1587"/>
                  </a:moveTo>
                  <a:lnTo>
                    <a:pt x="0" y="50"/>
                  </a:lnTo>
                  <a:lnTo>
                    <a:pt x="106" y="0"/>
                  </a:lnTo>
                  <a:lnTo>
                    <a:pt x="106" y="1536"/>
                  </a:lnTo>
                  <a:lnTo>
                    <a:pt x="0" y="1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554120" y="5470560"/>
              <a:ext cx="4614840" cy="23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1386000" y="7824960"/>
              <a:ext cx="1681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54120" y="782496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386000" y="7431120"/>
              <a:ext cx="1681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120" y="743112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386000" y="7037280"/>
              <a:ext cx="1681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54120" y="7037280"/>
              <a:ext cx="461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386000" y="6643440"/>
              <a:ext cx="16812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4120" y="664380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386000" y="6257880"/>
              <a:ext cx="1681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4120" y="6257880"/>
              <a:ext cx="4614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386000" y="5864040"/>
              <a:ext cx="168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54120" y="586440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386000" y="5470560"/>
              <a:ext cx="1681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54120" y="547056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86000" y="7824960"/>
              <a:ext cx="4782960" cy="77760"/>
            </a:xfrm>
            <a:custGeom>
              <a:avLst/>
              <a:gdLst/>
              <a:ahLst/>
              <a:rect l="l" t="t" r="r" b="b"/>
              <a:pathLst>
                <a:path w="3013" h="51">
                  <a:moveTo>
                    <a:pt x="3013" y="0"/>
                  </a:moveTo>
                  <a:lnTo>
                    <a:pt x="2907" y="51"/>
                  </a:lnTo>
                  <a:lnTo>
                    <a:pt x="0" y="51"/>
                  </a:lnTo>
                  <a:lnTo>
                    <a:pt x="106" y="0"/>
                  </a:lnTo>
                  <a:lnTo>
                    <a:pt x="301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6000" y="5470560"/>
              <a:ext cx="168120" cy="2432160"/>
            </a:xfrm>
            <a:custGeom>
              <a:avLst/>
              <a:gdLst/>
              <a:ahLst/>
              <a:rect l="l" t="t" r="r" b="b"/>
              <a:pathLst>
                <a:path w="106" h="1587">
                  <a:moveTo>
                    <a:pt x="0" y="1587"/>
                  </a:moveTo>
                  <a:lnTo>
                    <a:pt x="0" y="50"/>
                  </a:lnTo>
                  <a:lnTo>
                    <a:pt x="106" y="0"/>
                  </a:lnTo>
                  <a:lnTo>
                    <a:pt x="106" y="1536"/>
                  </a:lnTo>
                  <a:lnTo>
                    <a:pt x="0" y="158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0600" y="5477040"/>
              <a:ext cx="4602240" cy="234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2480" y="7558200"/>
              <a:ext cx="168120" cy="344520"/>
            </a:xfrm>
            <a:custGeom>
              <a:avLst/>
              <a:gdLst/>
              <a:ahLst/>
              <a:rect l="l" t="t" r="r" b="b"/>
              <a:pathLst>
                <a:path w="106" h="225">
                  <a:moveTo>
                    <a:pt x="0" y="225"/>
                  </a:moveTo>
                  <a:lnTo>
                    <a:pt x="0" y="50"/>
                  </a:lnTo>
                  <a:lnTo>
                    <a:pt x="106" y="0"/>
                  </a:lnTo>
                  <a:lnTo>
                    <a:pt x="106" y="174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7558200"/>
              <a:ext cx="168120" cy="344520"/>
            </a:xfrm>
            <a:custGeom>
              <a:avLst/>
              <a:gdLst/>
              <a:ahLst/>
              <a:rect l="l" t="t" r="r" b="b"/>
              <a:pathLst>
                <a:path w="106" h="225">
                  <a:moveTo>
                    <a:pt x="0" y="225"/>
                  </a:moveTo>
                  <a:lnTo>
                    <a:pt x="0" y="50"/>
                  </a:lnTo>
                  <a:lnTo>
                    <a:pt x="106" y="0"/>
                  </a:lnTo>
                  <a:lnTo>
                    <a:pt x="106" y="174"/>
                  </a:lnTo>
                  <a:lnTo>
                    <a:pt x="0" y="22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06600" y="7634160"/>
              <a:ext cx="515880" cy="268560"/>
            </a:xfrm>
            <a:custGeom>
              <a:avLst/>
              <a:gdLst/>
              <a:ahLst/>
              <a:rect l="l" t="t" r="r" b="b"/>
              <a:pathLst>
                <a:path w="325" h="175">
                  <a:moveTo>
                    <a:pt x="0" y="175"/>
                  </a:moveTo>
                  <a:lnTo>
                    <a:pt x="0" y="0"/>
                  </a:lnTo>
                  <a:lnTo>
                    <a:pt x="325" y="0"/>
                  </a:lnTo>
                  <a:lnTo>
                    <a:pt x="325" y="175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2720" y="7640640"/>
              <a:ext cx="503280" cy="25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06600" y="7558200"/>
              <a:ext cx="684000" cy="75960"/>
            </a:xfrm>
            <a:custGeom>
              <a:avLst/>
              <a:gdLst/>
              <a:ahLst/>
              <a:rect l="l" t="t" r="r" b="b"/>
              <a:pathLst>
                <a:path w="431" h="50">
                  <a:moveTo>
                    <a:pt x="325" y="50"/>
                  </a:moveTo>
                  <a:lnTo>
                    <a:pt x="431" y="0"/>
                  </a:lnTo>
                  <a:lnTo>
                    <a:pt x="113" y="0"/>
                  </a:lnTo>
                  <a:lnTo>
                    <a:pt x="0" y="50"/>
                  </a:lnTo>
                  <a:lnTo>
                    <a:pt x="325" y="50"/>
                  </a:lnTo>
                  <a:lnTo>
                    <a:pt x="325" y="5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6600" y="7558200"/>
              <a:ext cx="684000" cy="75960"/>
            </a:xfrm>
            <a:custGeom>
              <a:avLst/>
              <a:gdLst/>
              <a:ahLst/>
              <a:rect l="l" t="t" r="r" b="b"/>
              <a:pathLst>
                <a:path w="431" h="50">
                  <a:moveTo>
                    <a:pt x="325" y="50"/>
                  </a:moveTo>
                  <a:lnTo>
                    <a:pt x="431" y="0"/>
                  </a:lnTo>
                  <a:lnTo>
                    <a:pt x="113" y="0"/>
                  </a:lnTo>
                  <a:lnTo>
                    <a:pt x="0" y="50"/>
                  </a:lnTo>
                  <a:lnTo>
                    <a:pt x="325" y="5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2520" y="769140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8">
                  <a:moveTo>
                    <a:pt x="0" y="138"/>
                  </a:moveTo>
                  <a:lnTo>
                    <a:pt x="0" y="51"/>
                  </a:lnTo>
                  <a:lnTo>
                    <a:pt x="113" y="0"/>
                  </a:lnTo>
                  <a:lnTo>
                    <a:pt x="113" y="8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92520" y="769140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8">
                  <a:moveTo>
                    <a:pt x="0" y="138"/>
                  </a:moveTo>
                  <a:lnTo>
                    <a:pt x="0" y="51"/>
                  </a:lnTo>
                  <a:lnTo>
                    <a:pt x="113" y="0"/>
                  </a:lnTo>
                  <a:lnTo>
                    <a:pt x="113" y="87"/>
                  </a:lnTo>
                  <a:lnTo>
                    <a:pt x="0" y="13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4840" y="7769160"/>
              <a:ext cx="517680" cy="133560"/>
            </a:xfrm>
            <a:custGeom>
              <a:avLst/>
              <a:gdLst/>
              <a:ahLst/>
              <a:rect l="l" t="t" r="r" b="b"/>
              <a:pathLst>
                <a:path w="326" h="87">
                  <a:moveTo>
                    <a:pt x="0" y="87"/>
                  </a:moveTo>
                  <a:lnTo>
                    <a:pt x="0" y="0"/>
                  </a:lnTo>
                  <a:lnTo>
                    <a:pt x="326" y="0"/>
                  </a:lnTo>
                  <a:lnTo>
                    <a:pt x="326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1320" y="7775640"/>
              <a:ext cx="504720" cy="12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74840" y="769140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6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6" y="51"/>
                  </a:lnTo>
                  <a:lnTo>
                    <a:pt x="326" y="5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4840" y="769140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6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6" y="5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60760" y="7650000"/>
              <a:ext cx="181080" cy="252720"/>
            </a:xfrm>
            <a:custGeom>
              <a:avLst/>
              <a:gdLst/>
              <a:ahLst/>
              <a:rect l="l" t="t" r="r" b="b"/>
              <a:pathLst>
                <a:path w="114" h="165">
                  <a:moveTo>
                    <a:pt x="0" y="165"/>
                  </a:moveTo>
                  <a:lnTo>
                    <a:pt x="0" y="50"/>
                  </a:lnTo>
                  <a:lnTo>
                    <a:pt x="114" y="0"/>
                  </a:lnTo>
                  <a:lnTo>
                    <a:pt x="114" y="114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60760" y="7650000"/>
              <a:ext cx="181080" cy="252720"/>
            </a:xfrm>
            <a:custGeom>
              <a:avLst/>
              <a:gdLst/>
              <a:ahLst/>
              <a:rect l="l" t="t" r="r" b="b"/>
              <a:pathLst>
                <a:path w="114" h="165">
                  <a:moveTo>
                    <a:pt x="0" y="165"/>
                  </a:moveTo>
                  <a:lnTo>
                    <a:pt x="0" y="50"/>
                  </a:lnTo>
                  <a:lnTo>
                    <a:pt x="114" y="0"/>
                  </a:lnTo>
                  <a:lnTo>
                    <a:pt x="114" y="114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4880" y="7726320"/>
              <a:ext cx="515880" cy="176400"/>
            </a:xfrm>
            <a:custGeom>
              <a:avLst/>
              <a:gdLst/>
              <a:ahLst/>
              <a:rect l="l" t="t" r="r" b="b"/>
              <a:pathLst>
                <a:path w="325" h="115">
                  <a:moveTo>
                    <a:pt x="0" y="115"/>
                  </a:moveTo>
                  <a:lnTo>
                    <a:pt x="0" y="0"/>
                  </a:lnTo>
                  <a:lnTo>
                    <a:pt x="325" y="0"/>
                  </a:lnTo>
                  <a:lnTo>
                    <a:pt x="325" y="115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51000" y="7732800"/>
              <a:ext cx="503280" cy="163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4880" y="7650000"/>
              <a:ext cx="696960" cy="76320"/>
            </a:xfrm>
            <a:custGeom>
              <a:avLst/>
              <a:gdLst/>
              <a:ahLst/>
              <a:rect l="l" t="t" r="r" b="b"/>
              <a:pathLst>
                <a:path w="439" h="50">
                  <a:moveTo>
                    <a:pt x="325" y="50"/>
                  </a:moveTo>
                  <a:lnTo>
                    <a:pt x="439" y="0"/>
                  </a:lnTo>
                  <a:lnTo>
                    <a:pt x="113" y="0"/>
                  </a:lnTo>
                  <a:lnTo>
                    <a:pt x="0" y="50"/>
                  </a:lnTo>
                  <a:lnTo>
                    <a:pt x="325" y="50"/>
                  </a:lnTo>
                  <a:lnTo>
                    <a:pt x="325" y="5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4880" y="7650000"/>
              <a:ext cx="696960" cy="76320"/>
            </a:xfrm>
            <a:custGeom>
              <a:avLst/>
              <a:gdLst/>
              <a:ahLst/>
              <a:rect l="l" t="t" r="r" b="b"/>
              <a:pathLst>
                <a:path w="439" h="50">
                  <a:moveTo>
                    <a:pt x="325" y="50"/>
                  </a:moveTo>
                  <a:lnTo>
                    <a:pt x="439" y="0"/>
                  </a:lnTo>
                  <a:lnTo>
                    <a:pt x="113" y="0"/>
                  </a:lnTo>
                  <a:lnTo>
                    <a:pt x="0" y="50"/>
                  </a:lnTo>
                  <a:lnTo>
                    <a:pt x="325" y="5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29000" y="5603760"/>
              <a:ext cx="181080" cy="2298960"/>
            </a:xfrm>
            <a:custGeom>
              <a:avLst/>
              <a:gdLst/>
              <a:ahLst/>
              <a:rect l="l" t="t" r="r" b="b"/>
              <a:pathLst>
                <a:path w="114" h="1500">
                  <a:moveTo>
                    <a:pt x="0" y="1500"/>
                  </a:moveTo>
                  <a:lnTo>
                    <a:pt x="0" y="51"/>
                  </a:lnTo>
                  <a:lnTo>
                    <a:pt x="114" y="0"/>
                  </a:lnTo>
                  <a:lnTo>
                    <a:pt x="114" y="1449"/>
                  </a:lnTo>
                  <a:lnTo>
                    <a:pt x="0" y="1500"/>
                  </a:lnTo>
                  <a:lnTo>
                    <a:pt x="0" y="15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29000" y="5603760"/>
              <a:ext cx="181080" cy="2298960"/>
            </a:xfrm>
            <a:custGeom>
              <a:avLst/>
              <a:gdLst/>
              <a:ahLst/>
              <a:rect l="l" t="t" r="r" b="b"/>
              <a:pathLst>
                <a:path w="114" h="1500">
                  <a:moveTo>
                    <a:pt x="0" y="1500"/>
                  </a:moveTo>
                  <a:lnTo>
                    <a:pt x="0" y="51"/>
                  </a:lnTo>
                  <a:lnTo>
                    <a:pt x="114" y="0"/>
                  </a:lnTo>
                  <a:lnTo>
                    <a:pt x="114" y="1449"/>
                  </a:lnTo>
                  <a:lnTo>
                    <a:pt x="0" y="15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3120" y="5681520"/>
              <a:ext cx="515880" cy="2221200"/>
            </a:xfrm>
            <a:custGeom>
              <a:avLst/>
              <a:gdLst/>
              <a:ahLst/>
              <a:rect l="l" t="t" r="r" b="b"/>
              <a:pathLst>
                <a:path w="325" h="1449">
                  <a:moveTo>
                    <a:pt x="0" y="1449"/>
                  </a:moveTo>
                  <a:lnTo>
                    <a:pt x="0" y="0"/>
                  </a:lnTo>
                  <a:lnTo>
                    <a:pt x="325" y="0"/>
                  </a:lnTo>
                  <a:lnTo>
                    <a:pt x="325" y="1449"/>
                  </a:lnTo>
                  <a:lnTo>
                    <a:pt x="0" y="1449"/>
                  </a:lnTo>
                  <a:lnTo>
                    <a:pt x="0" y="1449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9600" y="5688000"/>
              <a:ext cx="503280" cy="220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3120" y="560376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5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3120" y="560376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5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5" y="5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99040" y="7437600"/>
              <a:ext cx="179280" cy="46512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0" y="303"/>
                  </a:moveTo>
                  <a:lnTo>
                    <a:pt x="0" y="51"/>
                  </a:lnTo>
                  <a:lnTo>
                    <a:pt x="113" y="0"/>
                  </a:lnTo>
                  <a:lnTo>
                    <a:pt x="113" y="252"/>
                  </a:lnTo>
                  <a:lnTo>
                    <a:pt x="0" y="303"/>
                  </a:lnTo>
                  <a:lnTo>
                    <a:pt x="0" y="30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9040" y="7437600"/>
              <a:ext cx="179280" cy="46512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0" y="303"/>
                  </a:moveTo>
                  <a:lnTo>
                    <a:pt x="0" y="51"/>
                  </a:lnTo>
                  <a:lnTo>
                    <a:pt x="113" y="0"/>
                  </a:lnTo>
                  <a:lnTo>
                    <a:pt x="113" y="252"/>
                  </a:lnTo>
                  <a:lnTo>
                    <a:pt x="0" y="30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81360" y="7516800"/>
              <a:ext cx="517680" cy="385920"/>
            </a:xfrm>
            <a:custGeom>
              <a:avLst/>
              <a:gdLst/>
              <a:ahLst/>
              <a:rect l="l" t="t" r="r" b="b"/>
              <a:pathLst>
                <a:path w="326" h="252">
                  <a:moveTo>
                    <a:pt x="0" y="252"/>
                  </a:moveTo>
                  <a:lnTo>
                    <a:pt x="0" y="0"/>
                  </a:lnTo>
                  <a:lnTo>
                    <a:pt x="326" y="0"/>
                  </a:lnTo>
                  <a:lnTo>
                    <a:pt x="326" y="252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7840" y="7521480"/>
              <a:ext cx="504720" cy="37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1360" y="7437600"/>
              <a:ext cx="696960" cy="7920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6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6" y="51"/>
                  </a:lnTo>
                  <a:lnTo>
                    <a:pt x="326" y="51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81360" y="7437600"/>
              <a:ext cx="696960" cy="79200"/>
            </a:xfrm>
            <a:custGeom>
              <a:avLst/>
              <a:gdLst/>
              <a:ahLst/>
              <a:rect l="l" t="t" r="r" b="b"/>
              <a:pathLst>
                <a:path w="439" h="51">
                  <a:moveTo>
                    <a:pt x="326" y="51"/>
                  </a:moveTo>
                  <a:lnTo>
                    <a:pt x="439" y="0"/>
                  </a:lnTo>
                  <a:lnTo>
                    <a:pt x="114" y="0"/>
                  </a:lnTo>
                  <a:lnTo>
                    <a:pt x="0" y="51"/>
                  </a:lnTo>
                  <a:lnTo>
                    <a:pt x="326" y="5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62560" y="7824960"/>
              <a:ext cx="685800" cy="77760"/>
            </a:xfrm>
            <a:custGeom>
              <a:avLst/>
              <a:gdLst/>
              <a:ahLst/>
              <a:rect l="l" t="t" r="r" b="b"/>
              <a:pathLst>
                <a:path w="432" h="51">
                  <a:moveTo>
                    <a:pt x="318" y="51"/>
                  </a:moveTo>
                  <a:lnTo>
                    <a:pt x="432" y="0"/>
                  </a:lnTo>
                  <a:lnTo>
                    <a:pt x="106" y="0"/>
                  </a:lnTo>
                  <a:lnTo>
                    <a:pt x="0" y="51"/>
                  </a:lnTo>
                  <a:lnTo>
                    <a:pt x="318" y="51"/>
                  </a:lnTo>
                  <a:lnTo>
                    <a:pt x="318" y="51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62560" y="7824960"/>
              <a:ext cx="685800" cy="77760"/>
            </a:xfrm>
            <a:custGeom>
              <a:avLst/>
              <a:gdLst/>
              <a:ahLst/>
              <a:rect l="l" t="t" r="r" b="b"/>
              <a:pathLst>
                <a:path w="432" h="51">
                  <a:moveTo>
                    <a:pt x="318" y="51"/>
                  </a:moveTo>
                  <a:lnTo>
                    <a:pt x="432" y="0"/>
                  </a:lnTo>
                  <a:lnTo>
                    <a:pt x="106" y="0"/>
                  </a:lnTo>
                  <a:lnTo>
                    <a:pt x="0" y="51"/>
                  </a:lnTo>
                  <a:lnTo>
                    <a:pt x="318" y="5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325520" y="7902720"/>
              <a:ext cx="60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25520" y="7508880"/>
              <a:ext cx="60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325520" y="7115040"/>
              <a:ext cx="6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325520" y="6727680"/>
              <a:ext cx="6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325520" y="6334200"/>
              <a:ext cx="60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325520" y="5940360"/>
              <a:ext cx="60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325520" y="5546880"/>
              <a:ext cx="60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349280" y="7902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349280" y="78249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349280" y="7740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49280" y="76629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349280" y="75852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349280" y="7508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349280" y="74311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349280" y="73533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349280" y="72770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49280" y="71928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49280" y="71150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49280" y="70372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349280" y="69595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349280" y="68835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49280" y="68054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349280" y="67276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349280" y="66438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49280" y="65660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349280" y="6489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349280" y="64134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49280" y="63342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49280" y="62578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349280" y="61736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349280" y="60958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49280" y="60199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349280" y="59403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349280" y="5864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349280" y="57862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349280" y="57103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349280" y="5624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349280" y="5546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7880" y="7861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48680" y="7467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000" y="7074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0000" y="66866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000" y="62928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0000" y="58993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0000" y="550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86000" y="7902720"/>
              <a:ext cx="461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8600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424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428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9252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6256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3080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7902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40880" y="794556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&lt;1 A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1760" y="7945560"/>
              <a:ext cx="23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 -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22720" y="794556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 - 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1400" y="79455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5-6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58480" y="794556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5 y 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94320" y="7945560"/>
              <a:ext cx="35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No es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720" y="6086520"/>
              <a:ext cx="322200" cy="13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8110440"/>
              <a:ext cx="4073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 r u p o s   d e   e d 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04920" y="304920"/>
            <a:ext cx="6324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gresos hospitalarios según grupos de edad e i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 Nacional de Salud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1040" y="990720"/>
          <a:ext cx="5896080" cy="3443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1040" y="990720"/>
                    <a:ext cx="5896080" cy="34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1640" y="527040"/>
            <a:ext cx="547056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resos hospitalarios por institució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65160" y="2647800"/>
          <a:ext cx="53593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647800"/>
                    <a:ext cx="53593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536840" y="7431120"/>
            <a:ext cx="407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 s t i t u c i ó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720" y="4313160"/>
            <a:ext cx="32220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57913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unciones hospitalarias por grupos de eda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5303880"/>
            <a:ext cx="5794200" cy="3002040"/>
            <a:chOff x="457200" y="5303880"/>
            <a:chExt cx="5794200" cy="3002040"/>
          </a:xfrm>
        </p:grpSpPr>
        <p:sp>
          <p:nvSpPr>
            <p:cNvPr id="163" name=""/>
            <p:cNvSpPr/>
            <p:nvPr/>
          </p:nvSpPr>
          <p:spPr>
            <a:xfrm>
              <a:off x="1138320" y="7737480"/>
              <a:ext cx="5113080" cy="76320"/>
            </a:xfrm>
            <a:custGeom>
              <a:avLst/>
              <a:gdLst/>
              <a:ahLst/>
              <a:rect l="l" t="t" r="r" b="b"/>
              <a:pathLst>
                <a:path w="3221" h="48">
                  <a:moveTo>
                    <a:pt x="3221" y="0"/>
                  </a:moveTo>
                  <a:lnTo>
                    <a:pt x="3103" y="48"/>
                  </a:lnTo>
                  <a:lnTo>
                    <a:pt x="0" y="48"/>
                  </a:lnTo>
                  <a:lnTo>
                    <a:pt x="117" y="0"/>
                  </a:lnTo>
                  <a:lnTo>
                    <a:pt x="32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8320" y="5356080"/>
              <a:ext cx="185760" cy="2457720"/>
            </a:xfrm>
            <a:custGeom>
              <a:avLst/>
              <a:gdLst/>
              <a:ahLst/>
              <a:rect l="l" t="t" r="r" b="b"/>
              <a:pathLst>
                <a:path w="117" h="1548">
                  <a:moveTo>
                    <a:pt x="0" y="1548"/>
                  </a:moveTo>
                  <a:lnTo>
                    <a:pt x="0" y="48"/>
                  </a:lnTo>
                  <a:lnTo>
                    <a:pt x="117" y="0"/>
                  </a:lnTo>
                  <a:lnTo>
                    <a:pt x="117" y="1500"/>
                  </a:lnTo>
                  <a:lnTo>
                    <a:pt x="0" y="1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24080" y="5356080"/>
              <a:ext cx="4927320" cy="23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138320" y="7737480"/>
              <a:ext cx="1857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24080" y="7737480"/>
              <a:ext cx="492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138320" y="7494480"/>
              <a:ext cx="18576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4080" y="749448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138320" y="7257960"/>
              <a:ext cx="18576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24080" y="725796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138320" y="7021440"/>
              <a:ext cx="1857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4080" y="702144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138320" y="6784920"/>
              <a:ext cx="18576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4080" y="678492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38320" y="6541920"/>
              <a:ext cx="1857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24080" y="654192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138320" y="6306840"/>
              <a:ext cx="185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24080" y="6307200"/>
              <a:ext cx="492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138320" y="6070320"/>
              <a:ext cx="185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24080" y="6070680"/>
              <a:ext cx="492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138320" y="5827320"/>
              <a:ext cx="1857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24080" y="582768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138320" y="5591160"/>
              <a:ext cx="1857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4080" y="5591160"/>
              <a:ext cx="492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138320" y="5356080"/>
              <a:ext cx="1857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4080" y="5356080"/>
              <a:ext cx="4927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38320" y="7737480"/>
              <a:ext cx="5113080" cy="76320"/>
            </a:xfrm>
            <a:custGeom>
              <a:avLst/>
              <a:gdLst/>
              <a:ahLst/>
              <a:rect l="l" t="t" r="r" b="b"/>
              <a:pathLst>
                <a:path w="3221" h="48">
                  <a:moveTo>
                    <a:pt x="3221" y="0"/>
                  </a:moveTo>
                  <a:lnTo>
                    <a:pt x="3103" y="48"/>
                  </a:lnTo>
                  <a:lnTo>
                    <a:pt x="0" y="48"/>
                  </a:lnTo>
                  <a:lnTo>
                    <a:pt x="117" y="0"/>
                  </a:lnTo>
                  <a:lnTo>
                    <a:pt x="32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38320" y="5356080"/>
              <a:ext cx="185760" cy="2457720"/>
            </a:xfrm>
            <a:custGeom>
              <a:avLst/>
              <a:gdLst/>
              <a:ahLst/>
              <a:rect l="l" t="t" r="r" b="b"/>
              <a:pathLst>
                <a:path w="117" h="1548">
                  <a:moveTo>
                    <a:pt x="0" y="1548"/>
                  </a:moveTo>
                  <a:lnTo>
                    <a:pt x="0" y="48"/>
                  </a:lnTo>
                  <a:lnTo>
                    <a:pt x="117" y="0"/>
                  </a:lnTo>
                  <a:lnTo>
                    <a:pt x="117" y="1500"/>
                  </a:lnTo>
                  <a:lnTo>
                    <a:pt x="0" y="15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0200" y="5362560"/>
              <a:ext cx="4915080" cy="236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38320" y="7813800"/>
              <a:ext cx="492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832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056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8460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684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792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4016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6420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532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088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014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1156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4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8572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676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494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9996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100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18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420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2560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648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846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9556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337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592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824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47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705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083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96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563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960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31920" y="7854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970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7240" y="78548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6280" y="7854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00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192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419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93760" y="785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20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3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4120" y="6875640"/>
              <a:ext cx="187200" cy="938160"/>
            </a:xfrm>
            <a:custGeom>
              <a:avLst/>
              <a:gdLst/>
              <a:ahLst/>
              <a:rect l="l" t="t" r="r" b="b"/>
              <a:pathLst>
                <a:path w="118" h="591">
                  <a:moveTo>
                    <a:pt x="118" y="543"/>
                  </a:moveTo>
                  <a:lnTo>
                    <a:pt x="118" y="0"/>
                  </a:lnTo>
                  <a:lnTo>
                    <a:pt x="0" y="48"/>
                  </a:lnTo>
                  <a:lnTo>
                    <a:pt x="0" y="591"/>
                  </a:lnTo>
                  <a:lnTo>
                    <a:pt x="118" y="54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81240" y="6958080"/>
              <a:ext cx="536400" cy="849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74760" y="6875640"/>
              <a:ext cx="736560" cy="75960"/>
            </a:xfrm>
            <a:custGeom>
              <a:avLst/>
              <a:gdLst/>
              <a:ahLst/>
              <a:rect l="l" t="t" r="r" b="b"/>
              <a:pathLst>
                <a:path w="464" h="48">
                  <a:moveTo>
                    <a:pt x="464" y="0"/>
                  </a:moveTo>
                  <a:lnTo>
                    <a:pt x="346" y="48"/>
                  </a:lnTo>
                  <a:lnTo>
                    <a:pt x="0" y="48"/>
                  </a:lnTo>
                  <a:lnTo>
                    <a:pt x="118" y="0"/>
                  </a:lnTo>
                  <a:lnTo>
                    <a:pt x="46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46360" y="7653240"/>
              <a:ext cx="187200" cy="16056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118" y="53"/>
                  </a:moveTo>
                  <a:lnTo>
                    <a:pt x="118" y="0"/>
                  </a:lnTo>
                  <a:lnTo>
                    <a:pt x="0" y="53"/>
                  </a:lnTo>
                  <a:lnTo>
                    <a:pt x="0" y="101"/>
                  </a:lnTo>
                  <a:lnTo>
                    <a:pt x="118" y="5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04920" y="7743960"/>
              <a:ext cx="534960" cy="6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8800" y="7653240"/>
              <a:ext cx="734760" cy="84240"/>
            </a:xfrm>
            <a:custGeom>
              <a:avLst/>
              <a:gdLst/>
              <a:ahLst/>
              <a:rect l="l" t="t" r="r" b="b"/>
              <a:pathLst>
                <a:path w="463" h="53">
                  <a:moveTo>
                    <a:pt x="463" y="0"/>
                  </a:moveTo>
                  <a:lnTo>
                    <a:pt x="345" y="53"/>
                  </a:lnTo>
                  <a:lnTo>
                    <a:pt x="0" y="53"/>
                  </a:lnTo>
                  <a:lnTo>
                    <a:pt x="117" y="0"/>
                  </a:lnTo>
                  <a:lnTo>
                    <a:pt x="463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70400" y="7653240"/>
              <a:ext cx="187200" cy="16056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118" y="53"/>
                  </a:moveTo>
                  <a:lnTo>
                    <a:pt x="118" y="0"/>
                  </a:lnTo>
                  <a:lnTo>
                    <a:pt x="0" y="48"/>
                  </a:lnTo>
                  <a:lnTo>
                    <a:pt x="0" y="101"/>
                  </a:lnTo>
                  <a:lnTo>
                    <a:pt x="118" y="5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27520" y="7736040"/>
              <a:ext cx="536400" cy="71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1040" y="7653240"/>
              <a:ext cx="736560" cy="76320"/>
            </a:xfrm>
            <a:custGeom>
              <a:avLst/>
              <a:gdLst/>
              <a:ahLst/>
              <a:rect l="l" t="t" r="r" b="b"/>
              <a:pathLst>
                <a:path w="464" h="48">
                  <a:moveTo>
                    <a:pt x="464" y="0"/>
                  </a:moveTo>
                  <a:lnTo>
                    <a:pt x="346" y="48"/>
                  </a:lnTo>
                  <a:lnTo>
                    <a:pt x="0" y="48"/>
                  </a:lnTo>
                  <a:lnTo>
                    <a:pt x="118" y="0"/>
                  </a:lnTo>
                  <a:lnTo>
                    <a:pt x="464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80040" y="5813280"/>
              <a:ext cx="187200" cy="2000520"/>
            </a:xfrm>
            <a:custGeom>
              <a:avLst/>
              <a:gdLst/>
              <a:ahLst/>
              <a:rect l="l" t="t" r="r" b="b"/>
              <a:pathLst>
                <a:path w="118" h="1260">
                  <a:moveTo>
                    <a:pt x="118" y="1212"/>
                  </a:moveTo>
                  <a:lnTo>
                    <a:pt x="118" y="0"/>
                  </a:lnTo>
                  <a:lnTo>
                    <a:pt x="0" y="48"/>
                  </a:lnTo>
                  <a:lnTo>
                    <a:pt x="0" y="1260"/>
                  </a:lnTo>
                  <a:lnTo>
                    <a:pt x="118" y="121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38600" y="5896080"/>
              <a:ext cx="534960" cy="1911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2120" y="5813280"/>
              <a:ext cx="735120" cy="76320"/>
            </a:xfrm>
            <a:custGeom>
              <a:avLst/>
              <a:gdLst/>
              <a:ahLst/>
              <a:rect l="l" t="t" r="r" b="b"/>
              <a:pathLst>
                <a:path w="463" h="48">
                  <a:moveTo>
                    <a:pt x="463" y="0"/>
                  </a:moveTo>
                  <a:lnTo>
                    <a:pt x="345" y="48"/>
                  </a:lnTo>
                  <a:lnTo>
                    <a:pt x="0" y="48"/>
                  </a:lnTo>
                  <a:lnTo>
                    <a:pt x="118" y="0"/>
                  </a:lnTo>
                  <a:lnTo>
                    <a:pt x="46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3720" y="5432400"/>
              <a:ext cx="187560" cy="2381400"/>
            </a:xfrm>
            <a:custGeom>
              <a:avLst/>
              <a:gdLst/>
              <a:ahLst/>
              <a:rect l="l" t="t" r="r" b="b"/>
              <a:pathLst>
                <a:path w="118" h="1500">
                  <a:moveTo>
                    <a:pt x="118" y="1452"/>
                  </a:moveTo>
                  <a:lnTo>
                    <a:pt x="118" y="0"/>
                  </a:lnTo>
                  <a:lnTo>
                    <a:pt x="0" y="48"/>
                  </a:lnTo>
                  <a:lnTo>
                    <a:pt x="0" y="1500"/>
                  </a:lnTo>
                  <a:lnTo>
                    <a:pt x="118" y="1452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0840" y="5514840"/>
              <a:ext cx="536760" cy="2292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54360" y="5432400"/>
              <a:ext cx="736920" cy="76320"/>
            </a:xfrm>
            <a:custGeom>
              <a:avLst/>
              <a:gdLst/>
              <a:ahLst/>
              <a:rect l="l" t="t" r="r" b="b"/>
              <a:pathLst>
                <a:path w="464" h="48">
                  <a:moveTo>
                    <a:pt x="464" y="0"/>
                  </a:moveTo>
                  <a:lnTo>
                    <a:pt x="346" y="48"/>
                  </a:lnTo>
                  <a:lnTo>
                    <a:pt x="0" y="48"/>
                  </a:lnTo>
                  <a:lnTo>
                    <a:pt x="118" y="0"/>
                  </a:lnTo>
                  <a:lnTo>
                    <a:pt x="464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5960" y="7715160"/>
              <a:ext cx="187560" cy="98640"/>
            </a:xfrm>
            <a:custGeom>
              <a:avLst/>
              <a:gdLst/>
              <a:ahLst/>
              <a:rect l="l" t="t" r="r" b="b"/>
              <a:pathLst>
                <a:path w="118" h="62">
                  <a:moveTo>
                    <a:pt x="118" y="14"/>
                  </a:moveTo>
                  <a:lnTo>
                    <a:pt x="118" y="0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18" y="1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84880" y="7805880"/>
              <a:ext cx="534960" cy="1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8400" y="7715160"/>
              <a:ext cx="735120" cy="84240"/>
            </a:xfrm>
            <a:custGeom>
              <a:avLst/>
              <a:gdLst/>
              <a:ahLst/>
              <a:rect l="l" t="t" r="r" b="b"/>
              <a:pathLst>
                <a:path w="463" h="53">
                  <a:moveTo>
                    <a:pt x="463" y="0"/>
                  </a:moveTo>
                  <a:lnTo>
                    <a:pt x="345" y="53"/>
                  </a:lnTo>
                  <a:lnTo>
                    <a:pt x="0" y="53"/>
                  </a:lnTo>
                  <a:lnTo>
                    <a:pt x="118" y="0"/>
                  </a:lnTo>
                  <a:lnTo>
                    <a:pt x="463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38320" y="5432040"/>
              <a:ext cx="1440" cy="238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74240" y="781380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074240" y="757728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074240" y="734076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074240" y="709776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74240" y="686268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074240" y="662616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074240" y="638316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074240" y="614664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74240" y="591012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74240" y="567540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074240" y="543240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00160" y="7813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100160" y="7764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100160" y="77151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100160" y="76676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100160" y="76262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100160" y="75772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100160" y="75279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100160" y="7480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100160" y="74311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100160" y="73836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100160" y="7340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00160" y="72928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100160" y="72439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100160" y="71946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100160" y="71470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100160" y="7097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100160" y="7050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100160" y="7007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100160" y="69595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100160" y="69105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00160" y="68626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100160" y="68137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100160" y="6764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100160" y="67168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100160" y="6675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100160" y="66261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00160" y="65768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100160" y="6529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00160" y="64800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00160" y="64310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100160" y="63831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100160" y="63421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100160" y="62928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100160" y="62434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100160" y="61959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100160" y="61466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100160" y="60991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100160" y="60498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100160" y="6008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100160" y="59594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00160" y="59101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100160" y="58626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100160" y="58132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100160" y="57657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100160" y="57164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100160" y="5675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100160" y="56260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100160" y="55785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100160" y="5529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100160" y="54799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100160" y="5432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1720" y="766620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1720" y="742968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1720" y="719280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1720" y="695016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1720" y="671508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1720" y="647856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1720" y="623556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1720" y="599904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1720" y="576432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720" y="552780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1720" y="530388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38320" y="7813800"/>
              <a:ext cx="492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3832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6840" y="78138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792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4016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64200" y="78138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532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5088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014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1156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4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572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676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494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9996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100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18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420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2560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648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8464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9556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337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8592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08240" y="78548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47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705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083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196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563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0960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31920" y="7854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9708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17240" y="78548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16280" y="7854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800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192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4192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93760" y="7854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42000" y="785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3840" y="785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" y="6019920"/>
              <a:ext cx="322200" cy="13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36840" y="8034480"/>
              <a:ext cx="4073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 r u p o s   d e   e d 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57200" y="914400"/>
            <a:ext cx="60199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rtalidad hospitalaria según grupos de edad e i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 Nacional de Salud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880" y="1838160"/>
            <a:ext cx="1800" cy="235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64360" y="1819440"/>
            <a:ext cx="9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64360" y="2106720"/>
            <a:ext cx="9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38080" y="1752480"/>
          <a:ext cx="5257800" cy="251460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1752480"/>
                    <a:ext cx="5257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5328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unciones hospitalarias por institució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65160" y="1752480"/>
          <a:ext cx="52833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1752480"/>
                    <a:ext cx="52833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65200" y="3657600"/>
            <a:ext cx="30960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42960" y="7437600"/>
            <a:ext cx="4060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n s t i t u c i ó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1280" y="544320"/>
            <a:ext cx="543708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bilidad hospitalaria por capítulo de causa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751120" y="2521080"/>
            <a:ext cx="3512880" cy="5017320"/>
            <a:chOff x="2751120" y="2521080"/>
            <a:chExt cx="3512880" cy="5017320"/>
          </a:xfrm>
        </p:grpSpPr>
        <p:sp>
          <p:nvSpPr>
            <p:cNvPr id="384" name=""/>
            <p:cNvSpPr/>
            <p:nvPr/>
          </p:nvSpPr>
          <p:spPr>
            <a:xfrm>
              <a:off x="2751120" y="2521080"/>
              <a:ext cx="60480" cy="4802040"/>
            </a:xfrm>
            <a:custGeom>
              <a:avLst/>
              <a:gdLst/>
              <a:ahLst/>
              <a:rect l="l" t="t" r="r" b="b"/>
              <a:pathLst>
                <a:path w="38" h="3025">
                  <a:moveTo>
                    <a:pt x="38" y="0"/>
                  </a:moveTo>
                  <a:lnTo>
                    <a:pt x="0" y="27"/>
                  </a:lnTo>
                  <a:lnTo>
                    <a:pt x="0" y="3025"/>
                  </a:lnTo>
                  <a:lnTo>
                    <a:pt x="38" y="29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51120" y="2521080"/>
              <a:ext cx="60480" cy="4802040"/>
            </a:xfrm>
            <a:custGeom>
              <a:avLst/>
              <a:gdLst/>
              <a:ahLst/>
              <a:rect l="l" t="t" r="r" b="b"/>
              <a:pathLst>
                <a:path w="38" h="3025">
                  <a:moveTo>
                    <a:pt x="0" y="3025"/>
                  </a:moveTo>
                  <a:lnTo>
                    <a:pt x="38" y="2998"/>
                  </a:lnTo>
                  <a:lnTo>
                    <a:pt x="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38560" y="2521080"/>
              <a:ext cx="47520" cy="4802040"/>
            </a:xfrm>
            <a:custGeom>
              <a:avLst/>
              <a:gdLst/>
              <a:ahLst/>
              <a:rect l="l" t="t" r="r" b="b"/>
              <a:pathLst>
                <a:path w="30" h="3025">
                  <a:moveTo>
                    <a:pt x="0" y="3025"/>
                  </a:moveTo>
                  <a:lnTo>
                    <a:pt x="30" y="2998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14840" y="2521080"/>
              <a:ext cx="58680" cy="4802040"/>
            </a:xfrm>
            <a:custGeom>
              <a:avLst/>
              <a:gdLst/>
              <a:ahLst/>
              <a:rect l="l" t="t" r="r" b="b"/>
              <a:pathLst>
                <a:path w="37" h="3025">
                  <a:moveTo>
                    <a:pt x="0" y="3025"/>
                  </a:moveTo>
                  <a:lnTo>
                    <a:pt x="37" y="2998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00480" y="2521080"/>
              <a:ext cx="47520" cy="4802040"/>
            </a:xfrm>
            <a:custGeom>
              <a:avLst/>
              <a:gdLst/>
              <a:ahLst/>
              <a:rect l="l" t="t" r="r" b="b"/>
              <a:pathLst>
                <a:path w="30" h="3025">
                  <a:moveTo>
                    <a:pt x="0" y="3025"/>
                  </a:moveTo>
                  <a:lnTo>
                    <a:pt x="30" y="2998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76760" y="2521080"/>
              <a:ext cx="47520" cy="4802040"/>
            </a:xfrm>
            <a:custGeom>
              <a:avLst/>
              <a:gdLst/>
              <a:ahLst/>
              <a:rect l="l" t="t" r="r" b="b"/>
              <a:pathLst>
                <a:path w="30" h="3025">
                  <a:moveTo>
                    <a:pt x="0" y="3025"/>
                  </a:moveTo>
                  <a:lnTo>
                    <a:pt x="30" y="2998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51600" y="2521080"/>
              <a:ext cx="58680" cy="4802040"/>
            </a:xfrm>
            <a:custGeom>
              <a:avLst/>
              <a:gdLst/>
              <a:ahLst/>
              <a:rect l="l" t="t" r="r" b="b"/>
              <a:pathLst>
                <a:path w="37" h="3025">
                  <a:moveTo>
                    <a:pt x="0" y="3025"/>
                  </a:moveTo>
                  <a:lnTo>
                    <a:pt x="37" y="2998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521080"/>
              <a:ext cx="47880" cy="4802040"/>
            </a:xfrm>
            <a:custGeom>
              <a:avLst/>
              <a:gdLst/>
              <a:ahLst/>
              <a:rect l="l" t="t" r="r" b="b"/>
              <a:pathLst>
                <a:path w="30" h="3025">
                  <a:moveTo>
                    <a:pt x="0" y="3025"/>
                  </a:moveTo>
                  <a:lnTo>
                    <a:pt x="30" y="2998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13520" y="2521080"/>
              <a:ext cx="58680" cy="4802040"/>
            </a:xfrm>
            <a:custGeom>
              <a:avLst/>
              <a:gdLst/>
              <a:ahLst/>
              <a:rect l="l" t="t" r="r" b="b"/>
              <a:pathLst>
                <a:path w="37" h="3025">
                  <a:moveTo>
                    <a:pt x="0" y="3025"/>
                  </a:moveTo>
                  <a:lnTo>
                    <a:pt x="37" y="2998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1120" y="2521080"/>
              <a:ext cx="60480" cy="4802040"/>
            </a:xfrm>
            <a:custGeom>
              <a:avLst/>
              <a:gdLst/>
              <a:ahLst/>
              <a:rect l="l" t="t" r="r" b="b"/>
              <a:pathLst>
                <a:path w="38" h="3025">
                  <a:moveTo>
                    <a:pt x="38" y="0"/>
                  </a:moveTo>
                  <a:lnTo>
                    <a:pt x="0" y="27"/>
                  </a:lnTo>
                  <a:lnTo>
                    <a:pt x="0" y="3025"/>
                  </a:lnTo>
                  <a:lnTo>
                    <a:pt x="38" y="2998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51120" y="7280280"/>
              <a:ext cx="3421080" cy="42840"/>
            </a:xfrm>
            <a:custGeom>
              <a:avLst/>
              <a:gdLst/>
              <a:ahLst/>
              <a:rect l="l" t="t" r="r" b="b"/>
              <a:pathLst>
                <a:path w="2155" h="27">
                  <a:moveTo>
                    <a:pt x="0" y="27"/>
                  </a:moveTo>
                  <a:lnTo>
                    <a:pt x="2118" y="27"/>
                  </a:lnTo>
                  <a:lnTo>
                    <a:pt x="2155" y="0"/>
                  </a:lnTo>
                  <a:lnTo>
                    <a:pt x="38" y="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1600" y="2521080"/>
              <a:ext cx="3360600" cy="4759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3720" y="7080120"/>
              <a:ext cx="331920" cy="2880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2" y="0"/>
                  </a:moveTo>
                  <a:lnTo>
                    <a:pt x="209" y="0"/>
                  </a:lnTo>
                  <a:lnTo>
                    <a:pt x="195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751120" y="2563920"/>
              <a:ext cx="1440" cy="475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3720" y="7108920"/>
              <a:ext cx="309600" cy="17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7080120"/>
              <a:ext cx="22320" cy="200160"/>
            </a:xfrm>
            <a:custGeom>
              <a:avLst/>
              <a:gdLst/>
              <a:ahLst/>
              <a:rect l="l" t="t" r="r" b="b"/>
              <a:pathLst>
                <a:path w="14" h="126">
                  <a:moveTo>
                    <a:pt x="14" y="0"/>
                  </a:moveTo>
                  <a:lnTo>
                    <a:pt x="0" y="18"/>
                  </a:lnTo>
                  <a:lnTo>
                    <a:pt x="0" y="126"/>
                  </a:lnTo>
                  <a:lnTo>
                    <a:pt x="14" y="108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63720" y="6837480"/>
              <a:ext cx="747720" cy="28440"/>
            </a:xfrm>
            <a:custGeom>
              <a:avLst/>
              <a:gdLst/>
              <a:ahLst/>
              <a:rect l="l" t="t" r="r" b="b"/>
              <a:pathLst>
                <a:path w="471" h="18">
                  <a:moveTo>
                    <a:pt x="22" y="0"/>
                  </a:moveTo>
                  <a:lnTo>
                    <a:pt x="471" y="0"/>
                  </a:lnTo>
                  <a:lnTo>
                    <a:pt x="449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3720" y="6865920"/>
              <a:ext cx="712800" cy="185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76520" y="683748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63720" y="6594480"/>
              <a:ext cx="177840" cy="28440"/>
            </a:xfrm>
            <a:custGeom>
              <a:avLst/>
              <a:gdLst/>
              <a:ahLst/>
              <a:rect l="l" t="t" r="r" b="b"/>
              <a:pathLst>
                <a:path w="112" h="18">
                  <a:moveTo>
                    <a:pt x="22" y="0"/>
                  </a:moveTo>
                  <a:lnTo>
                    <a:pt x="112" y="0"/>
                  </a:lnTo>
                  <a:lnTo>
                    <a:pt x="9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63720" y="6622920"/>
              <a:ext cx="154080" cy="185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17800" y="659448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3720" y="6365880"/>
              <a:ext cx="177840" cy="28440"/>
            </a:xfrm>
            <a:custGeom>
              <a:avLst/>
              <a:gdLst/>
              <a:ahLst/>
              <a:rect l="l" t="t" r="r" b="b"/>
              <a:pathLst>
                <a:path w="112" h="18">
                  <a:moveTo>
                    <a:pt x="22" y="0"/>
                  </a:moveTo>
                  <a:lnTo>
                    <a:pt x="112" y="0"/>
                  </a:lnTo>
                  <a:lnTo>
                    <a:pt x="9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63720" y="6394320"/>
              <a:ext cx="142920" cy="185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06640" y="636588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63720" y="6122880"/>
              <a:ext cx="463680" cy="28800"/>
            </a:xfrm>
            <a:custGeom>
              <a:avLst/>
              <a:gdLst/>
              <a:ahLst/>
              <a:rect l="l" t="t" r="r" b="b"/>
              <a:pathLst>
                <a:path w="292" h="18">
                  <a:moveTo>
                    <a:pt x="22" y="0"/>
                  </a:moveTo>
                  <a:lnTo>
                    <a:pt x="292" y="0"/>
                  </a:lnTo>
                  <a:lnTo>
                    <a:pt x="27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63720" y="6151680"/>
              <a:ext cx="439920" cy="1857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03640" y="6122880"/>
              <a:ext cx="23760" cy="21456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63720" y="5880240"/>
              <a:ext cx="3349800" cy="28440"/>
            </a:xfrm>
            <a:custGeom>
              <a:avLst/>
              <a:gdLst/>
              <a:ahLst/>
              <a:rect l="l" t="t" r="r" b="b"/>
              <a:pathLst>
                <a:path w="2110" h="18">
                  <a:moveTo>
                    <a:pt x="22" y="0"/>
                  </a:moveTo>
                  <a:lnTo>
                    <a:pt x="2110" y="0"/>
                  </a:lnTo>
                  <a:lnTo>
                    <a:pt x="2088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63720" y="5908680"/>
              <a:ext cx="3314880" cy="1857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78600" y="588024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63720" y="5651640"/>
              <a:ext cx="795600" cy="28440"/>
            </a:xfrm>
            <a:custGeom>
              <a:avLst/>
              <a:gdLst/>
              <a:ahLst/>
              <a:rect l="l" t="t" r="r" b="b"/>
              <a:pathLst>
                <a:path w="501" h="18">
                  <a:moveTo>
                    <a:pt x="22" y="0"/>
                  </a:moveTo>
                  <a:lnTo>
                    <a:pt x="501" y="0"/>
                  </a:lnTo>
                  <a:lnTo>
                    <a:pt x="486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63720" y="5680080"/>
              <a:ext cx="771480" cy="1857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5200" y="5651640"/>
              <a:ext cx="2412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3720" y="5408640"/>
              <a:ext cx="262080" cy="28440"/>
            </a:xfrm>
            <a:custGeom>
              <a:avLst/>
              <a:gdLst/>
              <a:ahLst/>
              <a:rect l="l" t="t" r="r" b="b"/>
              <a:pathLst>
                <a:path w="165" h="18">
                  <a:moveTo>
                    <a:pt x="22" y="0"/>
                  </a:moveTo>
                  <a:lnTo>
                    <a:pt x="165" y="0"/>
                  </a:lnTo>
                  <a:lnTo>
                    <a:pt x="15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3720" y="5437080"/>
              <a:ext cx="238320" cy="1857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02040" y="540864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63720" y="5180040"/>
              <a:ext cx="130320" cy="284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22" y="0"/>
                  </a:moveTo>
                  <a:lnTo>
                    <a:pt x="82" y="0"/>
                  </a:lnTo>
                  <a:lnTo>
                    <a:pt x="6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63720" y="5208480"/>
              <a:ext cx="106560" cy="1717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70280" y="5180040"/>
              <a:ext cx="23760" cy="200160"/>
            </a:xfrm>
            <a:custGeom>
              <a:avLst/>
              <a:gdLst/>
              <a:ahLst/>
              <a:rect l="l" t="t" r="r" b="b"/>
              <a:pathLst>
                <a:path w="15" h="126">
                  <a:moveTo>
                    <a:pt x="15" y="0"/>
                  </a:moveTo>
                  <a:lnTo>
                    <a:pt x="0" y="18"/>
                  </a:lnTo>
                  <a:lnTo>
                    <a:pt x="0" y="126"/>
                  </a:lnTo>
                  <a:lnTo>
                    <a:pt x="15" y="10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63720" y="4935600"/>
              <a:ext cx="1009800" cy="28440"/>
            </a:xfrm>
            <a:custGeom>
              <a:avLst/>
              <a:gdLst/>
              <a:ahLst/>
              <a:rect l="l" t="t" r="r" b="b"/>
              <a:pathLst>
                <a:path w="636" h="18">
                  <a:moveTo>
                    <a:pt x="22" y="0"/>
                  </a:moveTo>
                  <a:lnTo>
                    <a:pt x="636" y="0"/>
                  </a:lnTo>
                  <a:lnTo>
                    <a:pt x="614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63720" y="4964040"/>
              <a:ext cx="974880" cy="1875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38600" y="4935600"/>
              <a:ext cx="34920" cy="21600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0"/>
                  </a:moveTo>
                  <a:lnTo>
                    <a:pt x="0" y="18"/>
                  </a:lnTo>
                  <a:lnTo>
                    <a:pt x="0" y="136"/>
                  </a:lnTo>
                  <a:lnTo>
                    <a:pt x="22" y="1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63720" y="4692600"/>
              <a:ext cx="652680" cy="28800"/>
            </a:xfrm>
            <a:custGeom>
              <a:avLst/>
              <a:gdLst/>
              <a:ahLst/>
              <a:rect l="l" t="t" r="r" b="b"/>
              <a:pathLst>
                <a:path w="411" h="18">
                  <a:moveTo>
                    <a:pt x="22" y="0"/>
                  </a:moveTo>
                  <a:lnTo>
                    <a:pt x="411" y="0"/>
                  </a:lnTo>
                  <a:lnTo>
                    <a:pt x="389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63720" y="4721400"/>
              <a:ext cx="617760" cy="1854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1480" y="469260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63720" y="4464000"/>
              <a:ext cx="511200" cy="28800"/>
            </a:xfrm>
            <a:custGeom>
              <a:avLst/>
              <a:gdLst/>
              <a:ahLst/>
              <a:rect l="l" t="t" r="r" b="b"/>
              <a:pathLst>
                <a:path w="322" h="18">
                  <a:moveTo>
                    <a:pt x="22" y="0"/>
                  </a:moveTo>
                  <a:lnTo>
                    <a:pt x="322" y="0"/>
                  </a:lnTo>
                  <a:lnTo>
                    <a:pt x="299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63720" y="4492800"/>
              <a:ext cx="474840" cy="1713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38560" y="4464000"/>
              <a:ext cx="36360" cy="200160"/>
            </a:xfrm>
            <a:custGeom>
              <a:avLst/>
              <a:gdLst/>
              <a:ahLst/>
              <a:rect l="l" t="t" r="r" b="b"/>
              <a:pathLst>
                <a:path w="23" h="126">
                  <a:moveTo>
                    <a:pt x="23" y="0"/>
                  </a:moveTo>
                  <a:lnTo>
                    <a:pt x="0" y="18"/>
                  </a:lnTo>
                  <a:lnTo>
                    <a:pt x="0" y="126"/>
                  </a:lnTo>
                  <a:lnTo>
                    <a:pt x="23" y="108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3720" y="4221000"/>
              <a:ext cx="58680" cy="288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22" y="0"/>
                  </a:moveTo>
                  <a:lnTo>
                    <a:pt x="37" y="0"/>
                  </a:lnTo>
                  <a:lnTo>
                    <a:pt x="22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3720" y="4249800"/>
              <a:ext cx="34920" cy="1857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8640" y="4221000"/>
              <a:ext cx="23760" cy="21456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3720" y="3978360"/>
              <a:ext cx="130320" cy="284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22" y="0"/>
                  </a:moveTo>
                  <a:lnTo>
                    <a:pt x="82" y="0"/>
                  </a:lnTo>
                  <a:lnTo>
                    <a:pt x="6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3720" y="4006800"/>
              <a:ext cx="95400" cy="1857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59120" y="397836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3720" y="3749760"/>
              <a:ext cx="130320" cy="284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22" y="0"/>
                  </a:moveTo>
                  <a:lnTo>
                    <a:pt x="82" y="0"/>
                  </a:lnTo>
                  <a:lnTo>
                    <a:pt x="6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3720" y="3778200"/>
              <a:ext cx="106560" cy="18576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70280" y="374976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63720" y="3506760"/>
              <a:ext cx="130320" cy="284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22" y="0"/>
                  </a:moveTo>
                  <a:lnTo>
                    <a:pt x="82" y="0"/>
                  </a:lnTo>
                  <a:lnTo>
                    <a:pt x="6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63720" y="3535200"/>
              <a:ext cx="106560" cy="18576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70280" y="350676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63720" y="3263760"/>
              <a:ext cx="368280" cy="28800"/>
            </a:xfrm>
            <a:custGeom>
              <a:avLst/>
              <a:gdLst/>
              <a:ahLst/>
              <a:rect l="l" t="t" r="r" b="b"/>
              <a:pathLst>
                <a:path w="232" h="18">
                  <a:moveTo>
                    <a:pt x="22" y="0"/>
                  </a:moveTo>
                  <a:lnTo>
                    <a:pt x="232" y="0"/>
                  </a:lnTo>
                  <a:lnTo>
                    <a:pt x="21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63720" y="3292560"/>
              <a:ext cx="344520" cy="18576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08240" y="3263760"/>
              <a:ext cx="23760" cy="21456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63720" y="3035160"/>
              <a:ext cx="82800" cy="2880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22" y="0"/>
                  </a:moveTo>
                  <a:lnTo>
                    <a:pt x="52" y="0"/>
                  </a:lnTo>
                  <a:lnTo>
                    <a:pt x="3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63720" y="3063960"/>
              <a:ext cx="58680" cy="18576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22400" y="3035160"/>
              <a:ext cx="24120" cy="21456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63720" y="2792520"/>
              <a:ext cx="569880" cy="28440"/>
            </a:xfrm>
            <a:custGeom>
              <a:avLst/>
              <a:gdLst/>
              <a:ahLst/>
              <a:rect l="l" t="t" r="r" b="b"/>
              <a:pathLst>
                <a:path w="359" h="18">
                  <a:moveTo>
                    <a:pt x="22" y="0"/>
                  </a:moveTo>
                  <a:lnTo>
                    <a:pt x="359" y="0"/>
                  </a:lnTo>
                  <a:lnTo>
                    <a:pt x="344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3720" y="2820960"/>
              <a:ext cx="546120" cy="1857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09840" y="279252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63720" y="2563920"/>
              <a:ext cx="30960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22" y="0"/>
                  </a:moveTo>
                  <a:lnTo>
                    <a:pt x="195" y="0"/>
                  </a:lnTo>
                  <a:lnTo>
                    <a:pt x="172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63720" y="2592360"/>
              <a:ext cx="273240" cy="1713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36960" y="2563920"/>
              <a:ext cx="36360" cy="199800"/>
            </a:xfrm>
            <a:custGeom>
              <a:avLst/>
              <a:gdLst/>
              <a:ahLst/>
              <a:rect l="l" t="t" r="r" b="b"/>
              <a:pathLst>
                <a:path w="23" h="126">
                  <a:moveTo>
                    <a:pt x="23" y="0"/>
                  </a:moveTo>
                  <a:lnTo>
                    <a:pt x="0" y="18"/>
                  </a:lnTo>
                  <a:lnTo>
                    <a:pt x="0" y="126"/>
                  </a:lnTo>
                  <a:lnTo>
                    <a:pt x="23" y="108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51120" y="7323120"/>
              <a:ext cx="3362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5112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856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1484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00480" y="73231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7676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5160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8680" y="73231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13520" y="73231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5112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912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5416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4956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316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3856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3360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0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244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1944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1484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0844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0384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1148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0544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0048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9588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9092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8632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8136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7676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036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6576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6080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62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516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578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5320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4824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364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3868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408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2768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2308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18120" y="73231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13520" y="73231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5436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8132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18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004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616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162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7496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436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0372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624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180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7856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3724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580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1812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768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372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450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0556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6424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2292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1992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8004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3908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99200" y="74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751120" y="2563920"/>
              <a:ext cx="1440" cy="475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922040" y="7072200"/>
            <a:ext cx="202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98360" y="6551640"/>
            <a:ext cx="202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93440" y="6284880"/>
            <a:ext cx="202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60560" y="5764320"/>
            <a:ext cx="181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19000" y="5497560"/>
            <a:ext cx="202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71640" y="5243400"/>
            <a:ext cx="181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85760" y="3935520"/>
            <a:ext cx="202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98360" y="3414600"/>
            <a:ext cx="202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25440" y="3147840"/>
            <a:ext cx="202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57600" y="7653240"/>
            <a:ext cx="346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 de egr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4120" y="5919840"/>
            <a:ext cx="129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. Embarazo, parto y puerpe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4480" y="4748040"/>
            <a:ext cx="158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. Enfermedades del sistema respirato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560" y="2998800"/>
            <a:ext cx="201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II. Enfermedades de la sangre y de los órgan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ematopoyéticos, y ciertos trastornos que afect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l mecanismo de la inmun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3760" y="2809800"/>
            <a:ext cx="1009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I. Tumores (neoplasia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560" y="2565360"/>
            <a:ext cx="1959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. Ciertas enfermedades infecciosas y parasitar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200" y="3298680"/>
            <a:ext cx="2152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V. Enfermedades endocrinas, nutricionales y metabó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2680" y="3576600"/>
            <a:ext cx="1728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. Trastornos mentales y del comport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4480" y="3819600"/>
            <a:ext cx="1513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. Enfermedades del sistema nervio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4120" y="4035600"/>
            <a:ext cx="1530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I. Enfermedades del ojo y sus anex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3400" y="4303800"/>
            <a:ext cx="2028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II. Enfermedades del oído y de la apófisis mastoi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4840" y="4529160"/>
            <a:ext cx="159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X. Enfermedades del sistema circulato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4840" y="5005440"/>
            <a:ext cx="1525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. Enfermedades del sistema diges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54480" y="5214960"/>
            <a:ext cx="1551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I. Enfermedades de la piel y del tejid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ubcutáne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3760" y="5451480"/>
            <a:ext cx="1764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II. Enfermedades del sistema osteomuscu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del tejido conjun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5560" y="5724360"/>
            <a:ext cx="1738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V. Enfermedades del sistema genitourina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560" y="6143760"/>
            <a:ext cx="15591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. Ciertas afecciones originadas en 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ríodo perina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4120" y="6388200"/>
            <a:ext cx="1866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I. Malformaciones congénitas, deformidade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omalías cromos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4480" y="6645240"/>
            <a:ext cx="2034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II. Síntomas, signos y hallazgos anormales clínic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de laboratorio, no clasificados en otra pa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3040" y="6864480"/>
            <a:ext cx="20041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X. Traumatismos, envenenamiento y algunas otr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secuencias de causas extern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3760" y="7094520"/>
            <a:ext cx="1888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X. Factores que influyen en el estado de salud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tacto con los servicios de sal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01280" y="577800"/>
            <a:ext cx="5419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es causas de morbilidad hospitala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53920" y="730080"/>
            <a:ext cx="5581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144880" y="2473200"/>
            <a:ext cx="3535200" cy="5146920"/>
            <a:chOff x="2144880" y="2473200"/>
            <a:chExt cx="3535200" cy="5146920"/>
          </a:xfrm>
        </p:grpSpPr>
        <p:sp>
          <p:nvSpPr>
            <p:cNvPr id="561" name=""/>
            <p:cNvSpPr/>
            <p:nvPr/>
          </p:nvSpPr>
          <p:spPr>
            <a:xfrm>
              <a:off x="2144880" y="247320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148" y="0"/>
                  </a:moveTo>
                  <a:lnTo>
                    <a:pt x="0" y="108"/>
                  </a:lnTo>
                  <a:lnTo>
                    <a:pt x="0" y="3097"/>
                  </a:lnTo>
                  <a:lnTo>
                    <a:pt x="148" y="2989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44880" y="247320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14680" y="2473200"/>
              <a:ext cx="233280" cy="4916520"/>
            </a:xfrm>
            <a:custGeom>
              <a:avLst/>
              <a:gdLst/>
              <a:ahLst/>
              <a:rect l="l" t="t" r="r" b="b"/>
              <a:pathLst>
                <a:path w="147" h="3097">
                  <a:moveTo>
                    <a:pt x="0" y="3097"/>
                  </a:moveTo>
                  <a:lnTo>
                    <a:pt x="147" y="2989"/>
                  </a:lnTo>
                  <a:lnTo>
                    <a:pt x="14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83040" y="247320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67240" y="2473200"/>
              <a:ext cx="220680" cy="4916520"/>
            </a:xfrm>
            <a:custGeom>
              <a:avLst/>
              <a:gdLst/>
              <a:ahLst/>
              <a:rect l="l" t="t" r="r" b="b"/>
              <a:pathLst>
                <a:path w="139" h="3097">
                  <a:moveTo>
                    <a:pt x="0" y="3097"/>
                  </a:moveTo>
                  <a:lnTo>
                    <a:pt x="139" y="2989"/>
                  </a:lnTo>
                  <a:lnTo>
                    <a:pt x="139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37040" y="2473200"/>
              <a:ext cx="220680" cy="4916520"/>
            </a:xfrm>
            <a:custGeom>
              <a:avLst/>
              <a:gdLst/>
              <a:ahLst/>
              <a:rect l="l" t="t" r="r" b="b"/>
              <a:pathLst>
                <a:path w="139" h="3097">
                  <a:moveTo>
                    <a:pt x="0" y="3097"/>
                  </a:moveTo>
                  <a:lnTo>
                    <a:pt x="139" y="2989"/>
                  </a:lnTo>
                  <a:lnTo>
                    <a:pt x="139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06840" y="2473200"/>
              <a:ext cx="233280" cy="4916520"/>
            </a:xfrm>
            <a:custGeom>
              <a:avLst/>
              <a:gdLst/>
              <a:ahLst/>
              <a:rect l="l" t="t" r="r" b="b"/>
              <a:pathLst>
                <a:path w="147" h="3097">
                  <a:moveTo>
                    <a:pt x="0" y="3097"/>
                  </a:moveTo>
                  <a:lnTo>
                    <a:pt x="147" y="2989"/>
                  </a:lnTo>
                  <a:lnTo>
                    <a:pt x="14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75200" y="2473200"/>
              <a:ext cx="23508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45000" y="2473200"/>
              <a:ext cx="23508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44880" y="247320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148" y="0"/>
                  </a:moveTo>
                  <a:lnTo>
                    <a:pt x="0" y="108"/>
                  </a:lnTo>
                  <a:lnTo>
                    <a:pt x="0" y="3097"/>
                  </a:lnTo>
                  <a:lnTo>
                    <a:pt x="148" y="2989"/>
                  </a:lnTo>
                  <a:lnTo>
                    <a:pt x="14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44880" y="7218360"/>
              <a:ext cx="3535200" cy="171360"/>
            </a:xfrm>
            <a:custGeom>
              <a:avLst/>
              <a:gdLst/>
              <a:ahLst/>
              <a:rect l="l" t="t" r="r" b="b"/>
              <a:pathLst>
                <a:path w="2227" h="108">
                  <a:moveTo>
                    <a:pt x="0" y="108"/>
                  </a:moveTo>
                  <a:lnTo>
                    <a:pt x="2079" y="108"/>
                  </a:lnTo>
                  <a:lnTo>
                    <a:pt x="2227" y="0"/>
                  </a:lnTo>
                  <a:lnTo>
                    <a:pt x="148" y="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79600" y="2473200"/>
              <a:ext cx="3300480" cy="47451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85920" y="6404040"/>
              <a:ext cx="731880" cy="114120"/>
            </a:xfrm>
            <a:custGeom>
              <a:avLst/>
              <a:gdLst/>
              <a:ahLst/>
              <a:rect l="l" t="t" r="r" b="b"/>
              <a:pathLst>
                <a:path w="461" h="72">
                  <a:moveTo>
                    <a:pt x="95" y="0"/>
                  </a:moveTo>
                  <a:lnTo>
                    <a:pt x="461" y="0"/>
                  </a:lnTo>
                  <a:lnTo>
                    <a:pt x="374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44880" y="2644920"/>
              <a:ext cx="1440" cy="4744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85920" y="6518160"/>
              <a:ext cx="593640" cy="72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79560" y="6404040"/>
              <a:ext cx="138240" cy="842760"/>
            </a:xfrm>
            <a:custGeom>
              <a:avLst/>
              <a:gdLst/>
              <a:ahLst/>
              <a:rect l="l" t="t" r="r" b="b"/>
              <a:pathLst>
                <a:path w="87" h="531">
                  <a:moveTo>
                    <a:pt x="87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87" y="459"/>
                  </a:lnTo>
                  <a:lnTo>
                    <a:pt x="8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5920" y="5460840"/>
              <a:ext cx="993960" cy="114480"/>
            </a:xfrm>
            <a:custGeom>
              <a:avLst/>
              <a:gdLst/>
              <a:ahLst/>
              <a:rect l="l" t="t" r="r" b="b"/>
              <a:pathLst>
                <a:path w="626" h="72">
                  <a:moveTo>
                    <a:pt x="95" y="0"/>
                  </a:moveTo>
                  <a:lnTo>
                    <a:pt x="626" y="0"/>
                  </a:lnTo>
                  <a:lnTo>
                    <a:pt x="539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85920" y="5575320"/>
              <a:ext cx="855720" cy="728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1640" y="5460840"/>
              <a:ext cx="138240" cy="843120"/>
            </a:xfrm>
            <a:custGeom>
              <a:avLst/>
              <a:gdLst/>
              <a:ahLst/>
              <a:rect l="l" t="t" r="r" b="b"/>
              <a:pathLst>
                <a:path w="87" h="531">
                  <a:moveTo>
                    <a:pt x="87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87" y="459"/>
                  </a:lnTo>
                  <a:lnTo>
                    <a:pt x="8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85920" y="4502160"/>
              <a:ext cx="1546200" cy="114120"/>
            </a:xfrm>
            <a:custGeom>
              <a:avLst/>
              <a:gdLst/>
              <a:ahLst/>
              <a:rect l="l" t="t" r="r" b="b"/>
              <a:pathLst>
                <a:path w="974" h="72">
                  <a:moveTo>
                    <a:pt x="95" y="0"/>
                  </a:moveTo>
                  <a:lnTo>
                    <a:pt x="974" y="0"/>
                  </a:lnTo>
                  <a:lnTo>
                    <a:pt x="879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85920" y="4616280"/>
              <a:ext cx="1395360" cy="7448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81280" y="4502160"/>
              <a:ext cx="150840" cy="858960"/>
            </a:xfrm>
            <a:custGeom>
              <a:avLst/>
              <a:gdLst/>
              <a:ahLst/>
              <a:rect l="l" t="t" r="r" b="b"/>
              <a:pathLst>
                <a:path w="95" h="541">
                  <a:moveTo>
                    <a:pt x="95" y="0"/>
                  </a:moveTo>
                  <a:lnTo>
                    <a:pt x="0" y="72"/>
                  </a:lnTo>
                  <a:lnTo>
                    <a:pt x="0" y="541"/>
                  </a:lnTo>
                  <a:lnTo>
                    <a:pt x="95" y="469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5920" y="3559320"/>
              <a:ext cx="2610000" cy="114120"/>
            </a:xfrm>
            <a:custGeom>
              <a:avLst/>
              <a:gdLst/>
              <a:ahLst/>
              <a:rect l="l" t="t" r="r" b="b"/>
              <a:pathLst>
                <a:path w="1644" h="72">
                  <a:moveTo>
                    <a:pt x="95" y="0"/>
                  </a:moveTo>
                  <a:lnTo>
                    <a:pt x="1644" y="0"/>
                  </a:lnTo>
                  <a:lnTo>
                    <a:pt x="1557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85920" y="3673440"/>
              <a:ext cx="2471760" cy="728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57680" y="3559320"/>
              <a:ext cx="138240" cy="842760"/>
            </a:xfrm>
            <a:custGeom>
              <a:avLst/>
              <a:gdLst/>
              <a:ahLst/>
              <a:rect l="l" t="t" r="r" b="b"/>
              <a:pathLst>
                <a:path w="87" h="531">
                  <a:moveTo>
                    <a:pt x="87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87" y="459"/>
                  </a:lnTo>
                  <a:lnTo>
                    <a:pt x="87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85920" y="2616120"/>
              <a:ext cx="3452760" cy="114480"/>
            </a:xfrm>
            <a:custGeom>
              <a:avLst/>
              <a:gdLst/>
              <a:ahLst/>
              <a:rect l="l" t="t" r="r" b="b"/>
              <a:pathLst>
                <a:path w="2175" h="72">
                  <a:moveTo>
                    <a:pt x="95" y="0"/>
                  </a:moveTo>
                  <a:lnTo>
                    <a:pt x="2175" y="0"/>
                  </a:lnTo>
                  <a:lnTo>
                    <a:pt x="2079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85920" y="2730600"/>
              <a:ext cx="3300480" cy="7286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6400" y="2616120"/>
              <a:ext cx="152280" cy="843120"/>
            </a:xfrm>
            <a:custGeom>
              <a:avLst/>
              <a:gdLst/>
              <a:ahLst/>
              <a:rect l="l" t="t" r="r" b="b"/>
              <a:pathLst>
                <a:path w="96" h="531">
                  <a:moveTo>
                    <a:pt x="96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96" y="459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44880" y="7389720"/>
              <a:ext cx="3300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448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146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672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370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0684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7520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4500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448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4172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3676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360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78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146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0972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0656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0340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0024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830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798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7672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7356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7040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672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496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4652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4336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4020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70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338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1632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1316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1000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0684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022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990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8296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7836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7520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7204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6888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65720" y="738972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4816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45000" y="738972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4956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4952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936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8776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196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952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5756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38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92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4176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736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420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1192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4204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118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7992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1184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816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00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8164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14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19880" y="746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144880" y="2644920"/>
              <a:ext cx="1440" cy="4744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376360" y="7729560"/>
            <a:ext cx="346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 de egr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6800" y="2820960"/>
            <a:ext cx="1596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us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stétricas directas (excepto abort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4200" y="4713120"/>
            <a:ext cx="160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umatismo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venenamientos y algunas otras consecuencias de causas exter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6040" y="5703840"/>
            <a:ext cx="1647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iertas afec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das en el período perinatal_x0003__x0016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1600" y="6770520"/>
            <a:ext cx="1622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bor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8640" y="3849840"/>
            <a:ext cx="1635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o ún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pontáne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01280" y="527040"/>
            <a:ext cx="543708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 por capítulo de causa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70200" y="7667640"/>
            <a:ext cx="3387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 e f u n c i o n 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4160" y="6097680"/>
            <a:ext cx="129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. Embarazo, parto y puerpe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4520" y="4848120"/>
            <a:ext cx="158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. Enfermedades del sistema respirato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2880" y="3022560"/>
            <a:ext cx="265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II. Enfermedades de la sangre y de los órgan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ematopoyéticos, y ciertos trastornos que afectan e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canismo de la inmun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3440" y="2865600"/>
            <a:ext cx="1009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I. Tumores (neoplasia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5600" y="2617920"/>
            <a:ext cx="2046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. Ciertas enfermedades infecciosas y parasitar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600" y="3330720"/>
            <a:ext cx="2038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V. Enfermedades endocrinas, nutricionale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etabó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2720" y="3592440"/>
            <a:ext cx="1728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. Trastornos mentales y del comportamie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4520" y="3859200"/>
            <a:ext cx="1513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. Enfermedades del sistema nervios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4160" y="4094280"/>
            <a:ext cx="15303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I. Enfermedades del ojo y sus anex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3440" y="4352760"/>
            <a:ext cx="2028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III. Enfermedades del oído y de la apófisis mastoid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880" y="4605480"/>
            <a:ext cx="159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X. Enfermedades del sistema circulato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4880" y="5097600"/>
            <a:ext cx="1525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. Enfermedades del sistema diges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600" y="5351400"/>
            <a:ext cx="212220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I. Enfermedades de la piel y del tejido subcutáne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3440" y="5568840"/>
            <a:ext cx="1764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II. Enfermedades del sistema osteomuscul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del tejido conjuntiv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240" y="5843520"/>
            <a:ext cx="1738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V. Enfermedades del sistema genitourinar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600" y="6365880"/>
            <a:ext cx="2135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. Ciertas afecciones originadas en el período perina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4160" y="6564240"/>
            <a:ext cx="1866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I. Malformaciones congénitas, deformidade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omalías cromosóm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725560" y="2535120"/>
            <a:ext cx="3524040" cy="4988880"/>
            <a:chOff x="2725560" y="2535120"/>
            <a:chExt cx="3524040" cy="4988880"/>
          </a:xfrm>
        </p:grpSpPr>
        <p:sp>
          <p:nvSpPr>
            <p:cNvPr id="683" name=""/>
            <p:cNvSpPr/>
            <p:nvPr/>
          </p:nvSpPr>
          <p:spPr>
            <a:xfrm>
              <a:off x="2725560" y="2535120"/>
              <a:ext cx="60480" cy="4773600"/>
            </a:xfrm>
            <a:custGeom>
              <a:avLst/>
              <a:gdLst/>
              <a:ahLst/>
              <a:rect l="l" t="t" r="r" b="b"/>
              <a:pathLst>
                <a:path w="38" h="3007">
                  <a:moveTo>
                    <a:pt x="38" y="0"/>
                  </a:moveTo>
                  <a:lnTo>
                    <a:pt x="0" y="36"/>
                  </a:lnTo>
                  <a:lnTo>
                    <a:pt x="0" y="3007"/>
                  </a:lnTo>
                  <a:lnTo>
                    <a:pt x="38" y="297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5560" y="2535120"/>
              <a:ext cx="60480" cy="4773600"/>
            </a:xfrm>
            <a:custGeom>
              <a:avLst/>
              <a:gdLst/>
              <a:ahLst/>
              <a:rect l="l" t="t" r="r" b="b"/>
              <a:pathLst>
                <a:path w="38" h="3007">
                  <a:moveTo>
                    <a:pt x="0" y="3007"/>
                  </a:moveTo>
                  <a:lnTo>
                    <a:pt x="38" y="2971"/>
                  </a:lnTo>
                  <a:lnTo>
                    <a:pt x="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03440" y="2535120"/>
              <a:ext cx="47880" cy="4773600"/>
            </a:xfrm>
            <a:custGeom>
              <a:avLst/>
              <a:gdLst/>
              <a:ahLst/>
              <a:rect l="l" t="t" r="r" b="b"/>
              <a:pathLst>
                <a:path w="30" h="3007">
                  <a:moveTo>
                    <a:pt x="0" y="3007"/>
                  </a:moveTo>
                  <a:lnTo>
                    <a:pt x="30" y="2971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68720" y="2535120"/>
              <a:ext cx="47520" cy="4773600"/>
            </a:xfrm>
            <a:custGeom>
              <a:avLst/>
              <a:gdLst/>
              <a:ahLst/>
              <a:rect l="l" t="t" r="r" b="b"/>
              <a:pathLst>
                <a:path w="30" h="3007">
                  <a:moveTo>
                    <a:pt x="0" y="3007"/>
                  </a:moveTo>
                  <a:lnTo>
                    <a:pt x="30" y="2971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4000" y="2535120"/>
              <a:ext cx="47520" cy="4773600"/>
            </a:xfrm>
            <a:custGeom>
              <a:avLst/>
              <a:gdLst/>
              <a:ahLst/>
              <a:rect l="l" t="t" r="r" b="b"/>
              <a:pathLst>
                <a:path w="30" h="3007">
                  <a:moveTo>
                    <a:pt x="0" y="3007"/>
                  </a:moveTo>
                  <a:lnTo>
                    <a:pt x="30" y="2971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98920" y="2535120"/>
              <a:ext cx="47880" cy="4773600"/>
            </a:xfrm>
            <a:custGeom>
              <a:avLst/>
              <a:gdLst/>
              <a:ahLst/>
              <a:rect l="l" t="t" r="r" b="b"/>
              <a:pathLst>
                <a:path w="30" h="3007">
                  <a:moveTo>
                    <a:pt x="0" y="3007"/>
                  </a:moveTo>
                  <a:lnTo>
                    <a:pt x="30" y="2971"/>
                  </a:lnTo>
                  <a:lnTo>
                    <a:pt x="3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64200" y="2535120"/>
              <a:ext cx="58680" cy="4773600"/>
            </a:xfrm>
            <a:custGeom>
              <a:avLst/>
              <a:gdLst/>
              <a:ahLst/>
              <a:rect l="l" t="t" r="r" b="b"/>
              <a:pathLst>
                <a:path w="37" h="3007">
                  <a:moveTo>
                    <a:pt x="0" y="3007"/>
                  </a:moveTo>
                  <a:lnTo>
                    <a:pt x="37" y="2971"/>
                  </a:lnTo>
                  <a:lnTo>
                    <a:pt x="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25560" y="2535120"/>
              <a:ext cx="60480" cy="4773600"/>
            </a:xfrm>
            <a:custGeom>
              <a:avLst/>
              <a:gdLst/>
              <a:ahLst/>
              <a:rect l="l" t="t" r="r" b="b"/>
              <a:pathLst>
                <a:path w="38" h="3007">
                  <a:moveTo>
                    <a:pt x="38" y="0"/>
                  </a:moveTo>
                  <a:lnTo>
                    <a:pt x="0" y="36"/>
                  </a:lnTo>
                  <a:lnTo>
                    <a:pt x="0" y="3007"/>
                  </a:lnTo>
                  <a:lnTo>
                    <a:pt x="38" y="2971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25560" y="7251840"/>
              <a:ext cx="3397320" cy="56880"/>
            </a:xfrm>
            <a:custGeom>
              <a:avLst/>
              <a:gdLst/>
              <a:ahLst/>
              <a:rect l="l" t="t" r="r" b="b"/>
              <a:pathLst>
                <a:path w="2140" h="36">
                  <a:moveTo>
                    <a:pt x="0" y="36"/>
                  </a:moveTo>
                  <a:lnTo>
                    <a:pt x="2103" y="36"/>
                  </a:lnTo>
                  <a:lnTo>
                    <a:pt x="2140" y="0"/>
                  </a:lnTo>
                  <a:lnTo>
                    <a:pt x="38" y="0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6040" y="2535120"/>
              <a:ext cx="3336840" cy="471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8520" y="7051680"/>
              <a:ext cx="617400" cy="28440"/>
            </a:xfrm>
            <a:custGeom>
              <a:avLst/>
              <a:gdLst/>
              <a:ahLst/>
              <a:rect l="l" t="t" r="r" b="b"/>
              <a:pathLst>
                <a:path w="389" h="18">
                  <a:moveTo>
                    <a:pt x="22" y="0"/>
                  </a:moveTo>
                  <a:lnTo>
                    <a:pt x="389" y="0"/>
                  </a:lnTo>
                  <a:lnTo>
                    <a:pt x="36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2725560" y="2592000"/>
              <a:ext cx="1800" cy="471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38520" y="7080120"/>
              <a:ext cx="582480" cy="185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1000" y="705168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38520" y="6794640"/>
              <a:ext cx="225360" cy="28440"/>
            </a:xfrm>
            <a:custGeom>
              <a:avLst/>
              <a:gdLst/>
              <a:ahLst/>
              <a:rect l="l" t="t" r="r" b="b"/>
              <a:pathLst>
                <a:path w="142" h="18">
                  <a:moveTo>
                    <a:pt x="22" y="0"/>
                  </a:moveTo>
                  <a:lnTo>
                    <a:pt x="142" y="0"/>
                  </a:lnTo>
                  <a:lnTo>
                    <a:pt x="12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8520" y="6823080"/>
              <a:ext cx="201600" cy="20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40120" y="6794640"/>
              <a:ext cx="23760" cy="22860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15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15" y="126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8520" y="6551640"/>
              <a:ext cx="522360" cy="28440"/>
            </a:xfrm>
            <a:custGeom>
              <a:avLst/>
              <a:gdLst/>
              <a:ahLst/>
              <a:rect l="l" t="t" r="r" b="b"/>
              <a:pathLst>
                <a:path w="329" h="18">
                  <a:moveTo>
                    <a:pt x="22" y="0"/>
                  </a:moveTo>
                  <a:lnTo>
                    <a:pt x="329" y="0"/>
                  </a:lnTo>
                  <a:lnTo>
                    <a:pt x="30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38520" y="6580080"/>
              <a:ext cx="487440" cy="185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25960" y="655164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38520" y="6308640"/>
              <a:ext cx="1733400" cy="28800"/>
            </a:xfrm>
            <a:custGeom>
              <a:avLst/>
              <a:gdLst/>
              <a:ahLst/>
              <a:rect l="l" t="t" r="r" b="b"/>
              <a:pathLst>
                <a:path w="1092" h="18">
                  <a:moveTo>
                    <a:pt x="22" y="0"/>
                  </a:moveTo>
                  <a:lnTo>
                    <a:pt x="1092" y="0"/>
                  </a:lnTo>
                  <a:lnTo>
                    <a:pt x="107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38520" y="6337440"/>
              <a:ext cx="1698480" cy="185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37000" y="630864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8520" y="6051600"/>
              <a:ext cx="95040" cy="2844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22" y="0"/>
                  </a:moveTo>
                  <a:lnTo>
                    <a:pt x="60" y="0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38520" y="6080040"/>
              <a:ext cx="71280" cy="2001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09800" y="6051600"/>
              <a:ext cx="23760" cy="22860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15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15" y="126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38520" y="5808600"/>
              <a:ext cx="630000" cy="28800"/>
            </a:xfrm>
            <a:custGeom>
              <a:avLst/>
              <a:gdLst/>
              <a:ahLst/>
              <a:rect l="l" t="t" r="r" b="b"/>
              <a:pathLst>
                <a:path w="397" h="18">
                  <a:moveTo>
                    <a:pt x="22" y="0"/>
                  </a:moveTo>
                  <a:lnTo>
                    <a:pt x="397" y="0"/>
                  </a:lnTo>
                  <a:lnTo>
                    <a:pt x="374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38520" y="5837400"/>
              <a:ext cx="593640" cy="1854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32160" y="5808600"/>
              <a:ext cx="36360" cy="214200"/>
            </a:xfrm>
            <a:custGeom>
              <a:avLst/>
              <a:gdLst/>
              <a:ahLst/>
              <a:rect l="l" t="t" r="r" b="b"/>
              <a:pathLst>
                <a:path w="23" h="135">
                  <a:moveTo>
                    <a:pt x="23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3" y="117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38520" y="5551560"/>
              <a:ext cx="106200" cy="2844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22" y="0"/>
                  </a:moveTo>
                  <a:lnTo>
                    <a:pt x="67" y="0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38520" y="5580000"/>
              <a:ext cx="71280" cy="2001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09800" y="5551560"/>
              <a:ext cx="34920" cy="228600"/>
            </a:xfrm>
            <a:custGeom>
              <a:avLst/>
              <a:gdLst/>
              <a:ahLst/>
              <a:rect l="l" t="t" r="r" b="b"/>
              <a:pathLst>
                <a:path w="22" h="144">
                  <a:moveTo>
                    <a:pt x="22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22" y="126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38520" y="530856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22" y="0"/>
                  </a:moveTo>
                  <a:lnTo>
                    <a:pt x="52" y="0"/>
                  </a:lnTo>
                  <a:lnTo>
                    <a:pt x="3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8520" y="5337000"/>
              <a:ext cx="47520" cy="1857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86040" y="5308560"/>
              <a:ext cx="34920" cy="21420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8520" y="5065560"/>
              <a:ext cx="1709640" cy="28800"/>
            </a:xfrm>
            <a:custGeom>
              <a:avLst/>
              <a:gdLst/>
              <a:ahLst/>
              <a:rect l="l" t="t" r="r" b="b"/>
              <a:pathLst>
                <a:path w="1077" h="18">
                  <a:moveTo>
                    <a:pt x="22" y="0"/>
                  </a:moveTo>
                  <a:lnTo>
                    <a:pt x="1077" y="0"/>
                  </a:lnTo>
                  <a:lnTo>
                    <a:pt x="1055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38520" y="5094360"/>
              <a:ext cx="1674720" cy="18576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13240" y="506556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38520" y="4807080"/>
              <a:ext cx="1436760" cy="28440"/>
            </a:xfrm>
            <a:custGeom>
              <a:avLst/>
              <a:gdLst/>
              <a:ahLst/>
              <a:rect l="l" t="t" r="r" b="b"/>
              <a:pathLst>
                <a:path w="905" h="18">
                  <a:moveTo>
                    <a:pt x="22" y="0"/>
                  </a:moveTo>
                  <a:lnTo>
                    <a:pt x="905" y="0"/>
                  </a:lnTo>
                  <a:lnTo>
                    <a:pt x="883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38520" y="4835520"/>
              <a:ext cx="1401840" cy="201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40360" y="48070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22" y="0"/>
                  </a:moveTo>
                  <a:lnTo>
                    <a:pt x="0" y="18"/>
                  </a:lnTo>
                  <a:lnTo>
                    <a:pt x="0" y="145"/>
                  </a:lnTo>
                  <a:lnTo>
                    <a:pt x="22" y="126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38520" y="4564080"/>
              <a:ext cx="2874960" cy="28440"/>
            </a:xfrm>
            <a:custGeom>
              <a:avLst/>
              <a:gdLst/>
              <a:ahLst/>
              <a:rect l="l" t="t" r="r" b="b"/>
              <a:pathLst>
                <a:path w="1811" h="18">
                  <a:moveTo>
                    <a:pt x="22" y="0"/>
                  </a:moveTo>
                  <a:lnTo>
                    <a:pt x="1811" y="0"/>
                  </a:lnTo>
                  <a:lnTo>
                    <a:pt x="1788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38520" y="4592520"/>
              <a:ext cx="2838240" cy="18576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76760" y="4564080"/>
              <a:ext cx="36720" cy="214200"/>
            </a:xfrm>
            <a:custGeom>
              <a:avLst/>
              <a:gdLst/>
              <a:ahLst/>
              <a:rect l="l" t="t" r="r" b="b"/>
              <a:pathLst>
                <a:path w="23" h="135">
                  <a:moveTo>
                    <a:pt x="23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3" y="117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38520" y="43210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0"/>
                  </a:moveTo>
                  <a:lnTo>
                    <a:pt x="2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38520" y="4349880"/>
              <a:ext cx="360" cy="1857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38520" y="43210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38520" y="406404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0"/>
                  </a:moveTo>
                  <a:lnTo>
                    <a:pt x="22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38520" y="4092480"/>
              <a:ext cx="360" cy="2001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38520" y="4064040"/>
              <a:ext cx="34920" cy="228600"/>
            </a:xfrm>
            <a:custGeom>
              <a:avLst/>
              <a:gdLst/>
              <a:ahLst/>
              <a:rect l="l" t="t" r="r" b="b"/>
              <a:pathLst>
                <a:path w="22" h="144">
                  <a:moveTo>
                    <a:pt x="22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22" y="126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8520" y="3821040"/>
              <a:ext cx="320760" cy="28800"/>
            </a:xfrm>
            <a:custGeom>
              <a:avLst/>
              <a:gdLst/>
              <a:ahLst/>
              <a:rect l="l" t="t" r="r" b="b"/>
              <a:pathLst>
                <a:path w="202" h="18">
                  <a:moveTo>
                    <a:pt x="22" y="0"/>
                  </a:moveTo>
                  <a:lnTo>
                    <a:pt x="202" y="0"/>
                  </a:lnTo>
                  <a:lnTo>
                    <a:pt x="180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38520" y="3849840"/>
              <a:ext cx="285840" cy="1857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24360" y="382104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22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2" y="117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38520" y="3564000"/>
              <a:ext cx="119160" cy="2844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22" y="0"/>
                  </a:moveTo>
                  <a:lnTo>
                    <a:pt x="75" y="0"/>
                  </a:lnTo>
                  <a:lnTo>
                    <a:pt x="52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8520" y="3592440"/>
              <a:ext cx="82440" cy="20016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20960" y="3564000"/>
              <a:ext cx="36720" cy="228600"/>
            </a:xfrm>
            <a:custGeom>
              <a:avLst/>
              <a:gdLst/>
              <a:ahLst/>
              <a:rect l="l" t="t" r="r" b="b"/>
              <a:pathLst>
                <a:path w="23" h="144">
                  <a:moveTo>
                    <a:pt x="23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23" y="126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38520" y="3321000"/>
              <a:ext cx="2185920" cy="28800"/>
            </a:xfrm>
            <a:custGeom>
              <a:avLst/>
              <a:gdLst/>
              <a:ahLst/>
              <a:rect l="l" t="t" r="r" b="b"/>
              <a:pathLst>
                <a:path w="1377" h="18">
                  <a:moveTo>
                    <a:pt x="22" y="0"/>
                  </a:moveTo>
                  <a:lnTo>
                    <a:pt x="1377" y="0"/>
                  </a:lnTo>
                  <a:lnTo>
                    <a:pt x="1362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38520" y="3349800"/>
              <a:ext cx="2162160" cy="1854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00680" y="3321000"/>
              <a:ext cx="23760" cy="21420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38520" y="3078000"/>
              <a:ext cx="142920" cy="28800"/>
            </a:xfrm>
            <a:custGeom>
              <a:avLst/>
              <a:gdLst/>
              <a:ahLst/>
              <a:rect l="l" t="t" r="r" b="b"/>
              <a:pathLst>
                <a:path w="90" h="18">
                  <a:moveTo>
                    <a:pt x="22" y="0"/>
                  </a:moveTo>
                  <a:lnTo>
                    <a:pt x="90" y="0"/>
                  </a:lnTo>
                  <a:lnTo>
                    <a:pt x="6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38520" y="3106800"/>
              <a:ext cx="106200" cy="18576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44720" y="3078000"/>
              <a:ext cx="36720" cy="214560"/>
            </a:xfrm>
            <a:custGeom>
              <a:avLst/>
              <a:gdLst/>
              <a:ahLst/>
              <a:rect l="l" t="t" r="r" b="b"/>
              <a:pathLst>
                <a:path w="23" h="135">
                  <a:moveTo>
                    <a:pt x="23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23" y="117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38520" y="2820960"/>
              <a:ext cx="1746000" cy="28440"/>
            </a:xfrm>
            <a:custGeom>
              <a:avLst/>
              <a:gdLst/>
              <a:ahLst/>
              <a:rect l="l" t="t" r="r" b="b"/>
              <a:pathLst>
                <a:path w="1100" h="18">
                  <a:moveTo>
                    <a:pt x="22" y="0"/>
                  </a:moveTo>
                  <a:lnTo>
                    <a:pt x="1100" y="0"/>
                  </a:lnTo>
                  <a:lnTo>
                    <a:pt x="1077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38520" y="2849400"/>
              <a:ext cx="1709640" cy="20016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48160" y="2820960"/>
              <a:ext cx="36360" cy="228600"/>
            </a:xfrm>
            <a:custGeom>
              <a:avLst/>
              <a:gdLst/>
              <a:ahLst/>
              <a:rect l="l" t="t" r="r" b="b"/>
              <a:pathLst>
                <a:path w="23" h="144">
                  <a:moveTo>
                    <a:pt x="23" y="0"/>
                  </a:moveTo>
                  <a:lnTo>
                    <a:pt x="0" y="18"/>
                  </a:lnTo>
                  <a:lnTo>
                    <a:pt x="0" y="144"/>
                  </a:lnTo>
                  <a:lnTo>
                    <a:pt x="23" y="126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38520" y="2577960"/>
              <a:ext cx="807840" cy="28800"/>
            </a:xfrm>
            <a:custGeom>
              <a:avLst/>
              <a:gdLst/>
              <a:ahLst/>
              <a:rect l="l" t="t" r="r" b="b"/>
              <a:pathLst>
                <a:path w="509" h="18">
                  <a:moveTo>
                    <a:pt x="22" y="0"/>
                  </a:moveTo>
                  <a:lnTo>
                    <a:pt x="509" y="0"/>
                  </a:lnTo>
                  <a:lnTo>
                    <a:pt x="494" y="18"/>
                  </a:lnTo>
                  <a:lnTo>
                    <a:pt x="0" y="18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8520" y="2606760"/>
              <a:ext cx="784080" cy="1857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2600" y="2577960"/>
              <a:ext cx="23760" cy="214560"/>
            </a:xfrm>
            <a:custGeom>
              <a:avLst/>
              <a:gdLst/>
              <a:ahLst/>
              <a:rect l="l" t="t" r="r" b="b"/>
              <a:pathLst>
                <a:path w="15" h="135">
                  <a:moveTo>
                    <a:pt x="15" y="0"/>
                  </a:moveTo>
                  <a:lnTo>
                    <a:pt x="0" y="18"/>
                  </a:lnTo>
                  <a:lnTo>
                    <a:pt x="0" y="135"/>
                  </a:lnTo>
                  <a:lnTo>
                    <a:pt x="15" y="117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25560" y="7308720"/>
              <a:ext cx="3338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25560" y="73087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03440" y="73087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8720" y="73087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34000" y="730872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98920" y="73087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64200" y="730872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2556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6848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0024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3056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6088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0344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3376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6552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584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3876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6872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9904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3080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6076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0368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3400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396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99572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3720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6896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9892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2924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6100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0248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34240" y="7308720"/>
              <a:ext cx="144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64200" y="7308720"/>
              <a:ext cx="1800" cy="4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288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098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703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290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948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136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1148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05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306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893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166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7676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354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959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546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8156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420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007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612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1988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4684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073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660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2612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84800" y="738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25560" y="2592000"/>
              <a:ext cx="1800" cy="4716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24160" y="6810480"/>
            <a:ext cx="2034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VII. Síntomas, signos y hallazgos anormales clínic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 de la laboratorio, no clasificados en otra pa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4880" y="7113600"/>
            <a:ext cx="1841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XIX. Causas externas de morbilidad y mortali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01640" y="527040"/>
            <a:ext cx="547056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es causas de mortalida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178000" y="7742160"/>
            <a:ext cx="346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 e f u n c i o n 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47560" y="2523960"/>
            <a:ext cx="5570640" cy="5146920"/>
            <a:chOff x="547560" y="2523960"/>
            <a:chExt cx="5570640" cy="5146920"/>
          </a:xfrm>
        </p:grpSpPr>
        <p:sp>
          <p:nvSpPr>
            <p:cNvPr id="815" name=""/>
            <p:cNvSpPr/>
            <p:nvPr/>
          </p:nvSpPr>
          <p:spPr>
            <a:xfrm>
              <a:off x="598320" y="2935440"/>
              <a:ext cx="15973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betes mellit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5720" y="4802040"/>
              <a:ext cx="1609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ertas afeccion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riginadas en el período perinatal_x0003__x0016_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7560" y="5932440"/>
              <a:ext cx="1648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mores malig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3120" y="6808680"/>
              <a:ext cx="1622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fermedades cerebrovascula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520" y="3951360"/>
              <a:ext cx="1635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fermedades del coraz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83000" y="252396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148" y="0"/>
                  </a:moveTo>
                  <a:lnTo>
                    <a:pt x="0" y="108"/>
                  </a:lnTo>
                  <a:lnTo>
                    <a:pt x="0" y="3097"/>
                  </a:lnTo>
                  <a:lnTo>
                    <a:pt x="148" y="2989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83000" y="252396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687840" y="252396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778280" y="2523960"/>
              <a:ext cx="23508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83120" y="2523960"/>
              <a:ext cx="23508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0" y="3097"/>
                  </a:moveTo>
                  <a:lnTo>
                    <a:pt x="148" y="2989"/>
                  </a:lnTo>
                  <a:lnTo>
                    <a:pt x="148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83000" y="2523960"/>
              <a:ext cx="234720" cy="4916520"/>
            </a:xfrm>
            <a:custGeom>
              <a:avLst/>
              <a:gdLst/>
              <a:ahLst/>
              <a:rect l="l" t="t" r="r" b="b"/>
              <a:pathLst>
                <a:path w="148" h="3097">
                  <a:moveTo>
                    <a:pt x="148" y="0"/>
                  </a:moveTo>
                  <a:lnTo>
                    <a:pt x="0" y="108"/>
                  </a:lnTo>
                  <a:lnTo>
                    <a:pt x="0" y="3097"/>
                  </a:lnTo>
                  <a:lnTo>
                    <a:pt x="148" y="2989"/>
                  </a:lnTo>
                  <a:lnTo>
                    <a:pt x="148" y="0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83000" y="7269120"/>
              <a:ext cx="3535200" cy="171360"/>
            </a:xfrm>
            <a:custGeom>
              <a:avLst/>
              <a:gdLst/>
              <a:ahLst/>
              <a:rect l="l" t="t" r="r" b="b"/>
              <a:pathLst>
                <a:path w="2227" h="108">
                  <a:moveTo>
                    <a:pt x="0" y="108"/>
                  </a:moveTo>
                  <a:lnTo>
                    <a:pt x="2079" y="108"/>
                  </a:lnTo>
                  <a:lnTo>
                    <a:pt x="2227" y="0"/>
                  </a:lnTo>
                  <a:lnTo>
                    <a:pt x="148" y="0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17720" y="2523960"/>
              <a:ext cx="3300480" cy="47451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24040" y="6454800"/>
              <a:ext cx="1754280" cy="114120"/>
            </a:xfrm>
            <a:custGeom>
              <a:avLst/>
              <a:gdLst/>
              <a:ahLst/>
              <a:rect l="l" t="t" r="r" b="b"/>
              <a:pathLst>
                <a:path w="1105" h="72">
                  <a:moveTo>
                    <a:pt x="95" y="0"/>
                  </a:moveTo>
                  <a:lnTo>
                    <a:pt x="1105" y="0"/>
                  </a:lnTo>
                  <a:lnTo>
                    <a:pt x="1018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583000" y="2695680"/>
              <a:ext cx="1440" cy="4744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24040" y="6568920"/>
              <a:ext cx="1616040" cy="72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40080" y="6454800"/>
              <a:ext cx="138240" cy="842760"/>
            </a:xfrm>
            <a:custGeom>
              <a:avLst/>
              <a:gdLst/>
              <a:ahLst/>
              <a:rect l="l" t="t" r="r" b="b"/>
              <a:pathLst>
                <a:path w="87" h="531">
                  <a:moveTo>
                    <a:pt x="87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87" y="459"/>
                  </a:lnTo>
                  <a:lnTo>
                    <a:pt x="8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24040" y="5511960"/>
              <a:ext cx="2803680" cy="114120"/>
            </a:xfrm>
            <a:custGeom>
              <a:avLst/>
              <a:gdLst/>
              <a:ahLst/>
              <a:rect l="l" t="t" r="r" b="b"/>
              <a:pathLst>
                <a:path w="1766" h="72">
                  <a:moveTo>
                    <a:pt x="95" y="0"/>
                  </a:moveTo>
                  <a:lnTo>
                    <a:pt x="1766" y="0"/>
                  </a:lnTo>
                  <a:lnTo>
                    <a:pt x="1670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4040" y="5626080"/>
              <a:ext cx="2651400" cy="728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5440" y="5511960"/>
              <a:ext cx="152280" cy="842760"/>
            </a:xfrm>
            <a:custGeom>
              <a:avLst/>
              <a:gdLst/>
              <a:ahLst/>
              <a:rect l="l" t="t" r="r" b="b"/>
              <a:pathLst>
                <a:path w="96" h="531">
                  <a:moveTo>
                    <a:pt x="96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96" y="459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624040" y="4552920"/>
              <a:ext cx="2955960" cy="114480"/>
            </a:xfrm>
            <a:custGeom>
              <a:avLst/>
              <a:gdLst/>
              <a:ahLst/>
              <a:rect l="l" t="t" r="r" b="b"/>
              <a:pathLst>
                <a:path w="1862" h="72">
                  <a:moveTo>
                    <a:pt x="95" y="0"/>
                  </a:moveTo>
                  <a:lnTo>
                    <a:pt x="1862" y="0"/>
                  </a:lnTo>
                  <a:lnTo>
                    <a:pt x="1766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24040" y="4667400"/>
              <a:ext cx="2803680" cy="744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7720" y="4552920"/>
              <a:ext cx="152280" cy="858960"/>
            </a:xfrm>
            <a:custGeom>
              <a:avLst/>
              <a:gdLst/>
              <a:ahLst/>
              <a:rect l="l" t="t" r="r" b="b"/>
              <a:pathLst>
                <a:path w="96" h="541">
                  <a:moveTo>
                    <a:pt x="96" y="0"/>
                  </a:moveTo>
                  <a:lnTo>
                    <a:pt x="0" y="72"/>
                  </a:lnTo>
                  <a:lnTo>
                    <a:pt x="0" y="541"/>
                  </a:lnTo>
                  <a:lnTo>
                    <a:pt x="96" y="469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24040" y="3610080"/>
              <a:ext cx="2997360" cy="114120"/>
            </a:xfrm>
            <a:custGeom>
              <a:avLst/>
              <a:gdLst/>
              <a:ahLst/>
              <a:rect l="l" t="t" r="r" b="b"/>
              <a:pathLst>
                <a:path w="1888" h="72">
                  <a:moveTo>
                    <a:pt x="95" y="0"/>
                  </a:moveTo>
                  <a:lnTo>
                    <a:pt x="1888" y="0"/>
                  </a:lnTo>
                  <a:lnTo>
                    <a:pt x="1801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24040" y="3724200"/>
              <a:ext cx="2859120" cy="728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83160" y="3610080"/>
              <a:ext cx="138240" cy="842760"/>
            </a:xfrm>
            <a:custGeom>
              <a:avLst/>
              <a:gdLst/>
              <a:ahLst/>
              <a:rect l="l" t="t" r="r" b="b"/>
              <a:pathLst>
                <a:path w="87" h="531">
                  <a:moveTo>
                    <a:pt x="87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87" y="459"/>
                  </a:lnTo>
                  <a:lnTo>
                    <a:pt x="87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24040" y="2666880"/>
              <a:ext cx="3259080" cy="114480"/>
            </a:xfrm>
            <a:custGeom>
              <a:avLst/>
              <a:gdLst/>
              <a:ahLst/>
              <a:rect l="l" t="t" r="r" b="b"/>
              <a:pathLst>
                <a:path w="2053" h="72">
                  <a:moveTo>
                    <a:pt x="95" y="0"/>
                  </a:moveTo>
                  <a:lnTo>
                    <a:pt x="2053" y="0"/>
                  </a:lnTo>
                  <a:lnTo>
                    <a:pt x="1957" y="72"/>
                  </a:lnTo>
                  <a:lnTo>
                    <a:pt x="0" y="72"/>
                  </a:lnTo>
                  <a:lnTo>
                    <a:pt x="95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24040" y="2781360"/>
              <a:ext cx="3106800" cy="7286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730840" y="2666880"/>
              <a:ext cx="152280" cy="843120"/>
            </a:xfrm>
            <a:custGeom>
              <a:avLst/>
              <a:gdLst/>
              <a:ahLst/>
              <a:rect l="l" t="t" r="r" b="b"/>
              <a:pathLst>
                <a:path w="96" h="531">
                  <a:moveTo>
                    <a:pt x="96" y="0"/>
                  </a:moveTo>
                  <a:lnTo>
                    <a:pt x="0" y="72"/>
                  </a:lnTo>
                  <a:lnTo>
                    <a:pt x="0" y="531"/>
                  </a:lnTo>
                  <a:lnTo>
                    <a:pt x="96" y="459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583000" y="7440480"/>
              <a:ext cx="3300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8300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8784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77828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8312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8300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0368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2436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24468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784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0852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2920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4988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7200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828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9896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2144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42120" y="7440480"/>
              <a:ext cx="144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6244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83120" y="7440480"/>
              <a:ext cx="1800" cy="42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58768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8308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5148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132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688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1492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8476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5316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92300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5172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1976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8960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5800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27840" y="7518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583000" y="2695680"/>
              <a:ext cx="1440" cy="4744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11-11T16:22:57Z</dcterms:created>
  <dc:creator/>
  <dc:description/>
  <dc:language>en-US</dc:language>
  <cp:lastModifiedBy>Dirección de Estadística</cp:lastModifiedBy>
  <cp:lastPrinted>2002-11-27T10:38:03Z</cp:lastPrinted>
  <dcterms:modified xsi:type="dcterms:W3CDTF">2002-11-27T10:39:32Z</dcterms:modified>
  <cp:revision>21</cp:revision>
  <dc:subject/>
  <dc:title>Egresos hospitalarios por grupos de edad 2000</dc:title>
</cp:coreProperties>
</file>