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4580-ECFE-4E2F-A29F-AD76E7BB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C74-7B0D-4976-A7B7-82812003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5579-4022-4C37-A464-E812C406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D79-2CAF-4BE0-B513-500ECEDD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C77-F107-4FB2-8FF5-9DFEDE95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2708-7A6E-45C4-A008-1E4A59DA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D1F-3C88-401B-8DA9-CBFAA994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E5AE-4CD6-4F7D-97DF-2333025C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B0BD-3511-40D7-98FD-7E20D58F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A55D-E36A-4172-BA73-EEAC524F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6E83-C081-4C57-87C8-FF599033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AF4B-DDBA-43E8-A208-09C8313A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3710-AF33-4ECC-A475-0B4823ADD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371600"/>
            <a:ext cx="5410080" cy="71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MA NACIONAL DE S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ETÍ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FORMACIÓ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D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ños a la 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ÚME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V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UM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II                                  AÑO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92040" y="777960"/>
            <a:ext cx="247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ISTEMA  NACIONAL  DE 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06360" y="1127160"/>
            <a:ext cx="444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GRUPO INTERINSTITUCIONAL DE INFORMACIÓN EN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25760" y="1655640"/>
            <a:ext cx="181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CRETARÍA DE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28040" y="2004840"/>
            <a:ext cx="241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. RAFAEL LOZANO ASCEN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400" y="2181240"/>
            <a:ext cx="197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ORDINADOR 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2666880"/>
            <a:ext cx="170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C. RAUL WONG LU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88400" y="2881440"/>
            <a:ext cx="172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CRETARIO TÉ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65440" y="3583080"/>
            <a:ext cx="333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TITUTO MEXICANO DEL SEGURO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62520" y="3757680"/>
            <a:ext cx="254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ÉGIMEN DE SEGURIDAD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70440" y="4108320"/>
            <a:ext cx="254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A. SONIA FERNÁNDEZ CANT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74960" y="4282920"/>
            <a:ext cx="2919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JEFE DE LA DIVISIÓN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0000" y="4459320"/>
            <a:ext cx="182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ÉDICA Y DESARRO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5440" y="5159520"/>
            <a:ext cx="333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TITUTO MEXICANO DEL SEGURO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99760" y="5335560"/>
            <a:ext cx="206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ÉGIMEN DE SOLIDAR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76640" y="5686560"/>
            <a:ext cx="229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. MARIO MUNGUÍA RAMÍ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8440" y="5861160"/>
            <a:ext cx="2131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ITULAR DE LA DIVISIÓN 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55480" y="6035760"/>
            <a:ext cx="215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LANEACIÓN Y EVALU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04800" y="6737400"/>
            <a:ext cx="385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TITUTO DE SEGURIDAD Y SERVICIOS SO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7840" y="6912000"/>
            <a:ext cx="290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 LOS TRABAJADORES DEL ES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37120" y="7262640"/>
            <a:ext cx="219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C. HILDA MORALES MOL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54200" y="7439040"/>
            <a:ext cx="1757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JEFE DE SERVICIOS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10480" y="7613640"/>
            <a:ext cx="224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ADÍSTICA  INSTITU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458080" y="779400"/>
            <a:ext cx="1951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ETRÓLEOS  MEXIC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9480" y="1128600"/>
            <a:ext cx="258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. DELFINO GARCÍA HERNÁND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65400" y="1305000"/>
            <a:ext cx="2535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ORDINADOR  DE  PROGRA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96920" y="1479600"/>
            <a:ext cx="283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ENFERMEDADES TRANSMISI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78120" y="2181240"/>
            <a:ext cx="3108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CRETARÍA DE LA DEFENSA 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92800" y="2532240"/>
            <a:ext cx="328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YOR M. C. ARIADNA MA. POZOS VICA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6760" y="2706840"/>
            <a:ext cx="372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JEFA DE LA SECCIÓN DE PLANES Y SUPERV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42240" y="3406680"/>
            <a:ext cx="198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CRETARÍA  DE  MA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36080" y="3757680"/>
            <a:ext cx="2995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IENTE DE CORBETA S.N. M.C. M.S.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53640" y="3933720"/>
            <a:ext cx="315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A. ASUNCIÓN E. CERVANTES SALG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56640" y="4108320"/>
            <a:ext cx="374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UBDIRECTORA DE MEDICINA PREVENTIVA D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55800" y="4282920"/>
            <a:ext cx="31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RECCIÓN GENERAL DE SANIDAD NA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14080" y="4984920"/>
            <a:ext cx="2041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ISTEMA NACIONAL PA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49849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10880" y="5159520"/>
            <a:ext cx="3048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SARROLLO INTEGRAL DE LA FAM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90080" y="5510160"/>
            <a:ext cx="288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C. VÍCTOR MANUEL FLORES B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51720" y="5686560"/>
            <a:ext cx="256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UBDIRECTOR DE PRESUPUE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30680" y="6386400"/>
            <a:ext cx="300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TITUTO NACIONAL DE ESTADÍSTIC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46840" y="6562800"/>
            <a:ext cx="217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GEOGRAFÍA 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68920" y="6912000"/>
            <a:ext cx="273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CT. ANTONIO ESCOBEDO AGUIR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35320" y="7088040"/>
            <a:ext cx="219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RECTOR DE ESTADÍST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7840" y="7262640"/>
            <a:ext cx="219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MOGRÁFICAS Y SO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457200"/>
            <a:ext cx="2895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868680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133720"/>
            <a:ext cx="55623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ORDINADORE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r. Rafael Lozano Ascen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ic. Raul Wong Lu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ORDINACION DE EDI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r. Luis Manuel Torres Pala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. Juan José Gonzales Vilc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ic. Ángela Santillán Chá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. Jorge Lara Bá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POYO TÉ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. Alejandra Cid Gar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. Lorena Garcia Pé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V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. AlbertoVillegas Sánch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. Amanda Guadalupe Islas Verg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. Araceli López B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. Bertha Lilian Vázquez Sier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. Eduardo Ortega Mo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3520" y="457200"/>
            <a:ext cx="2895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868680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5240" y="3497400"/>
            <a:ext cx="33703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II. Morbilidad Hospital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(Lista Condensada de Morbilid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Nacional y p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Entidad Federa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457200"/>
            <a:ext cx="2895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868680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79040" y="3497400"/>
            <a:ext cx="33811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II. Mortalidad Hospital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(Lista Condensada de Mortalid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Nacional y p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Entidad Federa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07:35:03Z</dcterms:created>
  <dc:creator>Dirección de Estadística</dc:creator>
  <dc:description/>
  <dc:language>en-US</dc:language>
  <cp:lastModifiedBy>Alberto de la Rosa Rábago</cp:lastModifiedBy>
  <cp:lastPrinted>2002-11-27T11:16:02Z</cp:lastPrinted>
  <dcterms:modified xsi:type="dcterms:W3CDTF">2002-11-27T22:23:10Z</dcterms:modified>
  <cp:revision>14</cp:revision>
  <dc:subject/>
  <dc:title>Sin título de diapositiva</dc:title>
</cp:coreProperties>
</file>