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image" Target="../media/image1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1.png"/><Relationship Id="rId38" Type="http://schemas.openxmlformats.org/officeDocument/2006/relationships/image" Target="../media/image2.png"/><Relationship Id="rId39" Type="http://schemas.openxmlformats.org/officeDocument/2006/relationships/image" Target="../media/image3.png"/><Relationship Id="rId40" Type="http://schemas.openxmlformats.org/officeDocument/2006/relationships/image" Target="../media/image4.png"/><Relationship Id="rId41" Type="http://schemas.openxmlformats.org/officeDocument/2006/relationships/image" Target="../media/image5.png"/><Relationship Id="rId42" Type="http://schemas.openxmlformats.org/officeDocument/2006/relationships/image" Target="../media/image6.png"/><Relationship Id="rId43" Type="http://schemas.openxmlformats.org/officeDocument/2006/relationships/image" Target="../media/image2.png"/><Relationship Id="rId44" Type="http://schemas.openxmlformats.org/officeDocument/2006/relationships/image" Target="../media/image5.png"/><Relationship Id="rId4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7.png"/><Relationship Id="rId12" Type="http://schemas.openxmlformats.org/officeDocument/2006/relationships/image" Target="../media/image3.png"/><Relationship Id="rId13" Type="http://schemas.openxmlformats.org/officeDocument/2006/relationships/image" Target="../media/image1.png"/><Relationship Id="rId14" Type="http://schemas.openxmlformats.org/officeDocument/2006/relationships/image" Target="../media/image7.png"/><Relationship Id="rId15" Type="http://schemas.openxmlformats.org/officeDocument/2006/relationships/image" Target="../media/image3.png"/><Relationship Id="rId16" Type="http://schemas.openxmlformats.org/officeDocument/2006/relationships/image" Target="../media/image1.png"/><Relationship Id="rId17" Type="http://schemas.openxmlformats.org/officeDocument/2006/relationships/image" Target="../media/image7.png"/><Relationship Id="rId18" Type="http://schemas.openxmlformats.org/officeDocument/2006/relationships/image" Target="../media/image3.png"/><Relationship Id="rId19" Type="http://schemas.openxmlformats.org/officeDocument/2006/relationships/image" Target="../media/image1.png"/><Relationship Id="rId20" Type="http://schemas.openxmlformats.org/officeDocument/2006/relationships/image" Target="../media/image7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8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8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8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8.png"/><Relationship Id="rId26" Type="http://schemas.openxmlformats.org/officeDocument/2006/relationships/image" Target="../media/image1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4.png"/><Relationship Id="rId30" Type="http://schemas.openxmlformats.org/officeDocument/2006/relationships/image" Target="../media/image8.png"/><Relationship Id="rId31" Type="http://schemas.openxmlformats.org/officeDocument/2006/relationships/image" Target="../media/image1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image" Target="../media/image4.png"/><Relationship Id="rId35" Type="http://schemas.openxmlformats.org/officeDocument/2006/relationships/image" Target="../media/image8.png"/><Relationship Id="rId36" Type="http://schemas.openxmlformats.org/officeDocument/2006/relationships/image" Target="../media/image2.png"/><Relationship Id="rId37" Type="http://schemas.openxmlformats.org/officeDocument/2006/relationships/image" Target="../media/image5.png"/><Relationship Id="rId3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image" Target="../media/image1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9.png"/><Relationship Id="rId12" Type="http://schemas.openxmlformats.org/officeDocument/2006/relationships/image" Target="../media/image3.png"/><Relationship Id="rId13" Type="http://schemas.openxmlformats.org/officeDocument/2006/relationships/image" Target="../media/image1.png"/><Relationship Id="rId14" Type="http://schemas.openxmlformats.org/officeDocument/2006/relationships/image" Target="../media/image9.png"/><Relationship Id="rId15" Type="http://schemas.openxmlformats.org/officeDocument/2006/relationships/image" Target="../media/image3.png"/><Relationship Id="rId16" Type="http://schemas.openxmlformats.org/officeDocument/2006/relationships/image" Target="../media/image1.png"/><Relationship Id="rId17" Type="http://schemas.openxmlformats.org/officeDocument/2006/relationships/image" Target="../media/image9.png"/><Relationship Id="rId18" Type="http://schemas.openxmlformats.org/officeDocument/2006/relationships/image" Target="../media/image3.png"/><Relationship Id="rId19" Type="http://schemas.openxmlformats.org/officeDocument/2006/relationships/image" Target="../media/image1.png"/><Relationship Id="rId20" Type="http://schemas.openxmlformats.org/officeDocument/2006/relationships/image" Target="../media/image9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13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3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2.png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8280" y="457200"/>
            <a:ext cx="558144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rbilidad hospitalaria según sexo e institució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Nacional de Salud 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658800" y="4572000"/>
            <a:ext cx="5684760" cy="3682800"/>
            <a:chOff x="658800" y="4572000"/>
            <a:chExt cx="5684760" cy="3682800"/>
          </a:xfrm>
        </p:grpSpPr>
        <p:sp>
          <p:nvSpPr>
            <p:cNvPr id="40" name=""/>
            <p:cNvSpPr/>
            <p:nvPr/>
          </p:nvSpPr>
          <p:spPr>
            <a:xfrm>
              <a:off x="865080" y="7989840"/>
              <a:ext cx="5386320" cy="84240"/>
            </a:xfrm>
            <a:custGeom>
              <a:avLst/>
              <a:gdLst/>
              <a:ahLst/>
              <a:rect l="l" t="t" r="r" b="b"/>
              <a:pathLst>
                <a:path w="3393" h="53">
                  <a:moveTo>
                    <a:pt x="3393" y="0"/>
                  </a:moveTo>
                  <a:lnTo>
                    <a:pt x="3325" y="53"/>
                  </a:lnTo>
                  <a:lnTo>
                    <a:pt x="0" y="53"/>
                  </a:lnTo>
                  <a:lnTo>
                    <a:pt x="68" y="0"/>
                  </a:lnTo>
                  <a:lnTo>
                    <a:pt x="339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65080" y="7989840"/>
              <a:ext cx="5386320" cy="84240"/>
            </a:xfrm>
            <a:custGeom>
              <a:avLst/>
              <a:gdLst/>
              <a:ahLst/>
              <a:rect l="l" t="t" r="r" b="b"/>
              <a:pathLst>
                <a:path w="3393" h="53">
                  <a:moveTo>
                    <a:pt x="0" y="53"/>
                  </a:moveTo>
                  <a:lnTo>
                    <a:pt x="68" y="0"/>
                  </a:lnTo>
                  <a:lnTo>
                    <a:pt x="339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65080" y="7658280"/>
              <a:ext cx="5386320" cy="71280"/>
            </a:xfrm>
            <a:custGeom>
              <a:avLst/>
              <a:gdLst/>
              <a:ahLst/>
              <a:rect l="l" t="t" r="r" b="b"/>
              <a:pathLst>
                <a:path w="3393" h="45">
                  <a:moveTo>
                    <a:pt x="0" y="45"/>
                  </a:moveTo>
                  <a:lnTo>
                    <a:pt x="68" y="0"/>
                  </a:lnTo>
                  <a:lnTo>
                    <a:pt x="339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65080" y="7313760"/>
              <a:ext cx="5386320" cy="82440"/>
            </a:xfrm>
            <a:custGeom>
              <a:avLst/>
              <a:gdLst/>
              <a:ahLst/>
              <a:rect l="l" t="t" r="r" b="b"/>
              <a:pathLst>
                <a:path w="3393" h="52">
                  <a:moveTo>
                    <a:pt x="0" y="52"/>
                  </a:moveTo>
                  <a:lnTo>
                    <a:pt x="68" y="0"/>
                  </a:lnTo>
                  <a:lnTo>
                    <a:pt x="339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65080" y="6981840"/>
              <a:ext cx="5386320" cy="82440"/>
            </a:xfrm>
            <a:custGeom>
              <a:avLst/>
              <a:gdLst/>
              <a:ahLst/>
              <a:rect l="l" t="t" r="r" b="b"/>
              <a:pathLst>
                <a:path w="3393" h="52">
                  <a:moveTo>
                    <a:pt x="0" y="52"/>
                  </a:moveTo>
                  <a:lnTo>
                    <a:pt x="68" y="0"/>
                  </a:lnTo>
                  <a:lnTo>
                    <a:pt x="339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65080" y="6648480"/>
              <a:ext cx="5386320" cy="71280"/>
            </a:xfrm>
            <a:custGeom>
              <a:avLst/>
              <a:gdLst/>
              <a:ahLst/>
              <a:rect l="l" t="t" r="r" b="b"/>
              <a:pathLst>
                <a:path w="3393" h="45">
                  <a:moveTo>
                    <a:pt x="0" y="45"/>
                  </a:moveTo>
                  <a:lnTo>
                    <a:pt x="68" y="0"/>
                  </a:lnTo>
                  <a:lnTo>
                    <a:pt x="339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65080" y="6316560"/>
              <a:ext cx="5386320" cy="71640"/>
            </a:xfrm>
            <a:custGeom>
              <a:avLst/>
              <a:gdLst/>
              <a:ahLst/>
              <a:rect l="l" t="t" r="r" b="b"/>
              <a:pathLst>
                <a:path w="3393" h="45">
                  <a:moveTo>
                    <a:pt x="0" y="45"/>
                  </a:moveTo>
                  <a:lnTo>
                    <a:pt x="68" y="0"/>
                  </a:lnTo>
                  <a:lnTo>
                    <a:pt x="339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65080" y="5972040"/>
              <a:ext cx="5386320" cy="84240"/>
            </a:xfrm>
            <a:custGeom>
              <a:avLst/>
              <a:gdLst/>
              <a:ahLst/>
              <a:rect l="l" t="t" r="r" b="b"/>
              <a:pathLst>
                <a:path w="3393" h="53">
                  <a:moveTo>
                    <a:pt x="0" y="53"/>
                  </a:moveTo>
                  <a:lnTo>
                    <a:pt x="68" y="0"/>
                  </a:lnTo>
                  <a:lnTo>
                    <a:pt x="339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5080" y="5640480"/>
              <a:ext cx="5386320" cy="82440"/>
            </a:xfrm>
            <a:custGeom>
              <a:avLst/>
              <a:gdLst/>
              <a:ahLst/>
              <a:rect l="l" t="t" r="r" b="b"/>
              <a:pathLst>
                <a:path w="3393" h="52">
                  <a:moveTo>
                    <a:pt x="0" y="52"/>
                  </a:moveTo>
                  <a:lnTo>
                    <a:pt x="68" y="0"/>
                  </a:lnTo>
                  <a:lnTo>
                    <a:pt x="339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65080" y="5308560"/>
              <a:ext cx="5386320" cy="69840"/>
            </a:xfrm>
            <a:custGeom>
              <a:avLst/>
              <a:gdLst/>
              <a:ahLst/>
              <a:rect l="l" t="t" r="r" b="b"/>
              <a:pathLst>
                <a:path w="3393" h="44">
                  <a:moveTo>
                    <a:pt x="0" y="44"/>
                  </a:moveTo>
                  <a:lnTo>
                    <a:pt x="68" y="0"/>
                  </a:lnTo>
                  <a:lnTo>
                    <a:pt x="339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5080" y="4964040"/>
              <a:ext cx="5386320" cy="82800"/>
            </a:xfrm>
            <a:custGeom>
              <a:avLst/>
              <a:gdLst/>
              <a:ahLst/>
              <a:rect l="l" t="t" r="r" b="b"/>
              <a:pathLst>
                <a:path w="3393" h="52">
                  <a:moveTo>
                    <a:pt x="0" y="52"/>
                  </a:moveTo>
                  <a:lnTo>
                    <a:pt x="68" y="0"/>
                  </a:lnTo>
                  <a:lnTo>
                    <a:pt x="339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5080" y="7989840"/>
              <a:ext cx="5386320" cy="84240"/>
            </a:xfrm>
            <a:custGeom>
              <a:avLst/>
              <a:gdLst/>
              <a:ahLst/>
              <a:rect l="l" t="t" r="r" b="b"/>
              <a:pathLst>
                <a:path w="3393" h="53">
                  <a:moveTo>
                    <a:pt x="3393" y="0"/>
                  </a:moveTo>
                  <a:lnTo>
                    <a:pt x="3325" y="53"/>
                  </a:lnTo>
                  <a:lnTo>
                    <a:pt x="0" y="53"/>
                  </a:lnTo>
                  <a:lnTo>
                    <a:pt x="68" y="0"/>
                  </a:lnTo>
                  <a:lnTo>
                    <a:pt x="339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5080" y="4964040"/>
              <a:ext cx="108000" cy="3110040"/>
            </a:xfrm>
            <a:custGeom>
              <a:avLst/>
              <a:gdLst/>
              <a:ahLst/>
              <a:rect l="l" t="t" r="r" b="b"/>
              <a:pathLst>
                <a:path w="68" h="1959">
                  <a:moveTo>
                    <a:pt x="0" y="1959"/>
                  </a:moveTo>
                  <a:lnTo>
                    <a:pt x="0" y="52"/>
                  </a:lnTo>
                  <a:lnTo>
                    <a:pt x="68" y="0"/>
                  </a:lnTo>
                  <a:lnTo>
                    <a:pt x="68" y="1906"/>
                  </a:lnTo>
                  <a:lnTo>
                    <a:pt x="0" y="195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3080" y="4964040"/>
              <a:ext cx="5278320" cy="302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65080" y="8074080"/>
              <a:ext cx="5278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65080" y="807408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22520" y="80740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79600" y="807408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5880" y="80740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82960" y="807408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0400" y="80740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86320" y="807408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43760" y="80740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8260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3048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944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31320" y="8163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3920" y="81630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0512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5264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99800" y="81630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2392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72520" y="816300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1200" y="816300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72640" y="8163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85600" y="81630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644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9396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95160" y="8163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668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5600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352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50320" y="816300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0036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4036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8932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36480" y="81630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9732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484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512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2300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7052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1804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6736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1488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960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6748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1644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63600" y="81630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2444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7232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49200" y="7088040"/>
              <a:ext cx="96840" cy="986040"/>
            </a:xfrm>
            <a:custGeom>
              <a:avLst/>
              <a:gdLst/>
              <a:ahLst/>
              <a:rect l="l" t="t" r="r" b="b"/>
              <a:pathLst>
                <a:path w="61" h="621">
                  <a:moveTo>
                    <a:pt x="61" y="568"/>
                  </a:moveTo>
                  <a:lnTo>
                    <a:pt x="61" y="0"/>
                  </a:lnTo>
                  <a:lnTo>
                    <a:pt x="0" y="45"/>
                  </a:lnTo>
                  <a:lnTo>
                    <a:pt x="0" y="621"/>
                  </a:lnTo>
                  <a:lnTo>
                    <a:pt x="61" y="56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33560" y="7159680"/>
              <a:ext cx="215640" cy="91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33560" y="7088040"/>
              <a:ext cx="312480" cy="71640"/>
            </a:xfrm>
            <a:custGeom>
              <a:avLst/>
              <a:gdLst/>
              <a:ahLst/>
              <a:rect l="l" t="t" r="r" b="b"/>
              <a:pathLst>
                <a:path w="197" h="45">
                  <a:moveTo>
                    <a:pt x="197" y="0"/>
                  </a:moveTo>
                  <a:lnTo>
                    <a:pt x="136" y="45"/>
                  </a:lnTo>
                  <a:lnTo>
                    <a:pt x="0" y="45"/>
                  </a:lnTo>
                  <a:lnTo>
                    <a:pt x="60" y="0"/>
                  </a:lnTo>
                  <a:lnTo>
                    <a:pt x="197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67000" y="5533920"/>
              <a:ext cx="95040" cy="2540160"/>
            </a:xfrm>
            <a:custGeom>
              <a:avLst/>
              <a:gdLst/>
              <a:ahLst/>
              <a:rect l="l" t="t" r="r" b="b"/>
              <a:pathLst>
                <a:path w="60" h="1600">
                  <a:moveTo>
                    <a:pt x="60" y="1547"/>
                  </a:moveTo>
                  <a:lnTo>
                    <a:pt x="60" y="0"/>
                  </a:lnTo>
                  <a:lnTo>
                    <a:pt x="0" y="52"/>
                  </a:lnTo>
                  <a:lnTo>
                    <a:pt x="0" y="1600"/>
                  </a:lnTo>
                  <a:lnTo>
                    <a:pt x="60" y="1547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49200" y="5616720"/>
              <a:ext cx="217800" cy="2457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49200" y="5533920"/>
              <a:ext cx="312840" cy="8280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197" y="0"/>
                  </a:moveTo>
                  <a:lnTo>
                    <a:pt x="137" y="52"/>
                  </a:lnTo>
                  <a:lnTo>
                    <a:pt x="0" y="52"/>
                  </a:lnTo>
                  <a:lnTo>
                    <a:pt x="61" y="0"/>
                  </a:lnTo>
                  <a:lnTo>
                    <a:pt x="197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95480" y="7313760"/>
              <a:ext cx="108000" cy="760320"/>
            </a:xfrm>
            <a:custGeom>
              <a:avLst/>
              <a:gdLst/>
              <a:ahLst/>
              <a:rect l="l" t="t" r="r" b="b"/>
              <a:pathLst>
                <a:path w="68" h="479">
                  <a:moveTo>
                    <a:pt x="68" y="426"/>
                  </a:moveTo>
                  <a:lnTo>
                    <a:pt x="68" y="0"/>
                  </a:lnTo>
                  <a:lnTo>
                    <a:pt x="0" y="45"/>
                  </a:lnTo>
                  <a:lnTo>
                    <a:pt x="0" y="479"/>
                  </a:lnTo>
                  <a:lnTo>
                    <a:pt x="68" y="426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79480" y="7385040"/>
              <a:ext cx="216000" cy="689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9480" y="7313760"/>
              <a:ext cx="324000" cy="71280"/>
            </a:xfrm>
            <a:custGeom>
              <a:avLst/>
              <a:gdLst/>
              <a:ahLst/>
              <a:rect l="l" t="t" r="r" b="b"/>
              <a:pathLst>
                <a:path w="204" h="45">
                  <a:moveTo>
                    <a:pt x="204" y="0"/>
                  </a:moveTo>
                  <a:lnTo>
                    <a:pt x="136" y="45"/>
                  </a:lnTo>
                  <a:lnTo>
                    <a:pt x="0" y="45"/>
                  </a:lnTo>
                  <a:lnTo>
                    <a:pt x="68" y="0"/>
                  </a:lnTo>
                  <a:lnTo>
                    <a:pt x="204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11480" y="5308560"/>
              <a:ext cx="108000" cy="2765520"/>
            </a:xfrm>
            <a:custGeom>
              <a:avLst/>
              <a:gdLst/>
              <a:ahLst/>
              <a:rect l="l" t="t" r="r" b="b"/>
              <a:pathLst>
                <a:path w="68" h="1742">
                  <a:moveTo>
                    <a:pt x="68" y="1689"/>
                  </a:moveTo>
                  <a:lnTo>
                    <a:pt x="68" y="0"/>
                  </a:lnTo>
                  <a:lnTo>
                    <a:pt x="0" y="52"/>
                  </a:lnTo>
                  <a:lnTo>
                    <a:pt x="0" y="1742"/>
                  </a:lnTo>
                  <a:lnTo>
                    <a:pt x="68" y="1689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5480" y="5391000"/>
              <a:ext cx="216000" cy="26830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95480" y="5308560"/>
              <a:ext cx="324000" cy="82440"/>
            </a:xfrm>
            <a:custGeom>
              <a:avLst/>
              <a:gdLst/>
              <a:ahLst/>
              <a:rect l="l" t="t" r="r" b="b"/>
              <a:pathLst>
                <a:path w="204" h="52">
                  <a:moveTo>
                    <a:pt x="204" y="0"/>
                  </a:moveTo>
                  <a:lnTo>
                    <a:pt x="136" y="52"/>
                  </a:lnTo>
                  <a:lnTo>
                    <a:pt x="0" y="52"/>
                  </a:lnTo>
                  <a:lnTo>
                    <a:pt x="68" y="0"/>
                  </a:lnTo>
                  <a:lnTo>
                    <a:pt x="204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52560" y="6815160"/>
              <a:ext cx="108000" cy="1258920"/>
            </a:xfrm>
            <a:custGeom>
              <a:avLst/>
              <a:gdLst/>
              <a:ahLst/>
              <a:rect l="l" t="t" r="r" b="b"/>
              <a:pathLst>
                <a:path w="68" h="793">
                  <a:moveTo>
                    <a:pt x="68" y="740"/>
                  </a:moveTo>
                  <a:lnTo>
                    <a:pt x="68" y="0"/>
                  </a:lnTo>
                  <a:lnTo>
                    <a:pt x="0" y="52"/>
                  </a:lnTo>
                  <a:lnTo>
                    <a:pt x="0" y="793"/>
                  </a:lnTo>
                  <a:lnTo>
                    <a:pt x="68" y="74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36920" y="6897600"/>
              <a:ext cx="215640" cy="1176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36920" y="6815160"/>
              <a:ext cx="323640" cy="82440"/>
            </a:xfrm>
            <a:custGeom>
              <a:avLst/>
              <a:gdLst/>
              <a:ahLst/>
              <a:rect l="l" t="t" r="r" b="b"/>
              <a:pathLst>
                <a:path w="204" h="52">
                  <a:moveTo>
                    <a:pt x="204" y="0"/>
                  </a:moveTo>
                  <a:lnTo>
                    <a:pt x="136" y="52"/>
                  </a:lnTo>
                  <a:lnTo>
                    <a:pt x="0" y="52"/>
                  </a:lnTo>
                  <a:lnTo>
                    <a:pt x="68" y="0"/>
                  </a:lnTo>
                  <a:lnTo>
                    <a:pt x="204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68560" y="5807160"/>
              <a:ext cx="109440" cy="2266920"/>
            </a:xfrm>
            <a:custGeom>
              <a:avLst/>
              <a:gdLst/>
              <a:ahLst/>
              <a:rect l="l" t="t" r="r" b="b"/>
              <a:pathLst>
                <a:path w="69" h="1428">
                  <a:moveTo>
                    <a:pt x="69" y="1375"/>
                  </a:moveTo>
                  <a:lnTo>
                    <a:pt x="69" y="0"/>
                  </a:lnTo>
                  <a:lnTo>
                    <a:pt x="0" y="44"/>
                  </a:lnTo>
                  <a:lnTo>
                    <a:pt x="0" y="1428"/>
                  </a:lnTo>
                  <a:lnTo>
                    <a:pt x="69" y="1375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52560" y="5877000"/>
              <a:ext cx="216000" cy="21970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2560" y="5807160"/>
              <a:ext cx="325440" cy="69840"/>
            </a:xfrm>
            <a:custGeom>
              <a:avLst/>
              <a:gdLst/>
              <a:ahLst/>
              <a:rect l="l" t="t" r="r" b="b"/>
              <a:pathLst>
                <a:path w="205" h="44">
                  <a:moveTo>
                    <a:pt x="205" y="0"/>
                  </a:moveTo>
                  <a:lnTo>
                    <a:pt x="136" y="44"/>
                  </a:lnTo>
                  <a:lnTo>
                    <a:pt x="0" y="44"/>
                  </a:lnTo>
                  <a:lnTo>
                    <a:pt x="68" y="0"/>
                  </a:lnTo>
                  <a:lnTo>
                    <a:pt x="205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10000" y="6873840"/>
              <a:ext cx="96840" cy="1200240"/>
            </a:xfrm>
            <a:custGeom>
              <a:avLst/>
              <a:gdLst/>
              <a:ahLst/>
              <a:rect l="l" t="t" r="r" b="b"/>
              <a:pathLst>
                <a:path w="61" h="756">
                  <a:moveTo>
                    <a:pt x="61" y="703"/>
                  </a:moveTo>
                  <a:lnTo>
                    <a:pt x="61" y="0"/>
                  </a:lnTo>
                  <a:lnTo>
                    <a:pt x="0" y="45"/>
                  </a:lnTo>
                  <a:lnTo>
                    <a:pt x="0" y="756"/>
                  </a:lnTo>
                  <a:lnTo>
                    <a:pt x="61" y="703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94000" y="6945480"/>
              <a:ext cx="216000" cy="1128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94000" y="6873840"/>
              <a:ext cx="312840" cy="71640"/>
            </a:xfrm>
            <a:custGeom>
              <a:avLst/>
              <a:gdLst/>
              <a:ahLst/>
              <a:rect l="l" t="t" r="r" b="b"/>
              <a:pathLst>
                <a:path w="197" h="45">
                  <a:moveTo>
                    <a:pt x="197" y="0"/>
                  </a:moveTo>
                  <a:lnTo>
                    <a:pt x="136" y="45"/>
                  </a:lnTo>
                  <a:lnTo>
                    <a:pt x="0" y="45"/>
                  </a:lnTo>
                  <a:lnTo>
                    <a:pt x="61" y="0"/>
                  </a:lnTo>
                  <a:lnTo>
                    <a:pt x="197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27440" y="5746680"/>
              <a:ext cx="95400" cy="2327400"/>
            </a:xfrm>
            <a:custGeom>
              <a:avLst/>
              <a:gdLst/>
              <a:ahLst/>
              <a:rect l="l" t="t" r="r" b="b"/>
              <a:pathLst>
                <a:path w="60" h="1466">
                  <a:moveTo>
                    <a:pt x="60" y="1413"/>
                  </a:moveTo>
                  <a:lnTo>
                    <a:pt x="60" y="0"/>
                  </a:lnTo>
                  <a:lnTo>
                    <a:pt x="0" y="52"/>
                  </a:lnTo>
                  <a:lnTo>
                    <a:pt x="0" y="1466"/>
                  </a:lnTo>
                  <a:lnTo>
                    <a:pt x="60" y="1413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10000" y="5829480"/>
              <a:ext cx="217440" cy="2244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10000" y="5746680"/>
              <a:ext cx="312840" cy="8280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197" y="0"/>
                  </a:moveTo>
                  <a:lnTo>
                    <a:pt x="137" y="52"/>
                  </a:lnTo>
                  <a:lnTo>
                    <a:pt x="0" y="52"/>
                  </a:lnTo>
                  <a:lnTo>
                    <a:pt x="61" y="0"/>
                  </a:lnTo>
                  <a:lnTo>
                    <a:pt x="197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55920" y="6696000"/>
              <a:ext cx="108000" cy="1378080"/>
            </a:xfrm>
            <a:custGeom>
              <a:avLst/>
              <a:gdLst/>
              <a:ahLst/>
              <a:rect l="l" t="t" r="r" b="b"/>
              <a:pathLst>
                <a:path w="68" h="868">
                  <a:moveTo>
                    <a:pt x="68" y="815"/>
                  </a:moveTo>
                  <a:lnTo>
                    <a:pt x="68" y="0"/>
                  </a:lnTo>
                  <a:lnTo>
                    <a:pt x="0" y="45"/>
                  </a:lnTo>
                  <a:lnTo>
                    <a:pt x="0" y="868"/>
                  </a:lnTo>
                  <a:lnTo>
                    <a:pt x="68" y="815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0280" y="6767640"/>
              <a:ext cx="215640" cy="13064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40280" y="6696000"/>
              <a:ext cx="323640" cy="71640"/>
            </a:xfrm>
            <a:custGeom>
              <a:avLst/>
              <a:gdLst/>
              <a:ahLst/>
              <a:rect l="l" t="t" r="r" b="b"/>
              <a:pathLst>
                <a:path w="204" h="45">
                  <a:moveTo>
                    <a:pt x="204" y="0"/>
                  </a:moveTo>
                  <a:lnTo>
                    <a:pt x="136" y="45"/>
                  </a:lnTo>
                  <a:lnTo>
                    <a:pt x="0" y="45"/>
                  </a:lnTo>
                  <a:lnTo>
                    <a:pt x="68" y="0"/>
                  </a:lnTo>
                  <a:lnTo>
                    <a:pt x="204" y="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71920" y="5924520"/>
              <a:ext cx="108000" cy="2149560"/>
            </a:xfrm>
            <a:custGeom>
              <a:avLst/>
              <a:gdLst/>
              <a:ahLst/>
              <a:rect l="l" t="t" r="r" b="b"/>
              <a:pathLst>
                <a:path w="68" h="1354">
                  <a:moveTo>
                    <a:pt x="68" y="1301"/>
                  </a:moveTo>
                  <a:lnTo>
                    <a:pt x="68" y="0"/>
                  </a:lnTo>
                  <a:lnTo>
                    <a:pt x="0" y="53"/>
                  </a:lnTo>
                  <a:lnTo>
                    <a:pt x="0" y="1354"/>
                  </a:lnTo>
                  <a:lnTo>
                    <a:pt x="68" y="1301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55920" y="6008760"/>
              <a:ext cx="216000" cy="206532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55920" y="5924520"/>
              <a:ext cx="324000" cy="84240"/>
            </a:xfrm>
            <a:custGeom>
              <a:avLst/>
              <a:gdLst/>
              <a:ahLst/>
              <a:rect l="l" t="t" r="r" b="b"/>
              <a:pathLst>
                <a:path w="204" h="53">
                  <a:moveTo>
                    <a:pt x="204" y="0"/>
                  </a:moveTo>
                  <a:lnTo>
                    <a:pt x="136" y="53"/>
                  </a:lnTo>
                  <a:lnTo>
                    <a:pt x="0" y="53"/>
                  </a:lnTo>
                  <a:lnTo>
                    <a:pt x="68" y="0"/>
                  </a:lnTo>
                  <a:lnTo>
                    <a:pt x="204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13360" y="6637320"/>
              <a:ext cx="108000" cy="1436760"/>
            </a:xfrm>
            <a:custGeom>
              <a:avLst/>
              <a:gdLst/>
              <a:ahLst/>
              <a:rect l="l" t="t" r="r" b="b"/>
              <a:pathLst>
                <a:path w="68" h="905">
                  <a:moveTo>
                    <a:pt x="68" y="852"/>
                  </a:moveTo>
                  <a:lnTo>
                    <a:pt x="68" y="0"/>
                  </a:lnTo>
                  <a:lnTo>
                    <a:pt x="0" y="45"/>
                  </a:lnTo>
                  <a:lnTo>
                    <a:pt x="0" y="905"/>
                  </a:lnTo>
                  <a:lnTo>
                    <a:pt x="68" y="852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97360" y="6708600"/>
              <a:ext cx="216000" cy="136548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97360" y="6637320"/>
              <a:ext cx="324000" cy="71280"/>
            </a:xfrm>
            <a:custGeom>
              <a:avLst/>
              <a:gdLst/>
              <a:ahLst/>
              <a:rect l="l" t="t" r="r" b="b"/>
              <a:pathLst>
                <a:path w="204" h="45">
                  <a:moveTo>
                    <a:pt x="204" y="0"/>
                  </a:moveTo>
                  <a:lnTo>
                    <a:pt x="136" y="45"/>
                  </a:lnTo>
                  <a:lnTo>
                    <a:pt x="0" y="45"/>
                  </a:lnTo>
                  <a:lnTo>
                    <a:pt x="68" y="0"/>
                  </a:lnTo>
                  <a:lnTo>
                    <a:pt x="204" y="0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29360" y="5985000"/>
              <a:ext cx="109440" cy="2089080"/>
            </a:xfrm>
            <a:custGeom>
              <a:avLst/>
              <a:gdLst/>
              <a:ahLst/>
              <a:rect l="l" t="t" r="r" b="b"/>
              <a:pathLst>
                <a:path w="69" h="1316">
                  <a:moveTo>
                    <a:pt x="69" y="1263"/>
                  </a:moveTo>
                  <a:lnTo>
                    <a:pt x="69" y="0"/>
                  </a:lnTo>
                  <a:lnTo>
                    <a:pt x="0" y="52"/>
                  </a:lnTo>
                  <a:lnTo>
                    <a:pt x="0" y="1316"/>
                  </a:lnTo>
                  <a:lnTo>
                    <a:pt x="69" y="1263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13360" y="6067440"/>
              <a:ext cx="216000" cy="200664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13360" y="5985000"/>
              <a:ext cx="325440" cy="82440"/>
            </a:xfrm>
            <a:custGeom>
              <a:avLst/>
              <a:gdLst/>
              <a:ahLst/>
              <a:rect l="l" t="t" r="r" b="b"/>
              <a:pathLst>
                <a:path w="205" h="52">
                  <a:moveTo>
                    <a:pt x="205" y="0"/>
                  </a:moveTo>
                  <a:lnTo>
                    <a:pt x="136" y="52"/>
                  </a:lnTo>
                  <a:lnTo>
                    <a:pt x="0" y="52"/>
                  </a:lnTo>
                  <a:lnTo>
                    <a:pt x="68" y="0"/>
                  </a:lnTo>
                  <a:lnTo>
                    <a:pt x="205" y="0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70440" y="6329520"/>
              <a:ext cx="96840" cy="1744560"/>
            </a:xfrm>
            <a:custGeom>
              <a:avLst/>
              <a:gdLst/>
              <a:ahLst/>
              <a:rect l="l" t="t" r="r" b="b"/>
              <a:pathLst>
                <a:path w="61" h="1099">
                  <a:moveTo>
                    <a:pt x="61" y="1046"/>
                  </a:moveTo>
                  <a:lnTo>
                    <a:pt x="61" y="0"/>
                  </a:lnTo>
                  <a:lnTo>
                    <a:pt x="0" y="52"/>
                  </a:lnTo>
                  <a:lnTo>
                    <a:pt x="0" y="1099"/>
                  </a:lnTo>
                  <a:lnTo>
                    <a:pt x="61" y="1046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4800" y="6411960"/>
              <a:ext cx="215640" cy="166212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54800" y="6329520"/>
              <a:ext cx="312480" cy="8244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197" y="0"/>
                  </a:moveTo>
                  <a:lnTo>
                    <a:pt x="136" y="52"/>
                  </a:lnTo>
                  <a:lnTo>
                    <a:pt x="0" y="52"/>
                  </a:lnTo>
                  <a:lnTo>
                    <a:pt x="61" y="0"/>
                  </a:lnTo>
                  <a:lnTo>
                    <a:pt x="197" y="0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87880" y="6292800"/>
              <a:ext cx="95400" cy="1781280"/>
            </a:xfrm>
            <a:custGeom>
              <a:avLst/>
              <a:gdLst/>
              <a:ahLst/>
              <a:rect l="l" t="t" r="r" b="b"/>
              <a:pathLst>
                <a:path w="60" h="1122">
                  <a:moveTo>
                    <a:pt x="60" y="1069"/>
                  </a:moveTo>
                  <a:lnTo>
                    <a:pt x="60" y="0"/>
                  </a:lnTo>
                  <a:lnTo>
                    <a:pt x="0" y="52"/>
                  </a:lnTo>
                  <a:lnTo>
                    <a:pt x="0" y="1122"/>
                  </a:lnTo>
                  <a:lnTo>
                    <a:pt x="60" y="1069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70440" y="6375240"/>
              <a:ext cx="217440" cy="169884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70440" y="6292800"/>
              <a:ext cx="312840" cy="8244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197" y="0"/>
                  </a:moveTo>
                  <a:lnTo>
                    <a:pt x="137" y="52"/>
                  </a:lnTo>
                  <a:lnTo>
                    <a:pt x="0" y="52"/>
                  </a:lnTo>
                  <a:lnTo>
                    <a:pt x="61" y="0"/>
                  </a:lnTo>
                  <a:lnTo>
                    <a:pt x="197" y="0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65080" y="5046480"/>
              <a:ext cx="1800" cy="302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817560" y="807408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817560" y="772956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817560" y="739620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817560" y="706428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817560" y="671976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17560" y="638820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817560" y="605628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17560" y="572292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17560" y="537840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17560" y="504684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7640" y="8018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7160" y="767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7640" y="7674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7160" y="7342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7640" y="7342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7160" y="70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7640" y="70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7160" y="6665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7640" y="6665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7160" y="6334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7640" y="6334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7160" y="600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7640" y="600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160" y="5668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7640" y="5668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7160" y="5324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7640" y="5324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160" y="499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7640" y="499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5080" y="8074080"/>
              <a:ext cx="5278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5080" y="807408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22520" y="80740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79600" y="807408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880" y="80740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2960" y="807408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40400" y="80740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86320" y="807408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43760" y="80740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8260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3048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7944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31320" y="8163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43920" y="81630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0512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5264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99800" y="816300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2392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72520" y="816300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31200" y="816300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72640" y="8163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85600" y="81630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4644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9396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95160" y="8163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0668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5600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0352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50320" y="816300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0036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4036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8932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6480" y="81630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9732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4484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512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2300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7052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1804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6736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1488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1960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67480" y="816300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63600" y="81630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2444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72320" y="81630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27440" y="5081760"/>
              <a:ext cx="15271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1800" y="5118120"/>
              <a:ext cx="58680" cy="5868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60720" y="5099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32000" y="509904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91760" y="509904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88960" y="509904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0600" y="509904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96960" y="5099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57080" y="5099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53000" y="5118120"/>
              <a:ext cx="60120" cy="5868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41920" y="509904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25800" y="509904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85920" y="509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22280" y="5099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83120" y="509904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17680" y="5099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77800" y="5099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20" y="4572000"/>
              <a:ext cx="5581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tribución porcentual de la morbilidad hospitalari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gún sexo por 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800" y="4743360"/>
              <a:ext cx="18108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88960" y="1600200"/>
            <a:ext cx="5680080" cy="2710440"/>
            <a:chOff x="588960" y="1600200"/>
            <a:chExt cx="5680080" cy="2710440"/>
          </a:xfrm>
        </p:grpSpPr>
        <p:sp>
          <p:nvSpPr>
            <p:cNvPr id="240" name=""/>
            <p:cNvSpPr/>
            <p:nvPr/>
          </p:nvSpPr>
          <p:spPr>
            <a:xfrm>
              <a:off x="608040" y="1778040"/>
              <a:ext cx="1622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51080" y="1671480"/>
              <a:ext cx="65232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 egres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63880" y="1778040"/>
              <a:ext cx="473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70400" y="1925640"/>
              <a:ext cx="5968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ú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5440" y="1925640"/>
              <a:ext cx="4237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68760" y="1925640"/>
              <a:ext cx="6764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ú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4560" y="1925640"/>
              <a:ext cx="4636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52760" y="1633680"/>
              <a:ext cx="10890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omb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0560" y="1633680"/>
              <a:ext cx="11476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uje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64320" y="1778040"/>
              <a:ext cx="428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.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8960" y="2225520"/>
              <a:ext cx="162072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 o t a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b. no derechohabie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S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b. Derechohabie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EME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DE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CM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59000" y="2225520"/>
              <a:ext cx="69516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,052,54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698,00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469,3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8,67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,354,53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867,9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41,27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1,47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,8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,0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30680" y="2225520"/>
              <a:ext cx="68256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,617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,215.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,508.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,093.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,064.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,014.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,390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,500.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,059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,027.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76440" y="2225520"/>
              <a:ext cx="74628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265,35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1,64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5,43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6,2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23,7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1,12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3,6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,73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7,82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,4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87800" y="2225520"/>
              <a:ext cx="46656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1.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6.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6.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.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5.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4.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.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.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.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9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57600" y="2225520"/>
              <a:ext cx="73368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,787,09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256,27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73,8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2,46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530,8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216,82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7,67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7,7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,99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,58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81560" y="2225520"/>
              <a:ext cx="45396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.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4.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3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9.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.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.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1.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.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00600" y="224316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0120" y="1600200"/>
              <a:ext cx="5600520" cy="236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2203560"/>
              <a:ext cx="55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78000" y="1600200"/>
              <a:ext cx="0" cy="23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906280" y="1612800"/>
              <a:ext cx="3240" cy="234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447720" y="1600200"/>
              <a:ext cx="3240" cy="23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082760" y="1905120"/>
              <a:ext cx="3240" cy="20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56160" y="1612800"/>
              <a:ext cx="1440" cy="234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250960" y="1909800"/>
              <a:ext cx="3240" cy="20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733720" y="1612800"/>
              <a:ext cx="3240" cy="234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57440" y="189864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6600" y="3978360"/>
              <a:ext cx="435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asa por 100,000 habitantes de población legal y/o potenci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isten diferencias con la información del Vol. I. Ver la nota en la presentació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51360" y="2225520"/>
              <a:ext cx="45432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8370720"/>
            <a:ext cx="5508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tit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1280" y="399960"/>
            <a:ext cx="55818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rbilidad hospitalaria según promedi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 días estancia por institució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48000" y="4616280"/>
            <a:ext cx="2079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edio de días esta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523880" y="1808280"/>
            <a:ext cx="3867120" cy="2763720"/>
            <a:chOff x="1523880" y="1808280"/>
            <a:chExt cx="3867120" cy="2763720"/>
          </a:xfrm>
        </p:grpSpPr>
        <p:sp>
          <p:nvSpPr>
            <p:cNvPr id="274" name=""/>
            <p:cNvSpPr/>
            <p:nvPr/>
          </p:nvSpPr>
          <p:spPr>
            <a:xfrm>
              <a:off x="1568520" y="1994040"/>
              <a:ext cx="14763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52880" y="1857240"/>
              <a:ext cx="65232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 egres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92280" y="2433600"/>
              <a:ext cx="183672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 o t a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b. no Derechohabie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S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b. Derechohabie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EME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DE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CM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06800" y="2433600"/>
              <a:ext cx="70020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,052,54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698,00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469,3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8,67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,354,53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867,9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41,27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1,47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,8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,0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60920" y="1857240"/>
              <a:ext cx="71424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medio d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tanc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67400" y="2432160"/>
              <a:ext cx="555480" cy="21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4520" y="1925640"/>
              <a:ext cx="81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ía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tanc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60640" y="2432160"/>
              <a:ext cx="819360" cy="21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36840" y="1808280"/>
              <a:ext cx="3840120" cy="238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49440" y="2411280"/>
              <a:ext cx="382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112560" y="1808280"/>
              <a:ext cx="1800" cy="238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46600" y="1820880"/>
              <a:ext cx="324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86480" y="1822320"/>
              <a:ext cx="1440" cy="23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23880" y="4213080"/>
              <a:ext cx="3867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isten diferencias con la información del Vol. I. Ver la nota en la presentació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17800" y="2433600"/>
              <a:ext cx="88596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,532,2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,253,61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,641,04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12,57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,278,59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,256,44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448,16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7,74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8,76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7,47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81440" y="2433600"/>
              <a:ext cx="63180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.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51680" y="4959360"/>
            <a:ext cx="5583960" cy="3637440"/>
            <a:chOff x="751680" y="4959360"/>
            <a:chExt cx="5583960" cy="3637440"/>
          </a:xfrm>
        </p:grpSpPr>
        <p:sp>
          <p:nvSpPr>
            <p:cNvPr id="291" name=""/>
            <p:cNvSpPr/>
            <p:nvPr/>
          </p:nvSpPr>
          <p:spPr>
            <a:xfrm>
              <a:off x="851040" y="7961400"/>
              <a:ext cx="5364000" cy="108000"/>
            </a:xfrm>
            <a:custGeom>
              <a:avLst/>
              <a:gdLst/>
              <a:ahLst/>
              <a:rect l="l" t="t" r="r" b="b"/>
              <a:pathLst>
                <a:path w="3379" h="68">
                  <a:moveTo>
                    <a:pt x="3379" y="0"/>
                  </a:moveTo>
                  <a:lnTo>
                    <a:pt x="3288" y="68"/>
                  </a:lnTo>
                  <a:lnTo>
                    <a:pt x="0" y="68"/>
                  </a:lnTo>
                  <a:lnTo>
                    <a:pt x="91" y="0"/>
                  </a:lnTo>
                  <a:lnTo>
                    <a:pt x="33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1040" y="7961400"/>
              <a:ext cx="5364000" cy="108000"/>
            </a:xfrm>
            <a:custGeom>
              <a:avLst/>
              <a:gdLst/>
              <a:ahLst/>
              <a:rect l="l" t="t" r="r" b="b"/>
              <a:pathLst>
                <a:path w="3379" h="68">
                  <a:moveTo>
                    <a:pt x="0" y="68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1040" y="7462800"/>
              <a:ext cx="5364000" cy="95400"/>
            </a:xfrm>
            <a:custGeom>
              <a:avLst/>
              <a:gdLst/>
              <a:ahLst/>
              <a:rect l="l" t="t" r="r" b="b"/>
              <a:pathLst>
                <a:path w="3379" h="60">
                  <a:moveTo>
                    <a:pt x="0" y="60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51040" y="6964200"/>
              <a:ext cx="5364000" cy="95400"/>
            </a:xfrm>
            <a:custGeom>
              <a:avLst/>
              <a:gdLst/>
              <a:ahLst/>
              <a:rect l="l" t="t" r="r" b="b"/>
              <a:pathLst>
                <a:path w="3379" h="60">
                  <a:moveTo>
                    <a:pt x="0" y="60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1040" y="6465960"/>
              <a:ext cx="5364000" cy="95040"/>
            </a:xfrm>
            <a:custGeom>
              <a:avLst/>
              <a:gdLst/>
              <a:ahLst/>
              <a:rect l="l" t="t" r="r" b="b"/>
              <a:pathLst>
                <a:path w="3379" h="60">
                  <a:moveTo>
                    <a:pt x="0" y="60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1040" y="5967360"/>
              <a:ext cx="5364000" cy="95400"/>
            </a:xfrm>
            <a:custGeom>
              <a:avLst/>
              <a:gdLst/>
              <a:ahLst/>
              <a:rect l="l" t="t" r="r" b="b"/>
              <a:pathLst>
                <a:path w="3379" h="60">
                  <a:moveTo>
                    <a:pt x="0" y="60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1040" y="5468760"/>
              <a:ext cx="5364000" cy="95400"/>
            </a:xfrm>
            <a:custGeom>
              <a:avLst/>
              <a:gdLst/>
              <a:ahLst/>
              <a:rect l="l" t="t" r="r" b="b"/>
              <a:pathLst>
                <a:path w="3379" h="60">
                  <a:moveTo>
                    <a:pt x="0" y="60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51040" y="4959360"/>
              <a:ext cx="5364000" cy="106200"/>
            </a:xfrm>
            <a:custGeom>
              <a:avLst/>
              <a:gdLst/>
              <a:ahLst/>
              <a:rect l="l" t="t" r="r" b="b"/>
              <a:pathLst>
                <a:path w="3379" h="67">
                  <a:moveTo>
                    <a:pt x="0" y="67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1040" y="7961400"/>
              <a:ext cx="5364000" cy="108000"/>
            </a:xfrm>
            <a:custGeom>
              <a:avLst/>
              <a:gdLst/>
              <a:ahLst/>
              <a:rect l="l" t="t" r="r" b="b"/>
              <a:pathLst>
                <a:path w="3379" h="68">
                  <a:moveTo>
                    <a:pt x="3379" y="0"/>
                  </a:moveTo>
                  <a:lnTo>
                    <a:pt x="3288" y="68"/>
                  </a:lnTo>
                  <a:lnTo>
                    <a:pt x="0" y="68"/>
                  </a:lnTo>
                  <a:lnTo>
                    <a:pt x="91" y="0"/>
                  </a:lnTo>
                  <a:lnTo>
                    <a:pt x="337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1040" y="4959360"/>
              <a:ext cx="144360" cy="3110040"/>
            </a:xfrm>
            <a:custGeom>
              <a:avLst/>
              <a:gdLst/>
              <a:ahLst/>
              <a:rect l="l" t="t" r="r" b="b"/>
              <a:pathLst>
                <a:path w="91" h="1959">
                  <a:moveTo>
                    <a:pt x="0" y="1959"/>
                  </a:moveTo>
                  <a:lnTo>
                    <a:pt x="0" y="67"/>
                  </a:lnTo>
                  <a:lnTo>
                    <a:pt x="91" y="0"/>
                  </a:lnTo>
                  <a:lnTo>
                    <a:pt x="91" y="1891"/>
                  </a:lnTo>
                  <a:lnTo>
                    <a:pt x="0" y="195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5400" y="4959360"/>
              <a:ext cx="5219640" cy="300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1040" y="8069400"/>
              <a:ext cx="5219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1040" y="80694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96960" y="80694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43240" y="80694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87720" y="80694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33640" y="80694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8480" y="80694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24400" y="80694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70680" y="80694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100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1032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568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02480" y="8158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20160" y="8158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28800" y="81583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9432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4364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86120" y="81583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1528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8120" y="815832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19320" y="815832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50320" y="8158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57520" y="81583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2484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7236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59880" y="8158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7392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180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7076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14680" y="815832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6616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0760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5512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97600" y="81583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6456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1208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2976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7728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2300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7412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1984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6736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6308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1096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632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00960" y="81583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6432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1328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68360" y="5718240"/>
              <a:ext cx="144360" cy="2351160"/>
            </a:xfrm>
            <a:custGeom>
              <a:avLst/>
              <a:gdLst/>
              <a:ahLst/>
              <a:rect l="l" t="t" r="r" b="b"/>
              <a:pathLst>
                <a:path w="91" h="1481">
                  <a:moveTo>
                    <a:pt x="91" y="1413"/>
                  </a:moveTo>
                  <a:lnTo>
                    <a:pt x="91" y="0"/>
                  </a:lnTo>
                  <a:lnTo>
                    <a:pt x="0" y="60"/>
                  </a:lnTo>
                  <a:lnTo>
                    <a:pt x="0" y="1481"/>
                  </a:lnTo>
                  <a:lnTo>
                    <a:pt x="91" y="1413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68480" y="5813280"/>
              <a:ext cx="299880" cy="2256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8480" y="5718240"/>
              <a:ext cx="444240" cy="95040"/>
            </a:xfrm>
            <a:custGeom>
              <a:avLst/>
              <a:gdLst/>
              <a:ahLst/>
              <a:rect l="l" t="t" r="r" b="b"/>
              <a:pathLst>
                <a:path w="280" h="60">
                  <a:moveTo>
                    <a:pt x="280" y="0"/>
                  </a:moveTo>
                  <a:lnTo>
                    <a:pt x="189" y="60"/>
                  </a:lnTo>
                  <a:lnTo>
                    <a:pt x="0" y="60"/>
                  </a:lnTo>
                  <a:lnTo>
                    <a:pt x="90" y="0"/>
                  </a:lnTo>
                  <a:lnTo>
                    <a:pt x="28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14640" y="6608880"/>
              <a:ext cx="144360" cy="1460520"/>
            </a:xfrm>
            <a:custGeom>
              <a:avLst/>
              <a:gdLst/>
              <a:ahLst/>
              <a:rect l="l" t="t" r="r" b="b"/>
              <a:pathLst>
                <a:path w="91" h="920">
                  <a:moveTo>
                    <a:pt x="91" y="852"/>
                  </a:moveTo>
                  <a:lnTo>
                    <a:pt x="91" y="0"/>
                  </a:lnTo>
                  <a:lnTo>
                    <a:pt x="0" y="67"/>
                  </a:lnTo>
                  <a:lnTo>
                    <a:pt x="0" y="920"/>
                  </a:lnTo>
                  <a:lnTo>
                    <a:pt x="91" y="85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12960" y="6715080"/>
              <a:ext cx="301680" cy="1354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12960" y="6608880"/>
              <a:ext cx="446040" cy="106200"/>
            </a:xfrm>
            <a:custGeom>
              <a:avLst/>
              <a:gdLst/>
              <a:ahLst/>
              <a:rect l="l" t="t" r="r" b="b"/>
              <a:pathLst>
                <a:path w="281" h="67">
                  <a:moveTo>
                    <a:pt x="281" y="0"/>
                  </a:moveTo>
                  <a:lnTo>
                    <a:pt x="190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281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59120" y="5765760"/>
              <a:ext cx="144360" cy="2303640"/>
            </a:xfrm>
            <a:custGeom>
              <a:avLst/>
              <a:gdLst/>
              <a:ahLst/>
              <a:rect l="l" t="t" r="r" b="b"/>
              <a:pathLst>
                <a:path w="91" h="1451">
                  <a:moveTo>
                    <a:pt x="91" y="1383"/>
                  </a:moveTo>
                  <a:lnTo>
                    <a:pt x="91" y="0"/>
                  </a:lnTo>
                  <a:lnTo>
                    <a:pt x="0" y="67"/>
                  </a:lnTo>
                  <a:lnTo>
                    <a:pt x="0" y="1451"/>
                  </a:lnTo>
                  <a:lnTo>
                    <a:pt x="91" y="138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70040" y="5872320"/>
              <a:ext cx="289080" cy="2197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70040" y="5765760"/>
              <a:ext cx="433440" cy="106560"/>
            </a:xfrm>
            <a:custGeom>
              <a:avLst/>
              <a:gdLst/>
              <a:ahLst/>
              <a:rect l="l" t="t" r="r" b="b"/>
              <a:pathLst>
                <a:path w="273" h="67">
                  <a:moveTo>
                    <a:pt x="273" y="0"/>
                  </a:moveTo>
                  <a:lnTo>
                    <a:pt x="182" y="67"/>
                  </a:lnTo>
                  <a:lnTo>
                    <a:pt x="0" y="67"/>
                  </a:lnTo>
                  <a:lnTo>
                    <a:pt x="84" y="0"/>
                  </a:lnTo>
                  <a:lnTo>
                    <a:pt x="273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05040" y="5861160"/>
              <a:ext cx="144720" cy="2208240"/>
            </a:xfrm>
            <a:custGeom>
              <a:avLst/>
              <a:gdLst/>
              <a:ahLst/>
              <a:rect l="l" t="t" r="r" b="b"/>
              <a:pathLst>
                <a:path w="91" h="1391">
                  <a:moveTo>
                    <a:pt x="91" y="1323"/>
                  </a:moveTo>
                  <a:lnTo>
                    <a:pt x="91" y="0"/>
                  </a:lnTo>
                  <a:lnTo>
                    <a:pt x="0" y="67"/>
                  </a:lnTo>
                  <a:lnTo>
                    <a:pt x="0" y="1391"/>
                  </a:lnTo>
                  <a:lnTo>
                    <a:pt x="91" y="1323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16320" y="5967360"/>
              <a:ext cx="288720" cy="2102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16320" y="5861160"/>
              <a:ext cx="433440" cy="106200"/>
            </a:xfrm>
            <a:custGeom>
              <a:avLst/>
              <a:gdLst/>
              <a:ahLst/>
              <a:rect l="l" t="t" r="r" b="b"/>
              <a:pathLst>
                <a:path w="273" h="67">
                  <a:moveTo>
                    <a:pt x="273" y="0"/>
                  </a:moveTo>
                  <a:lnTo>
                    <a:pt x="182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273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62480" y="6110280"/>
              <a:ext cx="131760" cy="1959120"/>
            </a:xfrm>
            <a:custGeom>
              <a:avLst/>
              <a:gdLst/>
              <a:ahLst/>
              <a:rect l="l" t="t" r="r" b="b"/>
              <a:pathLst>
                <a:path w="83" h="1234">
                  <a:moveTo>
                    <a:pt x="83" y="1166"/>
                  </a:moveTo>
                  <a:lnTo>
                    <a:pt x="83" y="0"/>
                  </a:lnTo>
                  <a:lnTo>
                    <a:pt x="0" y="67"/>
                  </a:lnTo>
                  <a:lnTo>
                    <a:pt x="0" y="1234"/>
                  </a:lnTo>
                  <a:lnTo>
                    <a:pt x="83" y="1166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62240" y="6216480"/>
              <a:ext cx="300240" cy="18529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62240" y="6110280"/>
              <a:ext cx="432000" cy="106200"/>
            </a:xfrm>
            <a:custGeom>
              <a:avLst/>
              <a:gdLst/>
              <a:ahLst/>
              <a:rect l="l" t="t" r="r" b="b"/>
              <a:pathLst>
                <a:path w="272" h="67">
                  <a:moveTo>
                    <a:pt x="272" y="0"/>
                  </a:moveTo>
                  <a:lnTo>
                    <a:pt x="189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272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08400" y="5718240"/>
              <a:ext cx="144720" cy="2351160"/>
            </a:xfrm>
            <a:custGeom>
              <a:avLst/>
              <a:gdLst/>
              <a:ahLst/>
              <a:rect l="l" t="t" r="r" b="b"/>
              <a:pathLst>
                <a:path w="91" h="1481">
                  <a:moveTo>
                    <a:pt x="91" y="1413"/>
                  </a:moveTo>
                  <a:lnTo>
                    <a:pt x="91" y="0"/>
                  </a:lnTo>
                  <a:lnTo>
                    <a:pt x="0" y="60"/>
                  </a:lnTo>
                  <a:lnTo>
                    <a:pt x="0" y="1481"/>
                  </a:lnTo>
                  <a:lnTo>
                    <a:pt x="91" y="1413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07080" y="5813280"/>
              <a:ext cx="301320" cy="22561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07080" y="5718240"/>
              <a:ext cx="446040" cy="95040"/>
            </a:xfrm>
            <a:custGeom>
              <a:avLst/>
              <a:gdLst/>
              <a:ahLst/>
              <a:rect l="l" t="t" r="r" b="b"/>
              <a:pathLst>
                <a:path w="281" h="60">
                  <a:moveTo>
                    <a:pt x="281" y="0"/>
                  </a:moveTo>
                  <a:lnTo>
                    <a:pt x="190" y="60"/>
                  </a:lnTo>
                  <a:lnTo>
                    <a:pt x="0" y="60"/>
                  </a:lnTo>
                  <a:lnTo>
                    <a:pt x="91" y="0"/>
                  </a:lnTo>
                  <a:lnTo>
                    <a:pt x="281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53240" y="6715080"/>
              <a:ext cx="144360" cy="1354320"/>
            </a:xfrm>
            <a:custGeom>
              <a:avLst/>
              <a:gdLst/>
              <a:ahLst/>
              <a:rect l="l" t="t" r="r" b="b"/>
              <a:pathLst>
                <a:path w="91" h="853">
                  <a:moveTo>
                    <a:pt x="91" y="785"/>
                  </a:moveTo>
                  <a:lnTo>
                    <a:pt x="91" y="0"/>
                  </a:lnTo>
                  <a:lnTo>
                    <a:pt x="0" y="68"/>
                  </a:lnTo>
                  <a:lnTo>
                    <a:pt x="0" y="853"/>
                  </a:lnTo>
                  <a:lnTo>
                    <a:pt x="91" y="785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53000" y="6823080"/>
              <a:ext cx="300240" cy="124632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53000" y="6715080"/>
              <a:ext cx="444600" cy="108000"/>
            </a:xfrm>
            <a:custGeom>
              <a:avLst/>
              <a:gdLst/>
              <a:ahLst/>
              <a:rect l="l" t="t" r="r" b="b"/>
              <a:pathLst>
                <a:path w="280" h="68">
                  <a:moveTo>
                    <a:pt x="280" y="0"/>
                  </a:moveTo>
                  <a:lnTo>
                    <a:pt x="189" y="68"/>
                  </a:lnTo>
                  <a:lnTo>
                    <a:pt x="0" y="68"/>
                  </a:lnTo>
                  <a:lnTo>
                    <a:pt x="91" y="0"/>
                  </a:lnTo>
                  <a:lnTo>
                    <a:pt x="280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851040" y="5065560"/>
              <a:ext cx="1440" cy="300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802800" y="8069400"/>
              <a:ext cx="47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802800" y="7558200"/>
              <a:ext cx="47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02800" y="7059600"/>
              <a:ext cx="47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802800" y="6561000"/>
              <a:ext cx="47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802800" y="6062760"/>
              <a:ext cx="47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802800" y="5564160"/>
              <a:ext cx="47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802800" y="5065560"/>
              <a:ext cx="47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1680" y="8013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680" y="7504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1680" y="700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51680" y="6507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1680" y="6008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1680" y="551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1680" y="5011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51040" y="8069400"/>
              <a:ext cx="5219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51040" y="80694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96960" y="80694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43240" y="80694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87720" y="80694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33640" y="80694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78480" y="80694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24400" y="80694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70680" y="80694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6100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1032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568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02480" y="8158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20160" y="8158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28800" y="81583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9432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4364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6120" y="815832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1528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58120" y="815832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19320" y="815832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50320" y="8158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57520" y="81583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2484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7236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59880" y="81583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7392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2180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7076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14680" y="815832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6616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0760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5512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7600" y="81583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6456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208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2976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7728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2300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7412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1984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6736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6308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10960" y="8158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5632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00960" y="815832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6432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813280" y="815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6920" y="8370720"/>
              <a:ext cx="55087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01280" y="399960"/>
            <a:ext cx="55818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rtalidad hospitalaria según sexo e institució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97040" y="4613400"/>
            <a:ext cx="55814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bución porcentual de las defun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pitalarias por sexo e institu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71400" y="1600200"/>
            <a:ext cx="5613480" cy="2813400"/>
            <a:chOff x="671400" y="1600200"/>
            <a:chExt cx="5613480" cy="2813400"/>
          </a:xfrm>
        </p:grpSpPr>
        <p:sp>
          <p:nvSpPr>
            <p:cNvPr id="438" name=""/>
            <p:cNvSpPr/>
            <p:nvPr/>
          </p:nvSpPr>
          <p:spPr>
            <a:xfrm>
              <a:off x="690480" y="1787400"/>
              <a:ext cx="1622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09960" y="1676160"/>
              <a:ext cx="87624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gres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fun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46320" y="1787400"/>
              <a:ext cx="473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52840" y="1941480"/>
              <a:ext cx="5968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ú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87880" y="1941480"/>
              <a:ext cx="4237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51200" y="1941480"/>
              <a:ext cx="6764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ú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37000" y="1941480"/>
              <a:ext cx="4636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35200" y="1649160"/>
              <a:ext cx="10893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omb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53000" y="1649160"/>
              <a:ext cx="11476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uje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46760" y="1787400"/>
              <a:ext cx="428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.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1400" y="2271600"/>
              <a:ext cx="161460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 o t a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b. No Derechohabie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S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b. Derechohabie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EME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DE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CM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55680" y="2258640"/>
              <a:ext cx="71784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0,63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,97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6,53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,44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,66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7,89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,77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94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5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13120" y="2271600"/>
              <a:ext cx="64116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,730.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,354.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,486.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506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,001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,099.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,863.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,162.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392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19.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59240" y="2271600"/>
              <a:ext cx="71280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,92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,1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,20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9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6,8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,58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,7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6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70240" y="2271600"/>
              <a:ext cx="46692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3.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.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.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.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2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2.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8.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1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8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6.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40400" y="2271600"/>
              <a:ext cx="69192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1,69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,84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,3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52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,85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7,3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,05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9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64000" y="2271600"/>
              <a:ext cx="45432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6.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.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.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.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7.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7.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1.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8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1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3.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83400" y="2271600"/>
              <a:ext cx="46332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2560" y="1600200"/>
              <a:ext cx="5600880" cy="245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5160" y="2226960"/>
              <a:ext cx="55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09680" y="1612800"/>
              <a:ext cx="0" cy="24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67120" y="1612800"/>
              <a:ext cx="4680" cy="244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530160" y="1600200"/>
              <a:ext cx="3240" cy="245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165200" y="1917360"/>
              <a:ext cx="3240" cy="21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38600" y="1612800"/>
              <a:ext cx="1800" cy="244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334120" y="1922400"/>
              <a:ext cx="2880" cy="21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816160" y="1612800"/>
              <a:ext cx="3240" cy="244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40240" y="1911240"/>
              <a:ext cx="227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240" y="4081320"/>
              <a:ext cx="435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asa por 100,000 egres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isten diferencias con la información del Vol. I. Ver la nota en la presentació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46760" y="2271600"/>
              <a:ext cx="43812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63480" y="4761000"/>
            <a:ext cx="5672160" cy="3950280"/>
            <a:chOff x="663480" y="4761000"/>
            <a:chExt cx="5672160" cy="3950280"/>
          </a:xfrm>
        </p:grpSpPr>
        <p:sp>
          <p:nvSpPr>
            <p:cNvPr id="469" name=""/>
            <p:cNvSpPr/>
            <p:nvPr/>
          </p:nvSpPr>
          <p:spPr>
            <a:xfrm>
              <a:off x="663480" y="4761000"/>
              <a:ext cx="18108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8080" y="8112240"/>
              <a:ext cx="5411880" cy="83880"/>
            </a:xfrm>
            <a:custGeom>
              <a:avLst/>
              <a:gdLst/>
              <a:ahLst/>
              <a:rect l="l" t="t" r="r" b="b"/>
              <a:pathLst>
                <a:path w="3409" h="53">
                  <a:moveTo>
                    <a:pt x="3409" y="0"/>
                  </a:moveTo>
                  <a:lnTo>
                    <a:pt x="3341" y="53"/>
                  </a:lnTo>
                  <a:lnTo>
                    <a:pt x="0" y="53"/>
                  </a:lnTo>
                  <a:lnTo>
                    <a:pt x="68" y="0"/>
                  </a:lnTo>
                  <a:lnTo>
                    <a:pt x="340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8112240"/>
              <a:ext cx="5411880" cy="83880"/>
            </a:xfrm>
            <a:custGeom>
              <a:avLst/>
              <a:gdLst/>
              <a:ahLst/>
              <a:rect l="l" t="t" r="r" b="b"/>
              <a:pathLst>
                <a:path w="3409" h="53">
                  <a:moveTo>
                    <a:pt x="0" y="53"/>
                  </a:moveTo>
                  <a:lnTo>
                    <a:pt x="68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7743960"/>
              <a:ext cx="5411880" cy="71280"/>
            </a:xfrm>
            <a:custGeom>
              <a:avLst/>
              <a:gdLst/>
              <a:ahLst/>
              <a:rect l="l" t="t" r="r" b="b"/>
              <a:pathLst>
                <a:path w="3409" h="45">
                  <a:moveTo>
                    <a:pt x="0" y="45"/>
                  </a:moveTo>
                  <a:lnTo>
                    <a:pt x="68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7364520"/>
              <a:ext cx="5411880" cy="71280"/>
            </a:xfrm>
            <a:custGeom>
              <a:avLst/>
              <a:gdLst/>
              <a:ahLst/>
              <a:rect l="l" t="t" r="r" b="b"/>
              <a:pathLst>
                <a:path w="3409" h="45">
                  <a:moveTo>
                    <a:pt x="0" y="45"/>
                  </a:moveTo>
                  <a:lnTo>
                    <a:pt x="68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080" y="6985080"/>
              <a:ext cx="5411880" cy="71280"/>
            </a:xfrm>
            <a:custGeom>
              <a:avLst/>
              <a:gdLst/>
              <a:ahLst/>
              <a:rect l="l" t="t" r="r" b="b"/>
              <a:pathLst>
                <a:path w="3409" h="45">
                  <a:moveTo>
                    <a:pt x="0" y="45"/>
                  </a:moveTo>
                  <a:lnTo>
                    <a:pt x="68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6605640"/>
              <a:ext cx="5411880" cy="71280"/>
            </a:xfrm>
            <a:custGeom>
              <a:avLst/>
              <a:gdLst/>
              <a:ahLst/>
              <a:rect l="l" t="t" r="r" b="b"/>
              <a:pathLst>
                <a:path w="3409" h="45">
                  <a:moveTo>
                    <a:pt x="0" y="45"/>
                  </a:moveTo>
                  <a:lnTo>
                    <a:pt x="68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8080" y="6224760"/>
              <a:ext cx="5411880" cy="71280"/>
            </a:xfrm>
            <a:custGeom>
              <a:avLst/>
              <a:gdLst/>
              <a:ahLst/>
              <a:rect l="l" t="t" r="r" b="b"/>
              <a:pathLst>
                <a:path w="3409" h="45">
                  <a:moveTo>
                    <a:pt x="0" y="45"/>
                  </a:moveTo>
                  <a:lnTo>
                    <a:pt x="68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5845320"/>
              <a:ext cx="5411880" cy="71280"/>
            </a:xfrm>
            <a:custGeom>
              <a:avLst/>
              <a:gdLst/>
              <a:ahLst/>
              <a:rect l="l" t="t" r="r" b="b"/>
              <a:pathLst>
                <a:path w="3409" h="45">
                  <a:moveTo>
                    <a:pt x="0" y="45"/>
                  </a:moveTo>
                  <a:lnTo>
                    <a:pt x="68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465880"/>
              <a:ext cx="5411880" cy="71280"/>
            </a:xfrm>
            <a:custGeom>
              <a:avLst/>
              <a:gdLst/>
              <a:ahLst/>
              <a:rect l="l" t="t" r="r" b="b"/>
              <a:pathLst>
                <a:path w="3409" h="45">
                  <a:moveTo>
                    <a:pt x="0" y="45"/>
                  </a:moveTo>
                  <a:lnTo>
                    <a:pt x="68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5086440"/>
              <a:ext cx="5411880" cy="82440"/>
            </a:xfrm>
            <a:custGeom>
              <a:avLst/>
              <a:gdLst/>
              <a:ahLst/>
              <a:rect l="l" t="t" r="r" b="b"/>
              <a:pathLst>
                <a:path w="3409" h="52">
                  <a:moveTo>
                    <a:pt x="0" y="52"/>
                  </a:moveTo>
                  <a:lnTo>
                    <a:pt x="68" y="0"/>
                  </a:lnTo>
                  <a:lnTo>
                    <a:pt x="34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8080" y="8112240"/>
              <a:ext cx="5411880" cy="83880"/>
            </a:xfrm>
            <a:custGeom>
              <a:avLst/>
              <a:gdLst/>
              <a:ahLst/>
              <a:rect l="l" t="t" r="r" b="b"/>
              <a:pathLst>
                <a:path w="3409" h="53">
                  <a:moveTo>
                    <a:pt x="3409" y="0"/>
                  </a:moveTo>
                  <a:lnTo>
                    <a:pt x="3341" y="53"/>
                  </a:lnTo>
                  <a:lnTo>
                    <a:pt x="0" y="53"/>
                  </a:lnTo>
                  <a:lnTo>
                    <a:pt x="68" y="0"/>
                  </a:lnTo>
                  <a:lnTo>
                    <a:pt x="340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086440"/>
              <a:ext cx="108000" cy="3109680"/>
            </a:xfrm>
            <a:custGeom>
              <a:avLst/>
              <a:gdLst/>
              <a:ahLst/>
              <a:rect l="l" t="t" r="r" b="b"/>
              <a:pathLst>
                <a:path w="68" h="1959">
                  <a:moveTo>
                    <a:pt x="0" y="1959"/>
                  </a:moveTo>
                  <a:lnTo>
                    <a:pt x="0" y="52"/>
                  </a:lnTo>
                  <a:lnTo>
                    <a:pt x="68" y="0"/>
                  </a:lnTo>
                  <a:lnTo>
                    <a:pt x="68" y="1906"/>
                  </a:lnTo>
                  <a:lnTo>
                    <a:pt x="0" y="195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46080" y="5086440"/>
              <a:ext cx="5303880" cy="302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080" y="8196120"/>
              <a:ext cx="5303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819612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95520" y="81961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54400" y="81961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11480" y="81961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68560" y="819612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26000" y="81961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84880" y="81961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41960" y="819612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7216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2148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6684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31320" y="82850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39960" y="828504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0728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5480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97280" y="82850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2608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0720" y="828504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30120" y="828504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72640" y="82850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81280" y="828504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74860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9612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94800" y="82850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0884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5816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0568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49600" y="828504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0252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5512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0264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45120" y="828504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1208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5996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8844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3596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8312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280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7852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2748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62176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6964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1644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59640" y="828504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2444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7232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24000" y="5442120"/>
              <a:ext cx="108000" cy="2754000"/>
            </a:xfrm>
            <a:custGeom>
              <a:avLst/>
              <a:gdLst/>
              <a:ahLst/>
              <a:rect l="l" t="t" r="r" b="b"/>
              <a:pathLst>
                <a:path w="68" h="1735">
                  <a:moveTo>
                    <a:pt x="68" y="1682"/>
                  </a:moveTo>
                  <a:lnTo>
                    <a:pt x="68" y="0"/>
                  </a:lnTo>
                  <a:lnTo>
                    <a:pt x="0" y="52"/>
                  </a:lnTo>
                  <a:lnTo>
                    <a:pt x="0" y="1735"/>
                  </a:lnTo>
                  <a:lnTo>
                    <a:pt x="68" y="168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06560" y="5524560"/>
              <a:ext cx="217440" cy="2671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6560" y="5442120"/>
              <a:ext cx="325440" cy="82440"/>
            </a:xfrm>
            <a:custGeom>
              <a:avLst/>
              <a:gdLst/>
              <a:ahLst/>
              <a:rect l="l" t="t" r="r" b="b"/>
              <a:pathLst>
                <a:path w="205" h="52">
                  <a:moveTo>
                    <a:pt x="205" y="0"/>
                  </a:moveTo>
                  <a:lnTo>
                    <a:pt x="137" y="52"/>
                  </a:lnTo>
                  <a:lnTo>
                    <a:pt x="0" y="52"/>
                  </a:lnTo>
                  <a:lnTo>
                    <a:pt x="68" y="0"/>
                  </a:lnTo>
                  <a:lnTo>
                    <a:pt x="205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40000" y="6248520"/>
              <a:ext cx="96840" cy="1947600"/>
            </a:xfrm>
            <a:custGeom>
              <a:avLst/>
              <a:gdLst/>
              <a:ahLst/>
              <a:rect l="l" t="t" r="r" b="b"/>
              <a:pathLst>
                <a:path w="61" h="1227">
                  <a:moveTo>
                    <a:pt x="61" y="1174"/>
                  </a:moveTo>
                  <a:lnTo>
                    <a:pt x="61" y="0"/>
                  </a:lnTo>
                  <a:lnTo>
                    <a:pt x="0" y="45"/>
                  </a:lnTo>
                  <a:lnTo>
                    <a:pt x="0" y="1227"/>
                  </a:lnTo>
                  <a:lnTo>
                    <a:pt x="61" y="117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24000" y="6319800"/>
              <a:ext cx="216000" cy="1876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24000" y="6248520"/>
              <a:ext cx="312840" cy="71280"/>
            </a:xfrm>
            <a:custGeom>
              <a:avLst/>
              <a:gdLst/>
              <a:ahLst/>
              <a:rect l="l" t="t" r="r" b="b"/>
              <a:pathLst>
                <a:path w="197" h="45">
                  <a:moveTo>
                    <a:pt x="197" y="0"/>
                  </a:moveTo>
                  <a:lnTo>
                    <a:pt x="136" y="45"/>
                  </a:lnTo>
                  <a:lnTo>
                    <a:pt x="0" y="45"/>
                  </a:lnTo>
                  <a:lnTo>
                    <a:pt x="68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81080" y="5407200"/>
              <a:ext cx="95400" cy="2788920"/>
            </a:xfrm>
            <a:custGeom>
              <a:avLst/>
              <a:gdLst/>
              <a:ahLst/>
              <a:rect l="l" t="t" r="r" b="b"/>
              <a:pathLst>
                <a:path w="60" h="1757">
                  <a:moveTo>
                    <a:pt x="60" y="1704"/>
                  </a:moveTo>
                  <a:lnTo>
                    <a:pt x="60" y="0"/>
                  </a:lnTo>
                  <a:lnTo>
                    <a:pt x="0" y="52"/>
                  </a:lnTo>
                  <a:lnTo>
                    <a:pt x="0" y="1757"/>
                  </a:lnTo>
                  <a:lnTo>
                    <a:pt x="60" y="1704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65440" y="5489640"/>
              <a:ext cx="215640" cy="2706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65440" y="5407200"/>
              <a:ext cx="311040" cy="82440"/>
            </a:xfrm>
            <a:custGeom>
              <a:avLst/>
              <a:gdLst/>
              <a:ahLst/>
              <a:rect l="l" t="t" r="r" b="b"/>
              <a:pathLst>
                <a:path w="196" h="52">
                  <a:moveTo>
                    <a:pt x="196" y="0"/>
                  </a:moveTo>
                  <a:lnTo>
                    <a:pt x="136" y="52"/>
                  </a:lnTo>
                  <a:lnTo>
                    <a:pt x="0" y="52"/>
                  </a:lnTo>
                  <a:lnTo>
                    <a:pt x="60" y="0"/>
                  </a:lnTo>
                  <a:lnTo>
                    <a:pt x="196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97080" y="6272280"/>
              <a:ext cx="96840" cy="1923840"/>
            </a:xfrm>
            <a:custGeom>
              <a:avLst/>
              <a:gdLst/>
              <a:ahLst/>
              <a:rect l="l" t="t" r="r" b="b"/>
              <a:pathLst>
                <a:path w="61" h="1212">
                  <a:moveTo>
                    <a:pt x="61" y="1159"/>
                  </a:moveTo>
                  <a:lnTo>
                    <a:pt x="61" y="0"/>
                  </a:lnTo>
                  <a:lnTo>
                    <a:pt x="0" y="53"/>
                  </a:lnTo>
                  <a:lnTo>
                    <a:pt x="0" y="1212"/>
                  </a:lnTo>
                  <a:lnTo>
                    <a:pt x="61" y="115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81080" y="6356520"/>
              <a:ext cx="216000" cy="1839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81080" y="6272280"/>
              <a:ext cx="312840" cy="84240"/>
            </a:xfrm>
            <a:custGeom>
              <a:avLst/>
              <a:gdLst/>
              <a:ahLst/>
              <a:rect l="l" t="t" r="r" b="b"/>
              <a:pathLst>
                <a:path w="197" h="53">
                  <a:moveTo>
                    <a:pt x="197" y="0"/>
                  </a:moveTo>
                  <a:lnTo>
                    <a:pt x="136" y="53"/>
                  </a:lnTo>
                  <a:lnTo>
                    <a:pt x="0" y="53"/>
                  </a:lnTo>
                  <a:lnTo>
                    <a:pt x="60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38520" y="5632560"/>
              <a:ext cx="96840" cy="2563560"/>
            </a:xfrm>
            <a:custGeom>
              <a:avLst/>
              <a:gdLst/>
              <a:ahLst/>
              <a:rect l="l" t="t" r="r" b="b"/>
              <a:pathLst>
                <a:path w="61" h="1615">
                  <a:moveTo>
                    <a:pt x="61" y="1562"/>
                  </a:moveTo>
                  <a:lnTo>
                    <a:pt x="61" y="0"/>
                  </a:lnTo>
                  <a:lnTo>
                    <a:pt x="0" y="52"/>
                  </a:lnTo>
                  <a:lnTo>
                    <a:pt x="0" y="1615"/>
                  </a:lnTo>
                  <a:lnTo>
                    <a:pt x="61" y="1562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22520" y="5715000"/>
              <a:ext cx="216000" cy="2481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22520" y="5632560"/>
              <a:ext cx="312840" cy="8244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197" y="0"/>
                  </a:moveTo>
                  <a:lnTo>
                    <a:pt x="136" y="52"/>
                  </a:lnTo>
                  <a:lnTo>
                    <a:pt x="0" y="52"/>
                  </a:lnTo>
                  <a:lnTo>
                    <a:pt x="60" y="0"/>
                  </a:lnTo>
                  <a:lnTo>
                    <a:pt x="197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54160" y="6059520"/>
              <a:ext cx="96840" cy="2136600"/>
            </a:xfrm>
            <a:custGeom>
              <a:avLst/>
              <a:gdLst/>
              <a:ahLst/>
              <a:rect l="l" t="t" r="r" b="b"/>
              <a:pathLst>
                <a:path w="61" h="1346">
                  <a:moveTo>
                    <a:pt x="61" y="1293"/>
                  </a:moveTo>
                  <a:lnTo>
                    <a:pt x="61" y="0"/>
                  </a:lnTo>
                  <a:lnTo>
                    <a:pt x="0" y="45"/>
                  </a:lnTo>
                  <a:lnTo>
                    <a:pt x="0" y="1346"/>
                  </a:lnTo>
                  <a:lnTo>
                    <a:pt x="61" y="1293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38520" y="6130800"/>
              <a:ext cx="215640" cy="20653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38520" y="6059520"/>
              <a:ext cx="312480" cy="71280"/>
            </a:xfrm>
            <a:custGeom>
              <a:avLst/>
              <a:gdLst/>
              <a:ahLst/>
              <a:rect l="l" t="t" r="r" b="b"/>
              <a:pathLst>
                <a:path w="197" h="45">
                  <a:moveTo>
                    <a:pt x="197" y="0"/>
                  </a:moveTo>
                  <a:lnTo>
                    <a:pt x="136" y="45"/>
                  </a:lnTo>
                  <a:lnTo>
                    <a:pt x="0" y="45"/>
                  </a:lnTo>
                  <a:lnTo>
                    <a:pt x="61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95600" y="5975280"/>
              <a:ext cx="96840" cy="2220840"/>
            </a:xfrm>
            <a:custGeom>
              <a:avLst/>
              <a:gdLst/>
              <a:ahLst/>
              <a:rect l="l" t="t" r="r" b="b"/>
              <a:pathLst>
                <a:path w="61" h="1399">
                  <a:moveTo>
                    <a:pt x="61" y="1346"/>
                  </a:moveTo>
                  <a:lnTo>
                    <a:pt x="61" y="0"/>
                  </a:lnTo>
                  <a:lnTo>
                    <a:pt x="0" y="45"/>
                  </a:lnTo>
                  <a:lnTo>
                    <a:pt x="0" y="1399"/>
                  </a:lnTo>
                  <a:lnTo>
                    <a:pt x="61" y="134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79600" y="6046920"/>
              <a:ext cx="216000" cy="21492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79600" y="5975280"/>
              <a:ext cx="312840" cy="71640"/>
            </a:xfrm>
            <a:custGeom>
              <a:avLst/>
              <a:gdLst/>
              <a:ahLst/>
              <a:rect l="l" t="t" r="r" b="b"/>
              <a:pathLst>
                <a:path w="197" h="45">
                  <a:moveTo>
                    <a:pt x="197" y="0"/>
                  </a:moveTo>
                  <a:lnTo>
                    <a:pt x="136" y="45"/>
                  </a:lnTo>
                  <a:lnTo>
                    <a:pt x="0" y="45"/>
                  </a:lnTo>
                  <a:lnTo>
                    <a:pt x="61" y="0"/>
                  </a:lnTo>
                  <a:lnTo>
                    <a:pt x="197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13040" y="5715000"/>
              <a:ext cx="95400" cy="2481120"/>
            </a:xfrm>
            <a:custGeom>
              <a:avLst/>
              <a:gdLst/>
              <a:ahLst/>
              <a:rect l="l" t="t" r="r" b="b"/>
              <a:pathLst>
                <a:path w="60" h="1563">
                  <a:moveTo>
                    <a:pt x="60" y="1510"/>
                  </a:moveTo>
                  <a:lnTo>
                    <a:pt x="60" y="0"/>
                  </a:lnTo>
                  <a:lnTo>
                    <a:pt x="0" y="52"/>
                  </a:lnTo>
                  <a:lnTo>
                    <a:pt x="0" y="1563"/>
                  </a:lnTo>
                  <a:lnTo>
                    <a:pt x="60" y="151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95600" y="5797440"/>
              <a:ext cx="217440" cy="23986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95600" y="5715000"/>
              <a:ext cx="312840" cy="8244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197" y="0"/>
                  </a:moveTo>
                  <a:lnTo>
                    <a:pt x="137" y="52"/>
                  </a:lnTo>
                  <a:lnTo>
                    <a:pt x="0" y="52"/>
                  </a:lnTo>
                  <a:lnTo>
                    <a:pt x="61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54480" y="5726160"/>
              <a:ext cx="95400" cy="2469960"/>
            </a:xfrm>
            <a:custGeom>
              <a:avLst/>
              <a:gdLst/>
              <a:ahLst/>
              <a:rect l="l" t="t" r="r" b="b"/>
              <a:pathLst>
                <a:path w="60" h="1556">
                  <a:moveTo>
                    <a:pt x="60" y="1503"/>
                  </a:moveTo>
                  <a:lnTo>
                    <a:pt x="60" y="0"/>
                  </a:lnTo>
                  <a:lnTo>
                    <a:pt x="0" y="53"/>
                  </a:lnTo>
                  <a:lnTo>
                    <a:pt x="0" y="1556"/>
                  </a:lnTo>
                  <a:lnTo>
                    <a:pt x="60" y="1503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37040" y="5810400"/>
              <a:ext cx="217440" cy="23857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7040" y="5726160"/>
              <a:ext cx="312840" cy="84240"/>
            </a:xfrm>
            <a:custGeom>
              <a:avLst/>
              <a:gdLst/>
              <a:ahLst/>
              <a:rect l="l" t="t" r="r" b="b"/>
              <a:pathLst>
                <a:path w="197" h="53">
                  <a:moveTo>
                    <a:pt x="197" y="0"/>
                  </a:moveTo>
                  <a:lnTo>
                    <a:pt x="137" y="53"/>
                  </a:lnTo>
                  <a:lnTo>
                    <a:pt x="0" y="53"/>
                  </a:lnTo>
                  <a:lnTo>
                    <a:pt x="61" y="0"/>
                  </a:lnTo>
                  <a:lnTo>
                    <a:pt x="197" y="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70480" y="5951520"/>
              <a:ext cx="95040" cy="2244600"/>
            </a:xfrm>
            <a:custGeom>
              <a:avLst/>
              <a:gdLst/>
              <a:ahLst/>
              <a:rect l="l" t="t" r="r" b="b"/>
              <a:pathLst>
                <a:path w="60" h="1414">
                  <a:moveTo>
                    <a:pt x="60" y="1361"/>
                  </a:moveTo>
                  <a:lnTo>
                    <a:pt x="60" y="0"/>
                  </a:lnTo>
                  <a:lnTo>
                    <a:pt x="0" y="53"/>
                  </a:lnTo>
                  <a:lnTo>
                    <a:pt x="0" y="1414"/>
                  </a:lnTo>
                  <a:lnTo>
                    <a:pt x="60" y="1361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54480" y="6035760"/>
              <a:ext cx="216000" cy="216036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54480" y="5951520"/>
              <a:ext cx="311040" cy="84240"/>
            </a:xfrm>
            <a:custGeom>
              <a:avLst/>
              <a:gdLst/>
              <a:ahLst/>
              <a:rect l="l" t="t" r="r" b="b"/>
              <a:pathLst>
                <a:path w="196" h="53">
                  <a:moveTo>
                    <a:pt x="196" y="0"/>
                  </a:moveTo>
                  <a:lnTo>
                    <a:pt x="136" y="53"/>
                  </a:lnTo>
                  <a:lnTo>
                    <a:pt x="0" y="53"/>
                  </a:lnTo>
                  <a:lnTo>
                    <a:pt x="60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11560" y="5951520"/>
              <a:ext cx="95400" cy="2244600"/>
            </a:xfrm>
            <a:custGeom>
              <a:avLst/>
              <a:gdLst/>
              <a:ahLst/>
              <a:rect l="l" t="t" r="r" b="b"/>
              <a:pathLst>
                <a:path w="60" h="1414">
                  <a:moveTo>
                    <a:pt x="60" y="1361"/>
                  </a:moveTo>
                  <a:lnTo>
                    <a:pt x="60" y="0"/>
                  </a:lnTo>
                  <a:lnTo>
                    <a:pt x="0" y="53"/>
                  </a:lnTo>
                  <a:lnTo>
                    <a:pt x="0" y="1414"/>
                  </a:lnTo>
                  <a:lnTo>
                    <a:pt x="60" y="1361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94120" y="6035760"/>
              <a:ext cx="217440" cy="216036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94120" y="5951520"/>
              <a:ext cx="312840" cy="84240"/>
            </a:xfrm>
            <a:custGeom>
              <a:avLst/>
              <a:gdLst/>
              <a:ahLst/>
              <a:rect l="l" t="t" r="r" b="b"/>
              <a:pathLst>
                <a:path w="197" h="53">
                  <a:moveTo>
                    <a:pt x="197" y="0"/>
                  </a:moveTo>
                  <a:lnTo>
                    <a:pt x="137" y="53"/>
                  </a:lnTo>
                  <a:lnTo>
                    <a:pt x="0" y="53"/>
                  </a:lnTo>
                  <a:lnTo>
                    <a:pt x="61" y="0"/>
                  </a:lnTo>
                  <a:lnTo>
                    <a:pt x="197" y="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27560" y="5726160"/>
              <a:ext cx="96840" cy="2469960"/>
            </a:xfrm>
            <a:custGeom>
              <a:avLst/>
              <a:gdLst/>
              <a:ahLst/>
              <a:rect l="l" t="t" r="r" b="b"/>
              <a:pathLst>
                <a:path w="61" h="1556">
                  <a:moveTo>
                    <a:pt x="61" y="1503"/>
                  </a:moveTo>
                  <a:lnTo>
                    <a:pt x="61" y="0"/>
                  </a:lnTo>
                  <a:lnTo>
                    <a:pt x="0" y="53"/>
                  </a:lnTo>
                  <a:lnTo>
                    <a:pt x="0" y="1556"/>
                  </a:lnTo>
                  <a:lnTo>
                    <a:pt x="61" y="1503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11560" y="5810400"/>
              <a:ext cx="216000" cy="238572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1560" y="5726160"/>
              <a:ext cx="312840" cy="84240"/>
            </a:xfrm>
            <a:custGeom>
              <a:avLst/>
              <a:gdLst/>
              <a:ahLst/>
              <a:rect l="l" t="t" r="r" b="b"/>
              <a:pathLst>
                <a:path w="197" h="53">
                  <a:moveTo>
                    <a:pt x="197" y="0"/>
                  </a:moveTo>
                  <a:lnTo>
                    <a:pt x="136" y="53"/>
                  </a:lnTo>
                  <a:lnTo>
                    <a:pt x="0" y="53"/>
                  </a:lnTo>
                  <a:lnTo>
                    <a:pt x="60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56400" y="6130800"/>
              <a:ext cx="109440" cy="2065320"/>
            </a:xfrm>
            <a:custGeom>
              <a:avLst/>
              <a:gdLst/>
              <a:ahLst/>
              <a:rect l="l" t="t" r="r" b="b"/>
              <a:pathLst>
                <a:path w="69" h="1301">
                  <a:moveTo>
                    <a:pt x="69" y="1248"/>
                  </a:moveTo>
                  <a:lnTo>
                    <a:pt x="69" y="0"/>
                  </a:lnTo>
                  <a:lnTo>
                    <a:pt x="0" y="52"/>
                  </a:lnTo>
                  <a:lnTo>
                    <a:pt x="0" y="1301"/>
                  </a:lnTo>
                  <a:lnTo>
                    <a:pt x="69" y="1248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53000" y="6213600"/>
              <a:ext cx="203400" cy="198252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53000" y="6130800"/>
              <a:ext cx="312840" cy="8280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197" y="0"/>
                  </a:moveTo>
                  <a:lnTo>
                    <a:pt x="128" y="52"/>
                  </a:lnTo>
                  <a:lnTo>
                    <a:pt x="0" y="52"/>
                  </a:lnTo>
                  <a:lnTo>
                    <a:pt x="60" y="0"/>
                  </a:lnTo>
                  <a:lnTo>
                    <a:pt x="197" y="0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73840" y="5560920"/>
              <a:ext cx="108000" cy="2635200"/>
            </a:xfrm>
            <a:custGeom>
              <a:avLst/>
              <a:gdLst/>
              <a:ahLst/>
              <a:rect l="l" t="t" r="r" b="b"/>
              <a:pathLst>
                <a:path w="68" h="1660">
                  <a:moveTo>
                    <a:pt x="68" y="1607"/>
                  </a:moveTo>
                  <a:lnTo>
                    <a:pt x="68" y="0"/>
                  </a:lnTo>
                  <a:lnTo>
                    <a:pt x="0" y="45"/>
                  </a:lnTo>
                  <a:lnTo>
                    <a:pt x="0" y="1660"/>
                  </a:lnTo>
                  <a:lnTo>
                    <a:pt x="68" y="1607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56400" y="5632560"/>
              <a:ext cx="217440" cy="256356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56400" y="5560920"/>
              <a:ext cx="325440" cy="71640"/>
            </a:xfrm>
            <a:custGeom>
              <a:avLst/>
              <a:gdLst/>
              <a:ahLst/>
              <a:rect l="l" t="t" r="r" b="b"/>
              <a:pathLst>
                <a:path w="205" h="45">
                  <a:moveTo>
                    <a:pt x="205" y="0"/>
                  </a:moveTo>
                  <a:lnTo>
                    <a:pt x="137" y="45"/>
                  </a:lnTo>
                  <a:lnTo>
                    <a:pt x="0" y="45"/>
                  </a:lnTo>
                  <a:lnTo>
                    <a:pt x="69" y="0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838080" y="5168520"/>
              <a:ext cx="1800" cy="302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90560" y="819612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90560" y="781524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90560" y="743580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90560" y="705636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790560" y="667692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90560" y="629604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90560" y="591660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90560" y="553716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790560" y="516888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8600" y="814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9080" y="8140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8600" y="7761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080" y="7761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8600" y="7381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9080" y="7381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8600" y="7000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9080" y="7000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78600" y="6621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9080" y="6621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8600" y="6242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39080" y="6242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8600" y="5862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9080" y="5862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78600" y="5481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39080" y="5481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8600" y="5114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9080" y="5114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8196120"/>
              <a:ext cx="5303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8080" y="819612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95520" y="81961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354400" y="81961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11480" y="81961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68560" y="819612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26000" y="81961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84880" y="819612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41960" y="819612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17216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22148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6684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31320" y="82850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39960" y="828504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0728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5480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97280" y="828504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02608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070720" y="828504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30120" y="828504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72640" y="82850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81280" y="828504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4860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9612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94800" y="82850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0884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45816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0568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49600" y="828504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0252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5512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0264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245120" y="828504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1208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5996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8844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93596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8312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280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7852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2748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2176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9640" y="82850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71644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59640" y="828504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2444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72320" y="828504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786040" y="5180040"/>
              <a:ext cx="172080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979720" y="5227560"/>
              <a:ext cx="58680" cy="6048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99240" y="52084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170160" y="52084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27400" y="520848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27480" y="52084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99840" y="520848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32960" y="520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93440" y="520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57760" y="5227560"/>
              <a:ext cx="58680" cy="6048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77640" y="520848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60800" y="52084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23080" y="5208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53680" y="520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217400" y="520848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50520" y="520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11000" y="520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26920" y="8485200"/>
              <a:ext cx="55087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01280" y="399960"/>
            <a:ext cx="55818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rtalidad hospitalaria según promedio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días estancia por institució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457360" y="4572000"/>
            <a:ext cx="2079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edio de días esta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1523880" y="1719360"/>
            <a:ext cx="3868920" cy="2784240"/>
            <a:chOff x="1523880" y="1719360"/>
            <a:chExt cx="3868920" cy="2784240"/>
          </a:xfrm>
        </p:grpSpPr>
        <p:sp>
          <p:nvSpPr>
            <p:cNvPr id="668" name=""/>
            <p:cNvSpPr/>
            <p:nvPr/>
          </p:nvSpPr>
          <p:spPr>
            <a:xfrm>
              <a:off x="1542960" y="2341440"/>
              <a:ext cx="382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3198960" y="1731960"/>
              <a:ext cx="1440" cy="23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3835080" y="1731960"/>
              <a:ext cx="4680" cy="236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81440" y="1725480"/>
              <a:ext cx="0" cy="235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62040" y="1911240"/>
              <a:ext cx="14763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111480" y="1773360"/>
              <a:ext cx="851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gres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fun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54440" y="1773360"/>
              <a:ext cx="71460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medio d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tanc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37240" y="2363760"/>
              <a:ext cx="571320" cy="21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73600" y="1841400"/>
              <a:ext cx="81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ía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tanc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19680" y="2363760"/>
              <a:ext cx="753840" cy="21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30360" y="1719360"/>
              <a:ext cx="3840120" cy="23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525680" y="4114800"/>
              <a:ext cx="3867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/ El promedio no incluye al Departamento del Distrito Federal y al IMSS-Solidarida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xisten diferencias con la información del Vol. I. Ver la nota en la presentació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23880" y="2352600"/>
              <a:ext cx="186876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 o t a l   1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b. No Derechohabiente  1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S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b. Derechohabie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EME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D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100320" y="2352600"/>
              <a:ext cx="70020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0,63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,97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6,53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,44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,66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7,89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,77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94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5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38760" y="2352600"/>
              <a:ext cx="69984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53,80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6,82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6,82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6,98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88,2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7,2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,4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,73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62360" y="2352600"/>
              <a:ext cx="70020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.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.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.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.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.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715320" y="4834080"/>
            <a:ext cx="5555160" cy="3621600"/>
            <a:chOff x="715320" y="4834080"/>
            <a:chExt cx="5555160" cy="3621600"/>
          </a:xfrm>
        </p:grpSpPr>
        <p:sp>
          <p:nvSpPr>
            <p:cNvPr id="685" name=""/>
            <p:cNvSpPr/>
            <p:nvPr/>
          </p:nvSpPr>
          <p:spPr>
            <a:xfrm>
              <a:off x="874800" y="7835760"/>
              <a:ext cx="5364000" cy="108000"/>
            </a:xfrm>
            <a:custGeom>
              <a:avLst/>
              <a:gdLst/>
              <a:ahLst/>
              <a:rect l="l" t="t" r="r" b="b"/>
              <a:pathLst>
                <a:path w="3379" h="68">
                  <a:moveTo>
                    <a:pt x="3379" y="0"/>
                  </a:moveTo>
                  <a:lnTo>
                    <a:pt x="3288" y="68"/>
                  </a:lnTo>
                  <a:lnTo>
                    <a:pt x="0" y="68"/>
                  </a:lnTo>
                  <a:lnTo>
                    <a:pt x="91" y="0"/>
                  </a:lnTo>
                  <a:lnTo>
                    <a:pt x="337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74800" y="7835760"/>
              <a:ext cx="5364000" cy="108000"/>
            </a:xfrm>
            <a:custGeom>
              <a:avLst/>
              <a:gdLst/>
              <a:ahLst/>
              <a:rect l="l" t="t" r="r" b="b"/>
              <a:pathLst>
                <a:path w="3379" h="68">
                  <a:moveTo>
                    <a:pt x="0" y="68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74800" y="7408800"/>
              <a:ext cx="5364000" cy="95400"/>
            </a:xfrm>
            <a:custGeom>
              <a:avLst/>
              <a:gdLst/>
              <a:ahLst/>
              <a:rect l="l" t="t" r="r" b="b"/>
              <a:pathLst>
                <a:path w="3379" h="60">
                  <a:moveTo>
                    <a:pt x="0" y="60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74800" y="6981840"/>
              <a:ext cx="5364000" cy="95400"/>
            </a:xfrm>
            <a:custGeom>
              <a:avLst/>
              <a:gdLst/>
              <a:ahLst/>
              <a:rect l="l" t="t" r="r" b="b"/>
              <a:pathLst>
                <a:path w="3379" h="60">
                  <a:moveTo>
                    <a:pt x="0" y="60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74800" y="6554880"/>
              <a:ext cx="5364000" cy="95040"/>
            </a:xfrm>
            <a:custGeom>
              <a:avLst/>
              <a:gdLst/>
              <a:ahLst/>
              <a:rect l="l" t="t" r="r" b="b"/>
              <a:pathLst>
                <a:path w="3379" h="60">
                  <a:moveTo>
                    <a:pt x="0" y="60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74800" y="6127920"/>
              <a:ext cx="5364000" cy="93600"/>
            </a:xfrm>
            <a:custGeom>
              <a:avLst/>
              <a:gdLst/>
              <a:ahLst/>
              <a:rect l="l" t="t" r="r" b="b"/>
              <a:pathLst>
                <a:path w="3379" h="59">
                  <a:moveTo>
                    <a:pt x="0" y="59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74800" y="5699160"/>
              <a:ext cx="5364000" cy="95040"/>
            </a:xfrm>
            <a:custGeom>
              <a:avLst/>
              <a:gdLst/>
              <a:ahLst/>
              <a:rect l="l" t="t" r="r" b="b"/>
              <a:pathLst>
                <a:path w="3379" h="60">
                  <a:moveTo>
                    <a:pt x="0" y="60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74800" y="5272200"/>
              <a:ext cx="5364000" cy="95040"/>
            </a:xfrm>
            <a:custGeom>
              <a:avLst/>
              <a:gdLst/>
              <a:ahLst/>
              <a:rect l="l" t="t" r="r" b="b"/>
              <a:pathLst>
                <a:path w="3379" h="60">
                  <a:moveTo>
                    <a:pt x="0" y="60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74800" y="4834080"/>
              <a:ext cx="5364000" cy="106200"/>
            </a:xfrm>
            <a:custGeom>
              <a:avLst/>
              <a:gdLst/>
              <a:ahLst/>
              <a:rect l="l" t="t" r="r" b="b"/>
              <a:pathLst>
                <a:path w="3379" h="67">
                  <a:moveTo>
                    <a:pt x="0" y="67"/>
                  </a:moveTo>
                  <a:lnTo>
                    <a:pt x="91" y="0"/>
                  </a:lnTo>
                  <a:lnTo>
                    <a:pt x="33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74800" y="7835760"/>
              <a:ext cx="5364000" cy="108000"/>
            </a:xfrm>
            <a:custGeom>
              <a:avLst/>
              <a:gdLst/>
              <a:ahLst/>
              <a:rect l="l" t="t" r="r" b="b"/>
              <a:pathLst>
                <a:path w="3379" h="68">
                  <a:moveTo>
                    <a:pt x="3379" y="0"/>
                  </a:moveTo>
                  <a:lnTo>
                    <a:pt x="3288" y="68"/>
                  </a:lnTo>
                  <a:lnTo>
                    <a:pt x="0" y="68"/>
                  </a:lnTo>
                  <a:lnTo>
                    <a:pt x="91" y="0"/>
                  </a:lnTo>
                  <a:lnTo>
                    <a:pt x="337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74800" y="4834080"/>
              <a:ext cx="144360" cy="3109680"/>
            </a:xfrm>
            <a:custGeom>
              <a:avLst/>
              <a:gdLst/>
              <a:ahLst/>
              <a:rect l="l" t="t" r="r" b="b"/>
              <a:pathLst>
                <a:path w="91" h="1959">
                  <a:moveTo>
                    <a:pt x="0" y="1959"/>
                  </a:moveTo>
                  <a:lnTo>
                    <a:pt x="0" y="67"/>
                  </a:lnTo>
                  <a:lnTo>
                    <a:pt x="91" y="0"/>
                  </a:lnTo>
                  <a:lnTo>
                    <a:pt x="91" y="1891"/>
                  </a:lnTo>
                  <a:lnTo>
                    <a:pt x="0" y="195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19160" y="4834080"/>
              <a:ext cx="5219640" cy="300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74800" y="7943760"/>
              <a:ext cx="5219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74800" y="794376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620720" y="794376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67000" y="794376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111480" y="794376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57760" y="794376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03680" y="794376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48160" y="794376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94440" y="794376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8476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3408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7944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6600" y="8032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43920" y="8032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852560" y="803268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1988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6740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09880" y="80326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3904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83680" y="803268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143080" y="80326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674080" y="8032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681280" y="803268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4860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979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84000" y="8032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39768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4700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4945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38440" y="80326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899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3136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803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21360" y="803268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883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3620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535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0104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4676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9788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4360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9112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8684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6347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8008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24720" y="803268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8952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3740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92120" y="5094360"/>
              <a:ext cx="144720" cy="2849400"/>
            </a:xfrm>
            <a:custGeom>
              <a:avLst/>
              <a:gdLst/>
              <a:ahLst/>
              <a:rect l="l" t="t" r="r" b="b"/>
              <a:pathLst>
                <a:path w="91" h="1795">
                  <a:moveTo>
                    <a:pt x="91" y="1727"/>
                  </a:moveTo>
                  <a:lnTo>
                    <a:pt x="91" y="0"/>
                  </a:lnTo>
                  <a:lnTo>
                    <a:pt x="0" y="67"/>
                  </a:lnTo>
                  <a:lnTo>
                    <a:pt x="0" y="1795"/>
                  </a:lnTo>
                  <a:lnTo>
                    <a:pt x="91" y="1727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92240" y="5200560"/>
              <a:ext cx="299880" cy="2743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92240" y="5094360"/>
              <a:ext cx="444600" cy="10620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280" y="0"/>
                  </a:moveTo>
                  <a:lnTo>
                    <a:pt x="189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28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138400" y="7835760"/>
              <a:ext cx="144360" cy="108000"/>
            </a:xfrm>
            <a:custGeom>
              <a:avLst/>
              <a:gdLst/>
              <a:ahLst/>
              <a:rect l="l" t="t" r="r" b="b"/>
              <a:pathLst>
                <a:path w="91" h="68">
                  <a:moveTo>
                    <a:pt x="91" y="0"/>
                  </a:moveTo>
                  <a:lnTo>
                    <a:pt x="91" y="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9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36720" y="7943760"/>
              <a:ext cx="30168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836720" y="7835760"/>
              <a:ext cx="446040" cy="108000"/>
            </a:xfrm>
            <a:custGeom>
              <a:avLst/>
              <a:gdLst/>
              <a:ahLst/>
              <a:rect l="l" t="t" r="r" b="b"/>
              <a:pathLst>
                <a:path w="281" h="68">
                  <a:moveTo>
                    <a:pt x="281" y="0"/>
                  </a:moveTo>
                  <a:lnTo>
                    <a:pt x="190" y="68"/>
                  </a:lnTo>
                  <a:lnTo>
                    <a:pt x="0" y="68"/>
                  </a:lnTo>
                  <a:lnTo>
                    <a:pt x="91" y="0"/>
                  </a:lnTo>
                  <a:lnTo>
                    <a:pt x="281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82880" y="6032520"/>
              <a:ext cx="144360" cy="1911240"/>
            </a:xfrm>
            <a:custGeom>
              <a:avLst/>
              <a:gdLst/>
              <a:ahLst/>
              <a:rect l="l" t="t" r="r" b="b"/>
              <a:pathLst>
                <a:path w="91" h="1204">
                  <a:moveTo>
                    <a:pt x="91" y="1136"/>
                  </a:moveTo>
                  <a:lnTo>
                    <a:pt x="91" y="0"/>
                  </a:lnTo>
                  <a:lnTo>
                    <a:pt x="0" y="67"/>
                  </a:lnTo>
                  <a:lnTo>
                    <a:pt x="0" y="1204"/>
                  </a:lnTo>
                  <a:lnTo>
                    <a:pt x="91" y="1136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95600" y="6138720"/>
              <a:ext cx="287280" cy="1805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95600" y="6032520"/>
              <a:ext cx="431640" cy="106200"/>
            </a:xfrm>
            <a:custGeom>
              <a:avLst/>
              <a:gdLst/>
              <a:ahLst/>
              <a:rect l="l" t="t" r="r" b="b"/>
              <a:pathLst>
                <a:path w="272" h="67">
                  <a:moveTo>
                    <a:pt x="272" y="0"/>
                  </a:moveTo>
                  <a:lnTo>
                    <a:pt x="181" y="67"/>
                  </a:lnTo>
                  <a:lnTo>
                    <a:pt x="0" y="67"/>
                  </a:lnTo>
                  <a:lnTo>
                    <a:pt x="83" y="0"/>
                  </a:lnTo>
                  <a:lnTo>
                    <a:pt x="272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29160" y="5925960"/>
              <a:ext cx="144360" cy="2017800"/>
            </a:xfrm>
            <a:custGeom>
              <a:avLst/>
              <a:gdLst/>
              <a:ahLst/>
              <a:rect l="l" t="t" r="r" b="b"/>
              <a:pathLst>
                <a:path w="91" h="1271">
                  <a:moveTo>
                    <a:pt x="91" y="1203"/>
                  </a:moveTo>
                  <a:lnTo>
                    <a:pt x="91" y="0"/>
                  </a:lnTo>
                  <a:lnTo>
                    <a:pt x="0" y="67"/>
                  </a:lnTo>
                  <a:lnTo>
                    <a:pt x="0" y="1271"/>
                  </a:lnTo>
                  <a:lnTo>
                    <a:pt x="91" y="1203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40080" y="6032520"/>
              <a:ext cx="289080" cy="19112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40080" y="5925960"/>
              <a:ext cx="433440" cy="106560"/>
            </a:xfrm>
            <a:custGeom>
              <a:avLst/>
              <a:gdLst/>
              <a:ahLst/>
              <a:rect l="l" t="t" r="r" b="b"/>
              <a:pathLst>
                <a:path w="273" h="67">
                  <a:moveTo>
                    <a:pt x="273" y="0"/>
                  </a:moveTo>
                  <a:lnTo>
                    <a:pt x="182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273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86240" y="6958080"/>
              <a:ext cx="133200" cy="985680"/>
            </a:xfrm>
            <a:custGeom>
              <a:avLst/>
              <a:gdLst/>
              <a:ahLst/>
              <a:rect l="l" t="t" r="r" b="b"/>
              <a:pathLst>
                <a:path w="84" h="621">
                  <a:moveTo>
                    <a:pt x="84" y="553"/>
                  </a:moveTo>
                  <a:lnTo>
                    <a:pt x="84" y="0"/>
                  </a:lnTo>
                  <a:lnTo>
                    <a:pt x="0" y="67"/>
                  </a:lnTo>
                  <a:lnTo>
                    <a:pt x="0" y="621"/>
                  </a:lnTo>
                  <a:lnTo>
                    <a:pt x="84" y="55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86360" y="7064280"/>
              <a:ext cx="299880" cy="879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86360" y="6958080"/>
              <a:ext cx="433080" cy="106200"/>
            </a:xfrm>
            <a:custGeom>
              <a:avLst/>
              <a:gdLst/>
              <a:ahLst/>
              <a:rect l="l" t="t" r="r" b="b"/>
              <a:pathLst>
                <a:path w="273" h="67">
                  <a:moveTo>
                    <a:pt x="273" y="0"/>
                  </a:moveTo>
                  <a:lnTo>
                    <a:pt x="189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273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32520" y="5284800"/>
              <a:ext cx="144360" cy="2658960"/>
            </a:xfrm>
            <a:custGeom>
              <a:avLst/>
              <a:gdLst/>
              <a:ahLst/>
              <a:rect l="l" t="t" r="r" b="b"/>
              <a:pathLst>
                <a:path w="91" h="1675">
                  <a:moveTo>
                    <a:pt x="91" y="1607"/>
                  </a:moveTo>
                  <a:lnTo>
                    <a:pt x="91" y="0"/>
                  </a:lnTo>
                  <a:lnTo>
                    <a:pt x="0" y="67"/>
                  </a:lnTo>
                  <a:lnTo>
                    <a:pt x="0" y="1675"/>
                  </a:lnTo>
                  <a:lnTo>
                    <a:pt x="91" y="1607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32280" y="5391000"/>
              <a:ext cx="300240" cy="25527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32280" y="5284800"/>
              <a:ext cx="444600" cy="10620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280" y="0"/>
                  </a:moveTo>
                  <a:lnTo>
                    <a:pt x="189" y="67"/>
                  </a:lnTo>
                  <a:lnTo>
                    <a:pt x="0" y="67"/>
                  </a:lnTo>
                  <a:lnTo>
                    <a:pt x="90" y="0"/>
                  </a:lnTo>
                  <a:lnTo>
                    <a:pt x="280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78440" y="6162840"/>
              <a:ext cx="142920" cy="1780920"/>
            </a:xfrm>
            <a:custGeom>
              <a:avLst/>
              <a:gdLst/>
              <a:ahLst/>
              <a:rect l="l" t="t" r="r" b="b"/>
              <a:pathLst>
                <a:path w="90" h="1122">
                  <a:moveTo>
                    <a:pt x="90" y="1054"/>
                  </a:moveTo>
                  <a:lnTo>
                    <a:pt x="90" y="0"/>
                  </a:lnTo>
                  <a:lnTo>
                    <a:pt x="0" y="67"/>
                  </a:lnTo>
                  <a:lnTo>
                    <a:pt x="0" y="1122"/>
                  </a:lnTo>
                  <a:lnTo>
                    <a:pt x="90" y="105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76760" y="6269040"/>
              <a:ext cx="301680" cy="167472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76760" y="6162840"/>
              <a:ext cx="444600" cy="10620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280" y="0"/>
                  </a:moveTo>
                  <a:lnTo>
                    <a:pt x="190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280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874800" y="4939920"/>
              <a:ext cx="1440" cy="30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826560" y="7943760"/>
              <a:ext cx="47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826560" y="7504200"/>
              <a:ext cx="47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826560" y="7077240"/>
              <a:ext cx="47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826560" y="6649920"/>
              <a:ext cx="47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826560" y="6221520"/>
              <a:ext cx="47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826560" y="5794200"/>
              <a:ext cx="47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826560" y="5367240"/>
              <a:ext cx="47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826560" y="4940280"/>
              <a:ext cx="47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75440" y="7888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75440" y="745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75440" y="702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75440" y="6594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5440" y="6167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5320" y="574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5440" y="574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5320" y="5313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75440" y="53132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5320" y="4886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5440" y="4886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74800" y="7943760"/>
              <a:ext cx="5219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74800" y="794376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20720" y="794376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67000" y="794376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11480" y="794376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857760" y="794376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03680" y="794376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48160" y="794376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094440" y="794376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8476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3408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27944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26600" y="8032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43920" y="8032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52560" y="803268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1988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6740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009880" y="8032680"/>
              <a:ext cx="26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3904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083680" y="8032680"/>
              <a:ext cx="60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143080" y="80326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4080" y="8032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81280" y="803268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4860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979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384000" y="8032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9768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4700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945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38440" y="8032680"/>
              <a:ext cx="47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899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13136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1803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21360" y="803268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883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33620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8535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104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4676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9788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4360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9112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8684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34720" y="80326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68008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4720" y="803268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8952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37400" y="8032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62120" y="8229600"/>
              <a:ext cx="55083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01280" y="399960"/>
            <a:ext cx="55818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tribución porcentual de la mortalida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pitalaria según grupos de edad e institució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Nacional de Salu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31760" y="3746520"/>
            <a:ext cx="5369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isten diferencias con la información del Vol. I. Ver la nota en la present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52560" y="1636560"/>
            <a:ext cx="2857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upos de e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062000" y="1593720"/>
            <a:ext cx="4653000" cy="2152800"/>
            <a:chOff x="1062000" y="1593720"/>
            <a:chExt cx="4653000" cy="2152800"/>
          </a:xfrm>
        </p:grpSpPr>
        <p:sp>
          <p:nvSpPr>
            <p:cNvPr id="839" name=""/>
            <p:cNvSpPr/>
            <p:nvPr/>
          </p:nvSpPr>
          <p:spPr>
            <a:xfrm>
              <a:off x="1062000" y="1763640"/>
              <a:ext cx="147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98760" y="1649520"/>
              <a:ext cx="68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85840" y="2176560"/>
              <a:ext cx="146520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 o t a 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ob. No Derechohabien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S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ob. Derechohabien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EME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DE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M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71680" y="2176560"/>
              <a:ext cx="70020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6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3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3.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2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176560"/>
              <a:ext cx="46980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7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7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1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.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.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154160" y="1600200"/>
              <a:ext cx="4545000" cy="214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65320" y="2158920"/>
              <a:ext cx="453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575080" y="1593720"/>
              <a:ext cx="0" cy="214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84560" y="1606680"/>
              <a:ext cx="0" cy="21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03680" y="2176560"/>
              <a:ext cx="36036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10120" y="2176560"/>
              <a:ext cx="3952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592520" y="2176560"/>
              <a:ext cx="41940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6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9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4.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5.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4.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1.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75280" y="2176560"/>
              <a:ext cx="51264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8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8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4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2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2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9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8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1.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92480" y="1851120"/>
              <a:ext cx="250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03640" y="1906560"/>
              <a:ext cx="446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03680" y="1906560"/>
              <a:ext cx="411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 -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10120" y="1906560"/>
              <a:ext cx="479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 - 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592520" y="1906560"/>
              <a:ext cx="497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-6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00840" y="1906560"/>
              <a:ext cx="614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 y má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76680" y="1860480"/>
              <a:ext cx="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100400" y="1860480"/>
              <a:ext cx="0" cy="18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565520" y="1855800"/>
              <a:ext cx="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065920" y="1860480"/>
              <a:ext cx="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1050840" y="4224240"/>
            <a:ext cx="5059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bución porcentual de la mortalidad según grupos de edad 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blación abierta y derechohab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838080" y="4495680"/>
            <a:ext cx="4930560" cy="3908520"/>
            <a:chOff x="838080" y="4495680"/>
            <a:chExt cx="4930560" cy="3908520"/>
          </a:xfrm>
        </p:grpSpPr>
        <p:sp>
          <p:nvSpPr>
            <p:cNvPr id="864" name=""/>
            <p:cNvSpPr/>
            <p:nvPr/>
          </p:nvSpPr>
          <p:spPr>
            <a:xfrm>
              <a:off x="1039320" y="7851240"/>
              <a:ext cx="4722120" cy="97200"/>
            </a:xfrm>
            <a:custGeom>
              <a:avLst/>
              <a:gdLst/>
              <a:ahLst/>
              <a:rect l="l" t="t" r="r" b="b"/>
              <a:pathLst>
                <a:path w="3257" h="67">
                  <a:moveTo>
                    <a:pt x="3257" y="0"/>
                  </a:moveTo>
                  <a:lnTo>
                    <a:pt x="3166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325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39320" y="7851240"/>
              <a:ext cx="4722120" cy="97200"/>
            </a:xfrm>
            <a:custGeom>
              <a:avLst/>
              <a:gdLst/>
              <a:ahLst/>
              <a:rect l="l" t="t" r="r" b="b"/>
              <a:pathLst>
                <a:path w="3257" h="67">
                  <a:moveTo>
                    <a:pt x="0" y="67"/>
                  </a:moveTo>
                  <a:lnTo>
                    <a:pt x="91" y="0"/>
                  </a:lnTo>
                  <a:lnTo>
                    <a:pt x="32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39320" y="7330680"/>
              <a:ext cx="4722120" cy="97200"/>
            </a:xfrm>
            <a:custGeom>
              <a:avLst/>
              <a:gdLst/>
              <a:ahLst/>
              <a:rect l="l" t="t" r="r" b="b"/>
              <a:pathLst>
                <a:path w="3257" h="67">
                  <a:moveTo>
                    <a:pt x="0" y="67"/>
                  </a:moveTo>
                  <a:lnTo>
                    <a:pt x="91" y="0"/>
                  </a:lnTo>
                  <a:lnTo>
                    <a:pt x="32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39320" y="6820200"/>
              <a:ext cx="4722120" cy="97200"/>
            </a:xfrm>
            <a:custGeom>
              <a:avLst/>
              <a:gdLst/>
              <a:ahLst/>
              <a:rect l="l" t="t" r="r" b="b"/>
              <a:pathLst>
                <a:path w="3257" h="67">
                  <a:moveTo>
                    <a:pt x="0" y="67"/>
                  </a:moveTo>
                  <a:lnTo>
                    <a:pt x="91" y="0"/>
                  </a:lnTo>
                  <a:lnTo>
                    <a:pt x="32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39320" y="6311160"/>
              <a:ext cx="4722120" cy="87120"/>
            </a:xfrm>
            <a:custGeom>
              <a:avLst/>
              <a:gdLst/>
              <a:ahLst/>
              <a:rect l="l" t="t" r="r" b="b"/>
              <a:pathLst>
                <a:path w="3257" h="60">
                  <a:moveTo>
                    <a:pt x="0" y="60"/>
                  </a:moveTo>
                  <a:lnTo>
                    <a:pt x="91" y="0"/>
                  </a:lnTo>
                  <a:lnTo>
                    <a:pt x="32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39320" y="5790600"/>
              <a:ext cx="4722120" cy="97200"/>
            </a:xfrm>
            <a:custGeom>
              <a:avLst/>
              <a:gdLst/>
              <a:ahLst/>
              <a:rect l="l" t="t" r="r" b="b"/>
              <a:pathLst>
                <a:path w="3257" h="67">
                  <a:moveTo>
                    <a:pt x="0" y="67"/>
                  </a:moveTo>
                  <a:lnTo>
                    <a:pt x="91" y="0"/>
                  </a:lnTo>
                  <a:lnTo>
                    <a:pt x="32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39320" y="5280120"/>
              <a:ext cx="4722120" cy="98640"/>
            </a:xfrm>
            <a:custGeom>
              <a:avLst/>
              <a:gdLst/>
              <a:ahLst/>
              <a:rect l="l" t="t" r="r" b="b"/>
              <a:pathLst>
                <a:path w="3257" h="68">
                  <a:moveTo>
                    <a:pt x="0" y="68"/>
                  </a:moveTo>
                  <a:lnTo>
                    <a:pt x="91" y="0"/>
                  </a:lnTo>
                  <a:lnTo>
                    <a:pt x="32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039320" y="4759560"/>
              <a:ext cx="4722120" cy="98640"/>
            </a:xfrm>
            <a:custGeom>
              <a:avLst/>
              <a:gdLst/>
              <a:ahLst/>
              <a:rect l="l" t="t" r="r" b="b"/>
              <a:pathLst>
                <a:path w="3257" h="68">
                  <a:moveTo>
                    <a:pt x="0" y="68"/>
                  </a:moveTo>
                  <a:lnTo>
                    <a:pt x="91" y="0"/>
                  </a:lnTo>
                  <a:lnTo>
                    <a:pt x="32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39320" y="7851240"/>
              <a:ext cx="4722120" cy="97200"/>
            </a:xfrm>
            <a:custGeom>
              <a:avLst/>
              <a:gdLst/>
              <a:ahLst/>
              <a:rect l="l" t="t" r="r" b="b"/>
              <a:pathLst>
                <a:path w="3257" h="67">
                  <a:moveTo>
                    <a:pt x="3257" y="0"/>
                  </a:moveTo>
                  <a:lnTo>
                    <a:pt x="3166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3257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39320" y="4759560"/>
              <a:ext cx="131760" cy="3188880"/>
            </a:xfrm>
            <a:custGeom>
              <a:avLst/>
              <a:gdLst/>
              <a:ahLst/>
              <a:rect l="l" t="t" r="r" b="b"/>
              <a:pathLst>
                <a:path w="91" h="2199">
                  <a:moveTo>
                    <a:pt x="0" y="2199"/>
                  </a:moveTo>
                  <a:lnTo>
                    <a:pt x="0" y="68"/>
                  </a:lnTo>
                  <a:lnTo>
                    <a:pt x="91" y="0"/>
                  </a:lnTo>
                  <a:lnTo>
                    <a:pt x="91" y="2132"/>
                  </a:lnTo>
                  <a:lnTo>
                    <a:pt x="0" y="219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171440" y="4759560"/>
              <a:ext cx="4590000" cy="309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39320" y="7948800"/>
              <a:ext cx="4590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39320" y="7948800"/>
              <a:ext cx="108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61280" y="7948800"/>
              <a:ext cx="144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73520" y="7948800"/>
              <a:ext cx="108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95840" y="7948800"/>
              <a:ext cx="108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19240" y="7948800"/>
              <a:ext cx="108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29680" y="7948800"/>
              <a:ext cx="108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451160" y="80186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9436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51740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26296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8528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0616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2956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5188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8392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0624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42856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48328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504880" y="8018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52648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55960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1840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4000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8500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08040" y="8018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33792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6168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1748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5260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9688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40080" y="8018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7392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2720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6376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0804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5088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8436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2684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248800" y="80186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00480" y="6440400"/>
              <a:ext cx="121320" cy="1508040"/>
            </a:xfrm>
            <a:custGeom>
              <a:avLst/>
              <a:gdLst/>
              <a:ahLst/>
              <a:rect l="l" t="t" r="r" b="b"/>
              <a:pathLst>
                <a:path w="84" h="1040">
                  <a:moveTo>
                    <a:pt x="84" y="973"/>
                  </a:moveTo>
                  <a:lnTo>
                    <a:pt x="84" y="0"/>
                  </a:lnTo>
                  <a:lnTo>
                    <a:pt x="0" y="68"/>
                  </a:lnTo>
                  <a:lnTo>
                    <a:pt x="0" y="1040"/>
                  </a:lnTo>
                  <a:lnTo>
                    <a:pt x="84" y="973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236240" y="6539040"/>
              <a:ext cx="263880" cy="1409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236240" y="6440400"/>
              <a:ext cx="385560" cy="98640"/>
            </a:xfrm>
            <a:custGeom>
              <a:avLst/>
              <a:gdLst/>
              <a:ahLst/>
              <a:rect l="l" t="t" r="r" b="b"/>
              <a:pathLst>
                <a:path w="266" h="68">
                  <a:moveTo>
                    <a:pt x="266" y="0"/>
                  </a:moveTo>
                  <a:lnTo>
                    <a:pt x="182" y="68"/>
                  </a:lnTo>
                  <a:lnTo>
                    <a:pt x="0" y="68"/>
                  </a:lnTo>
                  <a:lnTo>
                    <a:pt x="91" y="0"/>
                  </a:lnTo>
                  <a:lnTo>
                    <a:pt x="266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764360" y="7330680"/>
              <a:ext cx="120240" cy="617760"/>
            </a:xfrm>
            <a:custGeom>
              <a:avLst/>
              <a:gdLst/>
              <a:ahLst/>
              <a:rect l="l" t="t" r="r" b="b"/>
              <a:pathLst>
                <a:path w="83" h="426">
                  <a:moveTo>
                    <a:pt x="83" y="359"/>
                  </a:moveTo>
                  <a:lnTo>
                    <a:pt x="83" y="0"/>
                  </a:lnTo>
                  <a:lnTo>
                    <a:pt x="0" y="67"/>
                  </a:lnTo>
                  <a:lnTo>
                    <a:pt x="0" y="426"/>
                  </a:lnTo>
                  <a:lnTo>
                    <a:pt x="83" y="359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500480" y="7428240"/>
              <a:ext cx="26388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500480" y="7330680"/>
              <a:ext cx="384120" cy="97200"/>
            </a:xfrm>
            <a:custGeom>
              <a:avLst/>
              <a:gdLst/>
              <a:ahLst/>
              <a:rect l="l" t="t" r="r" b="b"/>
              <a:pathLst>
                <a:path w="265" h="67">
                  <a:moveTo>
                    <a:pt x="265" y="0"/>
                  </a:moveTo>
                  <a:lnTo>
                    <a:pt x="182" y="67"/>
                  </a:lnTo>
                  <a:lnTo>
                    <a:pt x="0" y="67"/>
                  </a:lnTo>
                  <a:lnTo>
                    <a:pt x="84" y="0"/>
                  </a:lnTo>
                  <a:lnTo>
                    <a:pt x="265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423880" y="7731000"/>
              <a:ext cx="120240" cy="217440"/>
            </a:xfrm>
            <a:custGeom>
              <a:avLst/>
              <a:gdLst/>
              <a:ahLst/>
              <a:rect l="l" t="t" r="r" b="b"/>
              <a:pathLst>
                <a:path w="83" h="150">
                  <a:moveTo>
                    <a:pt x="83" y="83"/>
                  </a:moveTo>
                  <a:lnTo>
                    <a:pt x="83" y="0"/>
                  </a:lnTo>
                  <a:lnTo>
                    <a:pt x="0" y="68"/>
                  </a:lnTo>
                  <a:lnTo>
                    <a:pt x="0" y="150"/>
                  </a:lnTo>
                  <a:lnTo>
                    <a:pt x="83" y="8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60000" y="7829640"/>
              <a:ext cx="263880" cy="118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60000" y="7731000"/>
              <a:ext cx="384120" cy="98640"/>
            </a:xfrm>
            <a:custGeom>
              <a:avLst/>
              <a:gdLst/>
              <a:ahLst/>
              <a:rect l="l" t="t" r="r" b="b"/>
              <a:pathLst>
                <a:path w="265" h="68">
                  <a:moveTo>
                    <a:pt x="265" y="0"/>
                  </a:moveTo>
                  <a:lnTo>
                    <a:pt x="182" y="68"/>
                  </a:lnTo>
                  <a:lnTo>
                    <a:pt x="0" y="68"/>
                  </a:lnTo>
                  <a:lnTo>
                    <a:pt x="83" y="0"/>
                  </a:lnTo>
                  <a:lnTo>
                    <a:pt x="265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686320" y="7796520"/>
              <a:ext cx="121680" cy="151920"/>
            </a:xfrm>
            <a:custGeom>
              <a:avLst/>
              <a:gdLst/>
              <a:ahLst/>
              <a:rect l="l" t="t" r="r" b="b"/>
              <a:pathLst>
                <a:path w="84" h="105">
                  <a:moveTo>
                    <a:pt x="84" y="38"/>
                  </a:moveTo>
                  <a:lnTo>
                    <a:pt x="84" y="0"/>
                  </a:lnTo>
                  <a:lnTo>
                    <a:pt x="0" y="68"/>
                  </a:lnTo>
                  <a:lnTo>
                    <a:pt x="0" y="105"/>
                  </a:lnTo>
                  <a:lnTo>
                    <a:pt x="84" y="3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423880" y="7895160"/>
              <a:ext cx="262080" cy="532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423880" y="7796520"/>
              <a:ext cx="384120" cy="98640"/>
            </a:xfrm>
            <a:custGeom>
              <a:avLst/>
              <a:gdLst/>
              <a:ahLst/>
              <a:rect l="l" t="t" r="r" b="b"/>
              <a:pathLst>
                <a:path w="265" h="68">
                  <a:moveTo>
                    <a:pt x="265" y="0"/>
                  </a:moveTo>
                  <a:lnTo>
                    <a:pt x="181" y="68"/>
                  </a:lnTo>
                  <a:lnTo>
                    <a:pt x="0" y="68"/>
                  </a:lnTo>
                  <a:lnTo>
                    <a:pt x="83" y="0"/>
                  </a:lnTo>
                  <a:lnTo>
                    <a:pt x="265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334320" y="7742880"/>
              <a:ext cx="132120" cy="205560"/>
            </a:xfrm>
            <a:custGeom>
              <a:avLst/>
              <a:gdLst/>
              <a:ahLst/>
              <a:rect l="l" t="t" r="r" b="b"/>
              <a:pathLst>
                <a:path w="91" h="142">
                  <a:moveTo>
                    <a:pt x="91" y="75"/>
                  </a:moveTo>
                  <a:lnTo>
                    <a:pt x="91" y="0"/>
                  </a:lnTo>
                  <a:lnTo>
                    <a:pt x="0" y="67"/>
                  </a:lnTo>
                  <a:lnTo>
                    <a:pt x="0" y="142"/>
                  </a:lnTo>
                  <a:lnTo>
                    <a:pt x="91" y="75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70800" y="7839720"/>
              <a:ext cx="263520" cy="1087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70800" y="7742880"/>
              <a:ext cx="395640" cy="96840"/>
            </a:xfrm>
            <a:custGeom>
              <a:avLst/>
              <a:gdLst/>
              <a:ahLst/>
              <a:rect l="l" t="t" r="r" b="b"/>
              <a:pathLst>
                <a:path w="273" h="67">
                  <a:moveTo>
                    <a:pt x="273" y="0"/>
                  </a:moveTo>
                  <a:lnTo>
                    <a:pt x="182" y="67"/>
                  </a:lnTo>
                  <a:lnTo>
                    <a:pt x="0" y="67"/>
                  </a:lnTo>
                  <a:lnTo>
                    <a:pt x="91" y="0"/>
                  </a:lnTo>
                  <a:lnTo>
                    <a:pt x="273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598560" y="7774920"/>
              <a:ext cx="131760" cy="173880"/>
            </a:xfrm>
            <a:custGeom>
              <a:avLst/>
              <a:gdLst/>
              <a:ahLst/>
              <a:rect l="l" t="t" r="r" b="b"/>
              <a:pathLst>
                <a:path w="91" h="120">
                  <a:moveTo>
                    <a:pt x="91" y="53"/>
                  </a:moveTo>
                  <a:lnTo>
                    <a:pt x="91" y="0"/>
                  </a:lnTo>
                  <a:lnTo>
                    <a:pt x="0" y="68"/>
                  </a:lnTo>
                  <a:lnTo>
                    <a:pt x="0" y="120"/>
                  </a:lnTo>
                  <a:lnTo>
                    <a:pt x="91" y="53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34320" y="7873560"/>
              <a:ext cx="263880" cy="752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34320" y="7774920"/>
              <a:ext cx="395640" cy="98640"/>
            </a:xfrm>
            <a:custGeom>
              <a:avLst/>
              <a:gdLst/>
              <a:ahLst/>
              <a:rect l="l" t="t" r="r" b="b"/>
              <a:pathLst>
                <a:path w="273" h="68">
                  <a:moveTo>
                    <a:pt x="273" y="0"/>
                  </a:moveTo>
                  <a:lnTo>
                    <a:pt x="182" y="68"/>
                  </a:lnTo>
                  <a:lnTo>
                    <a:pt x="0" y="68"/>
                  </a:lnTo>
                  <a:lnTo>
                    <a:pt x="91" y="0"/>
                  </a:lnTo>
                  <a:lnTo>
                    <a:pt x="273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256640" y="5822640"/>
              <a:ext cx="121320" cy="2126160"/>
            </a:xfrm>
            <a:custGeom>
              <a:avLst/>
              <a:gdLst/>
              <a:ahLst/>
              <a:rect l="l" t="t" r="r" b="b"/>
              <a:pathLst>
                <a:path w="84" h="1466">
                  <a:moveTo>
                    <a:pt x="84" y="1399"/>
                  </a:moveTo>
                  <a:lnTo>
                    <a:pt x="84" y="0"/>
                  </a:lnTo>
                  <a:lnTo>
                    <a:pt x="0" y="60"/>
                  </a:lnTo>
                  <a:lnTo>
                    <a:pt x="0" y="1466"/>
                  </a:lnTo>
                  <a:lnTo>
                    <a:pt x="84" y="1399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994200" y="5909760"/>
              <a:ext cx="262080" cy="203904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94200" y="5822640"/>
              <a:ext cx="383760" cy="87120"/>
            </a:xfrm>
            <a:custGeom>
              <a:avLst/>
              <a:gdLst/>
              <a:ahLst/>
              <a:rect l="l" t="t" r="r" b="b"/>
              <a:pathLst>
                <a:path w="265" h="60">
                  <a:moveTo>
                    <a:pt x="265" y="0"/>
                  </a:moveTo>
                  <a:lnTo>
                    <a:pt x="181" y="60"/>
                  </a:lnTo>
                  <a:lnTo>
                    <a:pt x="0" y="60"/>
                  </a:lnTo>
                  <a:lnTo>
                    <a:pt x="83" y="0"/>
                  </a:lnTo>
                  <a:lnTo>
                    <a:pt x="265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20520" y="6050520"/>
              <a:ext cx="121680" cy="1898280"/>
            </a:xfrm>
            <a:custGeom>
              <a:avLst/>
              <a:gdLst/>
              <a:ahLst/>
              <a:rect l="l" t="t" r="r" b="b"/>
              <a:pathLst>
                <a:path w="84" h="1309">
                  <a:moveTo>
                    <a:pt x="84" y="1242"/>
                  </a:moveTo>
                  <a:lnTo>
                    <a:pt x="84" y="0"/>
                  </a:lnTo>
                  <a:lnTo>
                    <a:pt x="0" y="68"/>
                  </a:lnTo>
                  <a:lnTo>
                    <a:pt x="0" y="1309"/>
                  </a:lnTo>
                  <a:lnTo>
                    <a:pt x="84" y="1242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256640" y="6148800"/>
              <a:ext cx="263520" cy="17996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56640" y="6050520"/>
              <a:ext cx="385560" cy="98280"/>
            </a:xfrm>
            <a:custGeom>
              <a:avLst/>
              <a:gdLst/>
              <a:ahLst/>
              <a:rect l="l" t="t" r="r" b="b"/>
              <a:pathLst>
                <a:path w="266" h="68">
                  <a:moveTo>
                    <a:pt x="266" y="0"/>
                  </a:moveTo>
                  <a:lnTo>
                    <a:pt x="182" y="68"/>
                  </a:lnTo>
                  <a:lnTo>
                    <a:pt x="0" y="68"/>
                  </a:lnTo>
                  <a:lnTo>
                    <a:pt x="84" y="0"/>
                  </a:lnTo>
                  <a:lnTo>
                    <a:pt x="266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80400" y="6364800"/>
              <a:ext cx="120240" cy="1583640"/>
            </a:xfrm>
            <a:custGeom>
              <a:avLst/>
              <a:gdLst/>
              <a:ahLst/>
              <a:rect l="l" t="t" r="r" b="b"/>
              <a:pathLst>
                <a:path w="83" h="1092">
                  <a:moveTo>
                    <a:pt x="83" y="1025"/>
                  </a:moveTo>
                  <a:lnTo>
                    <a:pt x="83" y="0"/>
                  </a:lnTo>
                  <a:lnTo>
                    <a:pt x="0" y="67"/>
                  </a:lnTo>
                  <a:lnTo>
                    <a:pt x="0" y="1092"/>
                  </a:lnTo>
                  <a:lnTo>
                    <a:pt x="83" y="1025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16160" y="6462360"/>
              <a:ext cx="263880" cy="14864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916160" y="6364800"/>
              <a:ext cx="384120" cy="97200"/>
            </a:xfrm>
            <a:custGeom>
              <a:avLst/>
              <a:gdLst/>
              <a:ahLst/>
              <a:rect l="l" t="t" r="r" b="b"/>
              <a:pathLst>
                <a:path w="265" h="67">
                  <a:moveTo>
                    <a:pt x="265" y="0"/>
                  </a:moveTo>
                  <a:lnTo>
                    <a:pt x="182" y="67"/>
                  </a:lnTo>
                  <a:lnTo>
                    <a:pt x="0" y="67"/>
                  </a:lnTo>
                  <a:lnTo>
                    <a:pt x="83" y="0"/>
                  </a:lnTo>
                  <a:lnTo>
                    <a:pt x="265" y="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432400" y="5149800"/>
              <a:ext cx="131760" cy="2799000"/>
            </a:xfrm>
            <a:custGeom>
              <a:avLst/>
              <a:gdLst/>
              <a:ahLst/>
              <a:rect l="l" t="t" r="r" b="b"/>
              <a:pathLst>
                <a:path w="91" h="1930">
                  <a:moveTo>
                    <a:pt x="91" y="1863"/>
                  </a:moveTo>
                  <a:lnTo>
                    <a:pt x="91" y="0"/>
                  </a:lnTo>
                  <a:lnTo>
                    <a:pt x="0" y="60"/>
                  </a:lnTo>
                  <a:lnTo>
                    <a:pt x="0" y="1930"/>
                  </a:lnTo>
                  <a:lnTo>
                    <a:pt x="91" y="1863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180400" y="5236920"/>
              <a:ext cx="252000" cy="271188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0400" y="5149800"/>
              <a:ext cx="383760" cy="87120"/>
            </a:xfrm>
            <a:custGeom>
              <a:avLst/>
              <a:gdLst/>
              <a:ahLst/>
              <a:rect l="l" t="t" r="r" b="b"/>
              <a:pathLst>
                <a:path w="265" h="60">
                  <a:moveTo>
                    <a:pt x="265" y="0"/>
                  </a:moveTo>
                  <a:lnTo>
                    <a:pt x="174" y="60"/>
                  </a:lnTo>
                  <a:lnTo>
                    <a:pt x="0" y="60"/>
                  </a:lnTo>
                  <a:lnTo>
                    <a:pt x="83" y="0"/>
                  </a:lnTo>
                  <a:lnTo>
                    <a:pt x="265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1039320" y="4858200"/>
              <a:ext cx="1080" cy="309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995400" y="7948800"/>
              <a:ext cx="43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995400" y="7428240"/>
              <a:ext cx="43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995400" y="6917760"/>
              <a:ext cx="43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995400" y="6398280"/>
              <a:ext cx="43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995400" y="5888160"/>
              <a:ext cx="43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995400" y="5378760"/>
              <a:ext cx="43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995400" y="4858200"/>
              <a:ext cx="43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23040" y="7899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67960" y="7378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23040" y="7378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67960" y="6865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923040" y="6865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67960" y="6346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923040" y="6346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67960" y="583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23040" y="583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7960" y="5326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923040" y="5326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67960" y="480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23040" y="4807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39320" y="7948800"/>
              <a:ext cx="4579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039320" y="7948800"/>
              <a:ext cx="108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961280" y="7948800"/>
              <a:ext cx="144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73520" y="7948800"/>
              <a:ext cx="108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95840" y="7948800"/>
              <a:ext cx="108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719240" y="7948800"/>
              <a:ext cx="108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29680" y="7948800"/>
              <a:ext cx="108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51160" y="80186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9436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51740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26296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8528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0616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32956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35188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8392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0624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2856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8328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04880" y="8018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2648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5960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21840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4000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8500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308040" y="8018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3792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36168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1748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5260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9688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240080" y="80186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7392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32720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06376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10804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5088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84360" y="801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26840" y="8018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48800" y="80186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51400" y="5052600"/>
              <a:ext cx="54720" cy="5472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42040" y="5052600"/>
              <a:ext cx="54720" cy="5472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38080" y="4495680"/>
              <a:ext cx="18108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62360" y="8178120"/>
              <a:ext cx="47062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rupos  de  eda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791720" y="488124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blación no Derechohabien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01440" y="4881240"/>
              <a:ext cx="13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blación  Derechohabien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16:16:42Z</dcterms:created>
  <dc:creator/>
  <dc:description/>
  <dc:language>en-US</dc:language>
  <cp:lastModifiedBy>Alberto de la Rosa Rábago</cp:lastModifiedBy>
  <cp:lastPrinted>2002-11-07T12:34:39Z</cp:lastPrinted>
  <dcterms:modified xsi:type="dcterms:W3CDTF">2002-11-25T18:32:24Z</dcterms:modified>
  <cp:revision>111</cp:revision>
  <dc:subject/>
  <dc:title>Morbilidad hospitalaria según sexo e institución  Sistema Nacional de Salud 2000</dc:title>
</cp:coreProperties>
</file>