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69483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341360" y="1335240"/>
            <a:ext cx="42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TE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IO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U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54200" y="3419640"/>
            <a:ext cx="541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OLETÍN DE INFORMACIÓN ESTADÍS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85800" y="414036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CURSO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64560" y="7618320"/>
            <a:ext cx="25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úmero 22      Volumen  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11160" y="7623000"/>
            <a:ext cx="113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ño 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dc:language>en-US</dc:language>
  <cp:lastModifiedBy>Lic. María Victoria Castro Borbonio</cp:lastModifiedBy>
  <cp:lastPrinted>2002-10-23T15:57:10Z</cp:lastPrinted>
  <dcterms:modified xsi:type="dcterms:W3CDTF">2004-07-05T18:03:30Z</dcterms:modified>
  <cp:revision>28</cp:revision>
  <dc:subject/>
  <dc:title>PORTADAS BOL. SECT. 98</dc:title>
</cp:coreProperties>
</file>