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6858000" cy="9144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437000" y="3348000"/>
            <a:ext cx="1728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   POBL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1380960" y="3348000"/>
            <a:ext cx="478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.1.   INFRAESTRUCTU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80960" y="3348000"/>
            <a:ext cx="478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.2.  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380960" y="3348000"/>
            <a:ext cx="47847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.3.   SERVICIOS OTOR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93920" y="3348000"/>
            <a:ext cx="297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   MEDICINA PRIV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93920" y="3348000"/>
            <a:ext cx="297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1.  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193920" y="3348000"/>
            <a:ext cx="2971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.2.  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39920" y="3348000"/>
            <a:ext cx="48258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.   INDICADORES ESTADÍS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ÁS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11520" y="3348000"/>
            <a:ext cx="34542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OSARIO OPER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4005360" y="3348000"/>
            <a:ext cx="2160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.   RECURS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93760" y="3352680"/>
            <a:ext cx="4978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.1.   RECURSOS FÍSICOS Y 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584440" y="3348000"/>
            <a:ext cx="3581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.2.   RECURSOS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07920" y="3348000"/>
            <a:ext cx="5257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.3.   RECURSOS FÍSICOS Y MATERI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NTIDAD FEDERATIVA Y MUNICIPI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812960" y="75279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4360" y="3348000"/>
            <a:ext cx="458136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.   SERVICIOS OTORG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812960" y="75279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84360" y="3348000"/>
            <a:ext cx="4581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.1.   SERVICIOS POR INSTITUCIÓ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TIDAD FEDERA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41360" y="3348000"/>
            <a:ext cx="482436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II.2.   SERVICIOS POR ENT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DERATIVA Y MUNICIP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12960" y="7070760"/>
            <a:ext cx="29700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87480" y="3348000"/>
            <a:ext cx="33782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V.   ASISTENCIA SO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56-09-03T13:50:10Z</dcterms:created>
  <dc:creator>SECRETARIA DE SALUD</dc:creator>
  <dc:description/>
  <cp:keywords/>
  <dc:language>en-US</dc:language>
  <cp:lastModifiedBy>Juan Carlos Riveros Alva</cp:lastModifiedBy>
  <cp:lastPrinted>2004-03-10T21:15:22Z</cp:lastPrinted>
  <dcterms:modified xsi:type="dcterms:W3CDTF">2004-07-28T19:28:05Z</dcterms:modified>
  <cp:revision>48</cp:revision>
  <dc:subject/>
  <dc:title>PORTADAS BOL. SECT. 98</dc:title>
</cp:coreProperties>
</file>