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6858000" cy="9144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DBE5-2DC9-4609-BEF5-246A6E0DF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7F54-AA7E-4B86-8AEC-2B51C0BFB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5665-4B86-41F9-ABF3-08A89A96B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DC5F-2CE7-4029-BB71-8A1E3AB33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1A5A-7667-4893-AECE-73A9F6F74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9972-38E9-4855-843E-821A2A549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4007-B772-4A75-92AB-3AD8F4C0D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FA9FA-842B-4B15-BB17-5B39D5765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8DF4-E730-43D1-82BC-A36D2ABD6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84C2-D5D1-4C3E-9FB4-3536E992F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268C-F5E5-4FE4-8D44-676A65557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4F97-C14E-4339-B40B-8D3DD3963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F8E7B-42DB-4C03-A035-36BEB3E390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5734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Unidades médicas </a:t>
            </a:r>
            <a:br>
              <a:rPr sz="1200"/>
            </a:br>
            <a:r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Sistema Nacional de Salud</a:t>
            </a:r>
            <a:br>
              <a:rPr sz="1200"/>
            </a:br>
            <a:r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2 0 0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762120" y="4191120"/>
          <a:ext cx="5378400" cy="373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4191120"/>
                    <a:ext cx="5378400" cy="37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2368440" y="1676520"/>
          <a:ext cx="3724560" cy="3192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68440" y="1676520"/>
                    <a:ext cx="3724560" cy="319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762120" y="8001000"/>
            <a:ext cx="55623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* Otras: incluye  Universitarios, PEMEX, SEDENA, SEMAR, STC (Metro)  y Estatal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laborado con base en el  Capítulo II.1   Recursos físicos y  material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0" y="1905120"/>
            <a:ext cx="121932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Pobl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derechohabie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20.2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72000" y="3954600"/>
            <a:ext cx="137160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Pobla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no derechohabien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79.8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397160" y="7391520"/>
            <a:ext cx="430524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380880"/>
                <a:tab algn="ctr" pos="1244520"/>
                <a:tab algn="ctr" pos="2095560"/>
                <a:tab algn="ctr" pos="295920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Secretaría</a:t>
            </a: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IMSS</a:t>
            </a: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IMSS-</a:t>
            </a: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ISSSTE</a:t>
            </a: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Otras*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80880"/>
                <a:tab algn="ctr" pos="1244520"/>
                <a:tab algn="ctr" pos="2095560"/>
                <a:tab algn="ctr" pos="295920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de Salud</a:t>
            </a: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Oportunida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80880"/>
                <a:tab algn="ctr" pos="1244520"/>
                <a:tab algn="ctr" pos="2095560"/>
                <a:tab algn="ctr" pos="295920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380880"/>
                <a:tab algn="ctr" pos="1244520"/>
                <a:tab algn="ctr" pos="2095560"/>
                <a:tab algn="ctr" pos="2959200"/>
                <a:tab algn="ctr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Institu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471600" y="1600200"/>
          <a:ext cx="5916600" cy="603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00" y="1600200"/>
                    <a:ext cx="5916600" cy="603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609480" y="609480"/>
            <a:ext cx="57340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Camas censables y no censables</a:t>
            </a:r>
            <a:br>
              <a:rPr sz="1200"/>
            </a:br>
            <a:r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Sistema Nacional de Salud</a:t>
            </a:r>
            <a:br>
              <a:rPr sz="1200"/>
            </a:br>
            <a:r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2 0 0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7907400"/>
            <a:ext cx="54864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* Otras:  incluye  Universitarios,  PEMEX, SEDENA, SEMAR, STC (Metro) y Estatal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laborado con base en el Capítulo II.1   Recursos físicos y  materiales.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95280" y="7099200"/>
            <a:ext cx="472464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380880"/>
                <a:tab algn="ctr" pos="1333440"/>
                <a:tab algn="ctr" pos="2286000"/>
                <a:tab algn="ctr" pos="3238560"/>
                <a:tab algn="ctr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Secretaría</a:t>
            </a: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IMSS</a:t>
            </a: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IMSS-</a:t>
            </a: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ISSSTE</a:t>
            </a: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Otras*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80880"/>
                <a:tab algn="ctr" pos="1333440"/>
                <a:tab algn="ctr" pos="2286000"/>
                <a:tab algn="ctr" pos="3238560"/>
                <a:tab algn="ctr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de Salud</a:t>
            </a: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Oportunidad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80880"/>
                <a:tab algn="ctr" pos="1333440"/>
                <a:tab algn="ctr" pos="2286000"/>
                <a:tab algn="ctr" pos="3238560"/>
                <a:tab algn="ctr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380880"/>
                <a:tab algn="ctr" pos="1333440"/>
                <a:tab algn="ctr" pos="2286000"/>
                <a:tab algn="ctr" pos="3238560"/>
                <a:tab algn="ctr" pos="41911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Institu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5734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Trabajadores de la salud</a:t>
            </a:r>
            <a:br>
              <a:rPr sz="1200"/>
            </a:br>
            <a:r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Sistema Nacional de Salud</a:t>
            </a:r>
            <a:br>
              <a:rPr sz="1200"/>
            </a:br>
            <a:r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2 0 0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573120" y="1523880"/>
          <a:ext cx="5700600" cy="631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3120" y="1523880"/>
                    <a:ext cx="5700600" cy="63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838080" y="7924680"/>
            <a:ext cx="541044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* Incluye: Personal paramédico y de servicios auxiliares de diagnóstico y tratamiento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** Incluye: Personal administrativo y otro personal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*** Otras.- Incluye: Universitarios, PEMEX, SEDENA, SEMAR, STC (Metro) y Estatal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laborado con base en el  Capítulo II.2   Recursos humano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95280" y="7086600"/>
            <a:ext cx="457200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336600"/>
                <a:tab algn="ctr" pos="1282680"/>
                <a:tab algn="ctr" pos="2286000"/>
                <a:tab algn="ctr" pos="3200400"/>
                <a:tab algn="ctr" pos="4095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Secretaría</a:t>
            </a: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 IMSS</a:t>
            </a: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 IMSS- </a:t>
            </a: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 ISSSTE </a:t>
            </a: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Otras***</a:t>
            </a: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    de Salud                                               Oportunidades </a:t>
            </a: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336600"/>
                <a:tab algn="ctr" pos="1282680"/>
                <a:tab algn="ctr" pos="2286000"/>
                <a:tab algn="ctr" pos="3200400"/>
                <a:tab algn="ctr" pos="4095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Institu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09480" y="380880"/>
            <a:ext cx="57340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 Black"/>
              </a:rPr>
              <a:t>Personal médico</a:t>
            </a:r>
            <a:br>
              <a:rPr sz="1100"/>
            </a:br>
            <a:r>
              <a:rPr b="0" lang="es-ES_tradnl" sz="1100" spc="-1" strike="noStrike">
                <a:solidFill>
                  <a:srgbClr val="000000"/>
                </a:solidFill>
                <a:latin typeface="Arial Black"/>
              </a:rPr>
              <a:t>Sistema Nacional de Salud</a:t>
            </a:r>
            <a:br>
              <a:rPr sz="1100"/>
            </a:br>
            <a:r>
              <a:rPr b="0" lang="es-ES_tradnl" sz="1100" spc="-1" strike="noStrike">
                <a:solidFill>
                  <a:srgbClr val="000000"/>
                </a:solidFill>
                <a:latin typeface="Arial Black"/>
              </a:rPr>
              <a:t>2 0 0 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295280" y="1066680"/>
          <a:ext cx="395604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066680"/>
                    <a:ext cx="395604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1371600" y="4191120"/>
            <a:ext cx="44956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*  Incluye pasantes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** Incluye residentes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***  Otras  incluye: Universitarios,  PEMEX, SEDENA, SEMAR, STC (Metro) y Estatales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laborado con base en el  Capítulo II.2   Recursos humanos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76520" y="3733920"/>
            <a:ext cx="335268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91960"/>
                <a:tab algn="ctr" pos="1244520"/>
                <a:tab algn="ctr" pos="2197080"/>
                <a:tab algn="ctr" pos="3048120"/>
                <a:tab algn="ctr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Secretaría               IMSS</a:t>
            </a: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                  IMSS- </a:t>
            </a: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               ISSSTE            Otras***                  de Salud         </a:t>
            </a: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                           Oportunidad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91960"/>
                <a:tab algn="ctr" pos="1244520"/>
                <a:tab algn="ctr" pos="2197080"/>
                <a:tab algn="ctr" pos="3048120"/>
                <a:tab algn="ctr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291960"/>
                <a:tab algn="ctr" pos="1244520"/>
                <a:tab algn="ctr" pos="2197080"/>
                <a:tab algn="ctr" pos="3048120"/>
                <a:tab algn="ctr" pos="4000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Institu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156040" y="4876920"/>
            <a:ext cx="24775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000000"/>
                </a:solidFill>
                <a:latin typeface="Arial Black"/>
              </a:rPr>
              <a:t>Personal médico y de enfermería </a:t>
            </a:r>
            <a:r>
              <a:rPr b="1" lang="es-ES_tradnl" sz="1100" spc="-1" strike="noStrike">
                <a:solidFill>
                  <a:srgbClr val="000000"/>
                </a:solidFill>
                <a:latin typeface="Arial Black"/>
              </a:rPr>
              <a:t>*</a:t>
            </a:r>
            <a:br>
              <a:rPr sz="1100"/>
            </a:br>
            <a:r>
              <a:rPr b="0" lang="es-ES_tradnl" sz="1100" spc="-1" strike="noStrike">
                <a:solidFill>
                  <a:srgbClr val="000000"/>
                </a:solidFill>
                <a:latin typeface="Arial Black"/>
              </a:rPr>
              <a:t>Sistema Nacional de Salud</a:t>
            </a:r>
            <a:br>
              <a:rPr sz="1100"/>
            </a:br>
            <a:r>
              <a:rPr b="0" lang="es-ES_tradnl" sz="1100" spc="-1" strike="noStrike">
                <a:solidFill>
                  <a:srgbClr val="000000"/>
                </a:solidFill>
                <a:latin typeface="Arial Black"/>
              </a:rPr>
              <a:t>2 0 0 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295280" y="5334120"/>
          <a:ext cx="4173480" cy="274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5334120"/>
                    <a:ext cx="417348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1676520" y="777240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ctr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Secretaría                IMSS                   IMSS-              ISSSTE    </a:t>
            </a: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      Otras**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de Salud                                     Oportunidades </a:t>
            </a: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Institu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463760" y="8305920"/>
            <a:ext cx="3570120" cy="5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* Se refiere sólo a personal médico y de enfermería  en contacto  con el pacien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**  Otras incluye: Universitarios,  PEMEX, SEDENA, SEMAR, STC (Metro) y Estatales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laborado con base en el   Capítulo II.2   Recursos humanos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191120"/>
            <a:ext cx="5734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 Black"/>
              </a:rPr>
              <a:t>Unidades según tamañ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90720" y="8001000"/>
            <a:ext cx="464796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* NE. No especificado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laborado con base en el  Capítulo II.1  Recursos físicos y  material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01760" y="4114800"/>
          <a:ext cx="6456240" cy="302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1760" y="4114800"/>
                    <a:ext cx="6456240" cy="302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914400" y="4800600"/>
          <a:ext cx="4819680" cy="3351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4800600"/>
                    <a:ext cx="4819680" cy="33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5734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Consultas  otorgadas</a:t>
            </a:r>
            <a:br>
              <a:rPr sz="1200"/>
            </a:br>
            <a:r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Sistema Nacional de Salud</a:t>
            </a:r>
            <a:br>
              <a:rPr sz="1200"/>
            </a:br>
            <a:r>
              <a:rPr b="0" lang="es-ES_tradnl" sz="1200" spc="-1" strike="noStrike">
                <a:solidFill>
                  <a:srgbClr val="000000"/>
                </a:solidFill>
                <a:latin typeface="Arial Black"/>
              </a:rPr>
              <a:t>2 0 0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14400" y="8001000"/>
            <a:ext cx="52578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* Otras  incluye: Universitarios, PEMEX, SEDENA, SEMAR, STC (Metro) y Estatale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Elaborado con base en el  Capítulo III.1   Servicios médicos otorgados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549360" y="1476360"/>
          <a:ext cx="5748120" cy="654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9360" y="1476360"/>
                    <a:ext cx="5748120" cy="654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71600" y="380880"/>
            <a:ext cx="4286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Servicios de hospitalización</a:t>
            </a:r>
            <a:br>
              <a:rPr sz="900"/>
            </a:b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Sistema Nacional de Salud</a:t>
            </a:r>
            <a:br>
              <a:rPr sz="900"/>
            </a:b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2 0 0 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484280" y="4356000"/>
            <a:ext cx="426708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*  Otras  incluye: Universitarios,   PEMEX, SEDENA, SEMAR, STC (Metro) y Estatales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laborado con base en el  Capítulo  III.1   Servicios médicos otorgados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1371600" y="1066680"/>
          <a:ext cx="392904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066680"/>
                    <a:ext cx="392904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2060640" y="3851280"/>
            <a:ext cx="2895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380880"/>
                <a:tab algn="ctr" pos="1333440"/>
                <a:tab algn="ctr" pos="2095560"/>
                <a:tab algn="ctr" pos="2959200"/>
                <a:tab algn="ctr" pos="38098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Secretaría             IMSS           IMSS-            ISSSTE           Otras*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80880"/>
                <a:tab algn="ctr" pos="1333440"/>
                <a:tab algn="ctr" pos="2095560"/>
                <a:tab algn="ctr" pos="2959200"/>
                <a:tab algn="ctr" pos="38098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de Salud</a:t>
            </a: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700" spc="-1" strike="noStrike">
                <a:solidFill>
                  <a:srgbClr val="000000"/>
                </a:solidFill>
                <a:latin typeface="Arial"/>
              </a:rPr>
              <a:t>                           Oportunidad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380880"/>
                <a:tab algn="ctr" pos="1333440"/>
                <a:tab algn="ctr" pos="2095560"/>
                <a:tab algn="ctr" pos="2959200"/>
                <a:tab algn="ctr" pos="38098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s-ES_tradnl" sz="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ctr" pos="380880"/>
                <a:tab algn="ctr" pos="1333440"/>
                <a:tab algn="ctr" pos="2095560"/>
                <a:tab algn="ctr" pos="2959200"/>
                <a:tab algn="ctr" pos="38098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Institució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060640" y="4859280"/>
            <a:ext cx="2590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Egresos por especialidad</a:t>
            </a:r>
            <a:br>
              <a:rPr sz="900"/>
            </a:b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Sistema Nacional de Salud</a:t>
            </a:r>
            <a:br>
              <a:rPr sz="900"/>
            </a:br>
            <a:r>
              <a:rPr b="0" lang="es-ES_tradnl" sz="900" spc="-1" strike="noStrike">
                <a:solidFill>
                  <a:srgbClr val="000000"/>
                </a:solidFill>
                <a:latin typeface="Arial Black"/>
              </a:rPr>
              <a:t>2 0 0 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1557360" y="5076720"/>
          <a:ext cx="3605040" cy="3384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57360" y="5076720"/>
                    <a:ext cx="3605040" cy="33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1773360" y="8388360"/>
            <a:ext cx="38876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* Otras  incluye: Universitarios,  PEMEX, SEDENA, SEMAR, STC (Metro) y  Estatales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0000"/>
                </a:solidFill>
                <a:latin typeface="Arial"/>
              </a:rPr>
              <a:t>Elaborado con base en el  Capítulo  III.1   Servicios médicos otorgados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22T16:59:30Z</dcterms:created>
  <dc:creator/>
  <dc:description/>
  <dc:language>en-US</dc:language>
  <cp:lastModifiedBy>Secretaría de Salud</cp:lastModifiedBy>
  <cp:lastPrinted>2004-07-02T00:12:38Z</cp:lastPrinted>
  <dcterms:modified xsi:type="dcterms:W3CDTF">2004-07-07T01:38:16Z</dcterms:modified>
  <cp:revision>605</cp:revision>
  <dc:subject/>
  <dc:title>Sin título de diapositiva</dc:title>
</cp:coreProperties>
</file>