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565E-0A16-46EB-97C9-E33EE20E5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CA6D-9199-4885-985D-DFF27750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6DC7-D179-408E-AE55-5F5110161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02BD-4CD4-48DC-8043-684AD8B8C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EE53-C03D-4836-A605-66B03177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480C-6121-4696-BFEA-78770528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3DB5-183C-4A27-837D-95E1CB5F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3487-6BF4-4424-B527-F478BCEA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7E0E-A60B-4C85-903F-ECE9CAC3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644D-9D26-42F7-A295-40898490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ED78-2C51-468D-A8D2-56E1D161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26B5-0421-48CA-9A9F-32FE3B86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04D6-D362-437C-9B74-04C6F83D4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09480"/>
            <a:ext cx="68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Unidades según Tamañ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1960" y="1319040"/>
          <a:ext cx="6788160" cy="34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319040"/>
                    <a:ext cx="6788160" cy="34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4267080" y="368136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5011560"/>
            <a:ext cx="5257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1/ Otras. Incluye: Universitarios, PEMEX, SDN, SM, STC (Metro)  y Estata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Fuente:  Capítulo III. Recursos físicos, materiales y humanos por  institución y entidad federativ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2T16:59:30Z</dcterms:created>
  <dc:creator>,</dc:creator>
  <dc:description/>
  <dc:language>en-US</dc:language>
  <cp:lastModifiedBy>Alberto de la Rosa Rábago</cp:lastModifiedBy>
  <cp:lastPrinted>2002-12-18T21:08:10Z</cp:lastPrinted>
  <dcterms:modified xsi:type="dcterms:W3CDTF">2003-10-14T17:06:16Z</dcterms:modified>
  <cp:revision>370</cp:revision>
  <dc:subject/>
  <dc:title>Sin título de diapositiva</dc:title>
</cp:coreProperties>
</file>