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193760" y="3352680"/>
            <a:ext cx="49784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BERTURA  INSTITU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ENTIDAD FEDER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3200" y="4038480"/>
            <a:ext cx="345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OSARI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-152280" y="3505320"/>
            <a:ext cx="68580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 FÍSICOS, 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INSTITUCIÓN Y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5040" y="3581280"/>
            <a:ext cx="55720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 FÍSICOS, 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NIVEL DE ATEN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809880"/>
            <a:ext cx="51307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ÍSICOS, 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  MUNICI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3886200"/>
            <a:ext cx="35305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IOS OTOR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  MUNICI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2960" y="75279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19440" y="3657600"/>
            <a:ext cx="45813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RVICIOS MÉDICOS OTOR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INSTITUCIÓN Y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962520"/>
            <a:ext cx="33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STENCI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81000" y="3733920"/>
            <a:ext cx="5419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DORES ESTADÍSTICOS 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733920"/>
            <a:ext cx="297180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CINA PRIV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OPEZ</cp:lastModifiedBy>
  <cp:lastPrinted>2003-01-15T21:13:44Z</cp:lastPrinted>
  <dcterms:modified xsi:type="dcterms:W3CDTF">2003-10-13T18:38:08Z</dcterms:modified>
  <cp:revision>29</cp:revision>
  <dc:subject/>
  <dc:title>PORTADAS BOL. SECT. 98</dc:title>
</cp:coreProperties>
</file>