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1812960" y="7070760"/>
            <a:ext cx="2970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1055520" y="1335240"/>
            <a:ext cx="486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STEMA NACIONAL DE SALU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609480" y="3505320"/>
            <a:ext cx="5411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OLETÍN DE INFORMACIÓ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STADÍSTIC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685800" y="50706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CURSOS Y SERVIC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92280" y="7745400"/>
            <a:ext cx="288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NÚMERO 21      VOLUMEN  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4720" y="7745400"/>
            <a:ext cx="119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ÑO  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56-09-03T13:50:10Z</dcterms:created>
  <dc:creator>SECRETARIA DE SALUD</dc:creator>
  <dc:description/>
  <dc:language>en-US</dc:language>
  <cp:lastModifiedBy>Alberto de la Rosa Rábago</cp:lastModifiedBy>
  <cp:lastPrinted>2002-10-23T15:57:10Z</cp:lastPrinted>
  <dcterms:modified xsi:type="dcterms:W3CDTF">2003-02-13T23:47:42Z</dcterms:modified>
  <cp:revision>24</cp:revision>
  <dc:subject/>
  <dc:title>PORTADAS BOL. SECT. 98</dc:title>
</cp:coreProperties>
</file>