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921-DFCA-4445-A35C-D89043BE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0A8-C4C2-428A-8E3A-70CAD7D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F380-280B-4C4A-A7F3-2BBC70FC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7C9-720C-4851-8BAE-C3227513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DD9-E435-49B7-B640-9EF559AC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04A-5D82-48E4-9081-7DB93469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06E-3409-40AC-9CBA-A1C6719A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31A-2C61-41E2-BF1B-FB40640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FB6-79E0-4017-B23D-0E7AB45D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4E2-760E-4D87-9D83-FA17EFFD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268-A0A8-4C96-BC86-ABC76FD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2BB-F12C-48D7-847A-78B21E63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27A5-4F4A-48F5-BA53-06C8FAA7D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8580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Médicos en contacto con el paciente por 100,000  habitant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03848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Enfermeras  por 100,000  habitant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295280" y="1143000"/>
          <a:ext cx="431640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4316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295280" y="4876920"/>
          <a:ext cx="4316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76920"/>
                    <a:ext cx="4316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onsultas diarias por médico en contacto con el paciente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95280" y="1371600"/>
          <a:ext cx="4316400" cy="30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4316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44197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Consultas diarias por médico general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47920" y="5105520"/>
          <a:ext cx="4316400" cy="3047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5105520"/>
                    <a:ext cx="4316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8305920"/>
            <a:ext cx="518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X. Indicadores Estadísticos Básicos del Sistema Nacional de Sal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05520" y="385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470120"/>
            <a:ext cx="68580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Promedio de días estancia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19320" y="5105520"/>
          <a:ext cx="431640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105520"/>
                    <a:ext cx="4316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Egresos hospitalarios por 1,000 habitantes,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19320" y="1143000"/>
          <a:ext cx="4316400" cy="3048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143000"/>
                    <a:ext cx="4316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4T18:26:00Z</dcterms:created>
  <dc:creator>,</dc:creator>
  <dc:description/>
  <dc:language>en-US</dc:language>
  <cp:lastModifiedBy>Alberto de la Rosa Rábago</cp:lastModifiedBy>
  <cp:lastPrinted>2003-01-08T20:33:26Z</cp:lastPrinted>
  <dcterms:modified xsi:type="dcterms:W3CDTF">2004-02-09T20:40:13Z</dcterms:modified>
  <cp:revision>120</cp:revision>
  <dc:subject/>
  <dc:title>Camas Censables por 100,000 Habitantes por Entidad Federativa  1 9 9 9</dc:title>
</cp:coreProperties>
</file>