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FB9-2161-4115-974D-C804E55A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4E8-EDD0-4EC1-80D0-7041218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7C7-962D-4366-BB94-ECF7DCDC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12A-A44F-4731-A769-817BBB95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3D3-FAC5-4A0B-B323-9E1F6A5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E79-5CEE-48B6-99E4-1F5A77E5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B7F-641C-4552-A69A-1A8EA64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837-02DD-434C-B3BA-D6D5550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DC8-51A8-4654-B2C6-DB02DCAF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E50-9244-4683-9EEA-C9EEC7F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66E-8304-45C8-830C-F151676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F1D-AEEF-4B8B-B5B4-A6FD6EB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5668-307B-4A07-8784-431C9233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371600"/>
            <a:ext cx="5410080" cy="71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ÚME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UM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                                   AÑO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64960" y="1087560"/>
            <a:ext cx="273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5760" y="181296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4400" y="1989000"/>
            <a:ext cx="179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ULIO FRENK M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0720" y="2163600"/>
            <a:ext cx="99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0680" y="2924280"/>
            <a:ext cx="201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97880" y="30988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31560" y="3624120"/>
            <a:ext cx="159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SANTIAGO  LE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244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7600" y="2924280"/>
            <a:ext cx="21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5760" y="3098880"/>
            <a:ext cx="22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RVICIOS SOCIALES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8120" y="327348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46360" y="3624120"/>
            <a:ext cx="256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BENJAMÍN GONZÁLEZ RO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172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415116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2600" y="41511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5480" y="4324320"/>
            <a:ext cx="188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0320" y="4500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760" y="4851360"/>
            <a:ext cx="25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. ANA TERESA ARANDA OROZ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2760" y="5025960"/>
            <a:ext cx="167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A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82040" y="4151160"/>
            <a:ext cx="149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9560" y="4324320"/>
            <a:ext cx="157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22920" y="4851360"/>
            <a:ext cx="185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AL. DE BRIGADA M.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8400" y="5025960"/>
            <a:ext cx="29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BERTO MANUEL HEREDIA JAR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6680" y="520056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7960" y="537696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ANIDAD MIL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6520" y="5729400"/>
            <a:ext cx="198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RECCIÓN  GENER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86360" y="5902200"/>
            <a:ext cx="130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NIDAD 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1680" y="6427800"/>
            <a:ext cx="20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LMIRANTE S.N.M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9200" y="6603840"/>
            <a:ext cx="247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LOS ENRÍQUE GÓMEZ L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6040" y="677880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 TAVIZ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1200" y="6953400"/>
            <a:ext cx="233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AD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8880" y="7129440"/>
            <a:ext cx="147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4880" y="572940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0960" y="5902200"/>
            <a:ext cx="221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ÍSTICA, GEOGRAFÍA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4440" y="607680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1800" y="6427800"/>
            <a:ext cx="255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JAVIER GUTIÉRREZ GUZM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4280" y="660384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5040" y="67788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58080" y="765504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84240" y="8005680"/>
            <a:ext cx="30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OSÉ LUIS DESCHAMPS CONTR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80040" y="81802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IDAD DE PLAN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4920" y="835668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MATIVIDAD E INNO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92040" y="777960"/>
            <a:ext cx="24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 NACIONAL  DE 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360" y="1127160"/>
            <a:ext cx="444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UPO INTERINSTITUCIONAL DE INFORMACIÓN EN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165564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8040" y="2004840"/>
            <a:ext cx="24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44400" y="2181240"/>
            <a:ext cx="197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666880"/>
            <a:ext cx="170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RAU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8400" y="2881440"/>
            <a:ext cx="172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358308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2520" y="375768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EGURIDAD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440" y="410832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SONIA FERNÁNDEZ CANT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4282920"/>
            <a:ext cx="29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LA DIVISIÓN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0000" y="4459320"/>
            <a:ext cx="182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A Y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5440" y="515952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9760" y="5335560"/>
            <a:ext cx="206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OLID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640" y="568656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MARIO MUNGUÍA RAMÍ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8440" y="586116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ULAR DE LA DIVISIÓN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5480" y="6035760"/>
            <a:ext cx="21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EACIÓN Y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04800" y="6737400"/>
            <a:ext cx="385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 SERVICIOS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7840" y="6912000"/>
            <a:ext cx="290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OS 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712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HILDA MORALES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4200" y="7439040"/>
            <a:ext cx="175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SERVICIO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0480" y="7613640"/>
            <a:ext cx="224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  INSTITU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58080" y="77940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9480" y="1128600"/>
            <a:ext cx="25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DELFINO GARCÍA HERNÁN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65400" y="1305000"/>
            <a:ext cx="253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DE  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41960" y="1479600"/>
            <a:ext cx="178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O PREVEN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8120" y="2181240"/>
            <a:ext cx="310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 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0" y="2532240"/>
            <a:ext cx="328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M. C. ARIADNA MA. POZOS VIC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4680" y="2706840"/>
            <a:ext cx="37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A DE LA SECCIÓN DE PLANES Y SUPER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2240" y="3406680"/>
            <a:ext cx="198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 DE  MA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6080" y="3757680"/>
            <a:ext cx="299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IENTE DE CORBETA S.N. M.C. M.S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3640" y="3933720"/>
            <a:ext cx="315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ASUNCIÓN E. CERVANTES SALG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6640" y="4108320"/>
            <a:ext cx="37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DIRECTORA DE MEDICINA PREVENTIV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55800" y="4282920"/>
            <a:ext cx="31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CIÓN GENERAL 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14080" y="4984920"/>
            <a:ext cx="204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498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0880" y="5159520"/>
            <a:ext cx="304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 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2960" y="5510160"/>
            <a:ext cx="282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VÍCTOR ENRIQUE BÁEZ VÁZ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2440" y="5686560"/>
            <a:ext cx="22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L DEPARTAM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VALUACIÓN PROGRA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0680" y="6386400"/>
            <a:ext cx="30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DE ESTADÍST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6840" y="6562800"/>
            <a:ext cx="217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OGRAFÍA 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68920" y="6912000"/>
            <a:ext cx="273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ANTONIO ESCOBEDO AGUI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5320" y="7088040"/>
            <a:ext cx="21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DE ESTADÍS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3784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MOGRÁFICAS Y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438280"/>
            <a:ext cx="556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DORE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Raú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CION DE 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María Victoria Castro Borb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Alberto de la Rosa Ráb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POY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atriz E. Escobedo de la Pe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bia G. Cid Sánc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. del Pilar Fragoso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her Silva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ría Hermelinda López Mejo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raciela Benítez Gran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icia García Corne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7:35:03Z</dcterms:created>
  <dc:creator>Dirección de Estadística</dc:creator>
  <dc:description/>
  <dc:language>en-US</dc:language>
  <cp:lastModifiedBy>Alberto de la Rosa Rábago</cp:lastModifiedBy>
  <cp:lastPrinted>2002-11-26T23:01:27Z</cp:lastPrinted>
  <dcterms:modified xsi:type="dcterms:W3CDTF">2002-11-27T22:23:48Z</dcterms:modified>
  <cp:revision>14</cp:revision>
  <dc:subject/>
  <dc:title>Sin título de diapositiva</dc:title>
</cp:coreProperties>
</file>