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457200" y="1905120"/>
            <a:ext cx="4952880" cy="56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ORCENTAJE DE CUMPLIMIENTO DE LA META SEXENAL DE DESAYUNOS.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BERTURA DE ATENCIÓN CON DESAYUNOS EN LOS MUNICIPIOS CLASIFICADOS COMO ATENCIÓN INMEDIAT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ORCENTAJE DE CUMPLIMIENTO DE FAMILIAS BENEFICIADAS CON DESPENSA DE LA META SEXEN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BERTURA DE ATENCIÓN CON DESPENSAS EN MUNICIPIOS CLASIFICADOS COMO DE ATENCIÓN INMEDIAT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ORCENTAJE DE BENEFICIARIOS ATENDIDOS CON COMIDA Y NO SÓLO CON SERVICIOS INTEGRAL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ROMEDIO DE DESAYUNOS CALIENTES DIARIOS EN RELACIÓN AL NÚMERO DE COCINAS EN OPERAC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ORCENTAJE DE POBLACIÓN ATENDIDA POR LA RED MÓVIL NACION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UNICIPIOS ATENDIDOS POR LA RED MÓVIL NACIONAL DE ACUERDO AL DIAGNÓSTICO DE MARGINALIDA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ORCENTAJE DE PERSONAS REINTEGRADAS SOCIALMENTE DEL TOTAL DE PERSONAS ATENDIDAS EN REHABILITAC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ORCENTAJE DE AYUDAS FUNCIONALES PROPORCIONADAS A LA POBLACIÓN ATENDIDA EN REHABILITAC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OBLACIÓN CON DISCAPACIDAD ATENDIDOS EN LOS CENTROS DE REHABILITACIÓN EN RELACIÓN AL TOTAL DE POBLACIÓN CON DISCAPACIDAD (4% DEL TOTAL DE LA POBLACIÓN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ORCENTAJE DE REINTEGRACIONES FAMILIARES Y SOCIALES DE PERSONAS DESAMPARADAS ALBERGADAS EN UNIDADES ASISTENCIAL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ROCENTAJE DE MENORES “DE LA CALLE” REINTEGRADOS A SUS FAMILI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USENTISMO ESCOLAR EN CENTROS ASISTENCIALES DE DESARROLLO INFANT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ORCENTAJE DE CONVENIOS CELEBRADOS EN RELACIÓN A LA ASESORIA JURÍDIC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ORCENTAJE DE ACREDITACIÓN EN LOS CURSOS DE CAPACITACIÓ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ÍNDICE DE AUSENTISMO INJUSTIFICAD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ÍNDICE DE MENORES REPATRIADOS REINTEGRADOS A SUS FAMILI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380880" y="609480"/>
            <a:ext cx="617220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 N D I C A D O R E S  D E  A S I S T E N C I A  SO C I A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 0 0 0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33520" y="1371600"/>
            <a:ext cx="6095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 N D I C A D O R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     PRO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AN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57200" y="12952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57200" y="18288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10080" y="1905120"/>
            <a:ext cx="9144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83.5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77.7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87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74.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81.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71.7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6.6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3.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5.9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1.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0.5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.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1.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75.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3.3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94.9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60.6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15:58:34Z</dcterms:created>
  <dc:creator>,</dc:creator>
  <dc:description/>
  <dc:language>en-US</dc:language>
  <cp:lastModifiedBy>Alberto de la Rosa Rábago</cp:lastModifiedBy>
  <cp:lastPrinted>2002-11-26T21:06:55Z</cp:lastPrinted>
  <dcterms:modified xsi:type="dcterms:W3CDTF">2002-11-26T21:07:52Z</dcterms:modified>
  <cp:revision>111</cp:revision>
  <dc:subject/>
  <dc:title>A partir de este año el presupuesto se presenta por Función, Subfunción y Actividad Institucional debido a que cambió la  apertura programática vigente. Las claves que  se incluyen corresponden a la Actividad Institucional y están conformadas de acuerdo al ejemplo siguiente:</dc:title>
</cp:coreProperties>
</file>