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PlaceHolder 1"/>
          <p:cNvSpPr>
            <a:spLocks noGrp="1"/>
          </p:cNvSpPr>
          <p:nvPr>
            <p:ph type="title"/>
          </p:nvPr>
        </p:nvSpPr>
        <p:spPr>
          <a:xfrm>
            <a:off x="533160" y="1599840"/>
            <a:ext cx="5562360" cy="762120"/>
          </a:xfrm>
          <a:prstGeom prst="rect">
            <a:avLst/>
          </a:prstGeom>
          <a:solidFill>
            <a:srgbClr val="ffffff"/>
          </a:solid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presupuesto se presenta por función, subfunción y actividad institucional.</a:t>
            </a:r>
            <a:br>
              <a:rPr sz="1000"/>
            </a:br>
            <a:r>
              <a:rPr b="0" lang="es-ES_tradnl" sz="1000" spc="-1" strike="noStrike">
                <a:solidFill>
                  <a:srgbClr val="000000"/>
                </a:solidFill>
                <a:latin typeface="Arial"/>
              </a:rPr>
              <a:t>Las claves que  se incluyen corresponden a la estructura programática  conformada de la siguiente manera:</a:t>
            </a:r>
            <a:endParaRPr b="0" lang="en-US" sz="1000" spc="-1" strike="noStrike">
              <a:solidFill>
                <a:srgbClr val="000000"/>
              </a:solidFill>
              <a:latin typeface="Times New Roman"/>
            </a:endParaRPr>
          </a:p>
        </p:txBody>
      </p:sp>
      <p:sp>
        <p:nvSpPr>
          <p:cNvPr id="40" name="PlaceHolder 2"/>
          <p:cNvSpPr>
            <a:spLocks noGrp="1"/>
          </p:cNvSpPr>
          <p:nvPr>
            <p:ph/>
          </p:nvPr>
        </p:nvSpPr>
        <p:spPr>
          <a:xfrm>
            <a:off x="514080" y="2437920"/>
            <a:ext cx="2685960" cy="5689800"/>
          </a:xfrm>
          <a:prstGeom prst="rect">
            <a:avLst/>
          </a:prstGeom>
          <a:solidFill>
            <a:srgbClr val="ffffff"/>
          </a:solidFill>
          <a:ln w="0">
            <a:noFill/>
          </a:ln>
        </p:spPr>
        <p:txBody>
          <a:bodyPr lIns="90000" rIns="90000" tIns="46800" bIns="46800" anchor="t">
            <a:normAutofit/>
          </a:bodyPr>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ave  08</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onde:</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unción </a:t>
            </a:r>
            <a:r>
              <a:rPr b="0" lang="es-ES_tradnl" sz="1000" spc="-1" strike="noStrike">
                <a:solidFill>
                  <a:srgbClr val="000000"/>
                </a:solidFill>
                <a:latin typeface="Arial"/>
              </a:rPr>
              <a:t>	</a:t>
            </a:r>
            <a:r>
              <a:rPr b="0" lang="es-ES_tradnl" sz="1000" spc="-1" strike="noStrike">
                <a:solidFill>
                  <a:srgbClr val="000000"/>
                </a:solidFill>
                <a:latin typeface="Arial"/>
              </a:rPr>
              <a:t>                                         08       Subfunción</a:t>
            </a:r>
            <a:r>
              <a:rPr b="0" lang="es-ES_tradnl" sz="1000" spc="-1" strike="noStrike">
                <a:solidFill>
                  <a:srgbClr val="000000"/>
                </a:solidFill>
                <a:latin typeface="Arial"/>
              </a:rPr>
              <a:t>	</a:t>
            </a:r>
            <a:r>
              <a:rPr b="0" lang="es-ES_tradnl" sz="1000" spc="-1" strike="noStrike">
                <a:solidFill>
                  <a:srgbClr val="000000"/>
                </a:solidFill>
                <a:latin typeface="Arial"/>
              </a:rPr>
              <a:t>                                         02</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grama Sectorial                                    27</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grama Especial                                  000</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ctividad Institucional                              419</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cretaría de Salud</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tróleos Mexicanos</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cretaría de la Defensa Nacional  y  </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cretaría de Marina</a:t>
            </a:r>
            <a:endParaRPr b="0" lang="en-US" sz="1000" spc="-1" strike="noStrike">
              <a:solidFill>
                <a:srgbClr val="000000"/>
              </a:solidFill>
              <a:latin typeface="Times New Roman"/>
            </a:endParaRPr>
          </a:p>
        </p:txBody>
      </p:sp>
      <p:sp>
        <p:nvSpPr>
          <p:cNvPr id="41" name="PlaceHolder 3"/>
          <p:cNvSpPr>
            <a:spLocks noGrp="1"/>
          </p:cNvSpPr>
          <p:nvPr>
            <p:ph/>
          </p:nvPr>
        </p:nvSpPr>
        <p:spPr>
          <a:xfrm>
            <a:off x="3276360" y="2438280"/>
            <a:ext cx="2971800" cy="6019920"/>
          </a:xfrm>
          <a:prstGeom prst="rect">
            <a:avLst/>
          </a:prstGeom>
          <a:solidFill>
            <a:srgbClr val="ffffff"/>
          </a:solidFill>
          <a:ln w="0">
            <a:noFill/>
          </a:ln>
        </p:spPr>
        <p:txBody>
          <a:bodyPr lIns="90000" rIns="90000" tIns="46800" bIns="46800" anchor="t">
            <a:normAutofit/>
          </a:bodyPr>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alud</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ención  Médica</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grama de Reforma del Sector Salud</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grama Normal de Operación</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porcionar los Servicios de Salud (PAC)</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el presupuesto de la Secretaría de Salud  se incluye el gasto ejercido por el Sistema Nacional para el Desarrollo Integral de la Familia (DIF), en virtud de que los servicios de salud de esta institución actualmente forma parte de la Secretaría de Salud. </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importante mencionar que el presupuesto incluye el Ramo 12, correspondiente a salud y el  Ramo 33 destinado a las aportaciones federales para entidades federativas y municipios.</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institución reportó que el presupuesto únicamente se ejerce en el rubro de atención médica.</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os servicios de salud de estas secretarías no reportan datos para la integración del gasto ejercido en salud.</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3"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85800" y="838080"/>
            <a:ext cx="533412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 a la información de Presupuesto</a:t>
            </a:r>
            <a:endParaRPr b="0" lang="en-US" sz="1200" spc="-1" strike="noStrike">
              <a:solidFill>
                <a:srgbClr val="000000"/>
              </a:solidFill>
              <a:latin typeface="Times New Roman"/>
            </a:endParaRPr>
          </a:p>
        </p:txBody>
      </p:sp>
      <p:sp>
        <p:nvSpPr>
          <p:cNvPr id="45" name=""/>
          <p:cNvSpPr/>
          <p:nvPr/>
        </p:nvSpPr>
        <p:spPr>
          <a:xfrm>
            <a:off x="609480" y="609480"/>
            <a:ext cx="289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352680" y="838188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1"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57200" y="533520"/>
            <a:ext cx="586728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200" y="533520"/>
            <a:ext cx="5867280" cy="8229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1"/>
          <p:cNvSpPr>
            <a:spLocks noGrp="1"/>
          </p:cNvSpPr>
          <p:nvPr>
            <p:ph/>
          </p:nvPr>
        </p:nvSpPr>
        <p:spPr>
          <a:xfrm>
            <a:off x="685440" y="1828440"/>
            <a:ext cx="2514600" cy="5969160"/>
          </a:xfrm>
          <a:prstGeom prst="rect">
            <a:avLst/>
          </a:prstGeom>
          <a:noFill/>
          <a:ln w="0">
            <a:noFill/>
          </a:ln>
        </p:spPr>
        <p:txBody>
          <a:bodyPr lIns="90000" rIns="90000" tIns="46800" bIns="46800" anchor="t">
            <a:normAutofit fontScale="97000"/>
          </a:bodyPr>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INDICADOR</a:t>
            </a:r>
            <a:endParaRPr b="0" lang="en-US" sz="900" spc="-1" strike="noStrike">
              <a:solidFill>
                <a:srgbClr val="000000"/>
              </a:solidFill>
              <a:latin typeface="Times New Roman"/>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alud  Perinatal</a:t>
            </a:r>
            <a:endParaRPr b="0" lang="en-US" sz="9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prenatales por embarazadas atendidas</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de embarazadas captadas en el 1° Trimestre</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de embarazadas de alto riesgo</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de control prenatal 1a. vez/subsecuente</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mbarazadas atendidas por mil MEF  1/</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 por puérpera atendida</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uérperas/Eventos obstétricos</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de nacimientos por cesárea</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de nacidos vivos de bajo peso</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acimientos atendidos por mil MEF</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acidos vivos por mil habitantes</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Muertes intrauterinas por mil nacidos vivos</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Muertes maternas por diez mil nacidos vivos</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Planificación Familiar</a:t>
            </a:r>
            <a:endParaRPr b="0" lang="en-US" sz="9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por mil MEF</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de intervenciones quirúrgicas en hombres</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de vasectomías sin bisturí</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uevas aceptantes por mil MEF</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suarias Activas por mil MEF</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de usuarias activas con método definitivo</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de usuarias activas con D.I.U.</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de usuarias activas con método hormonal</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Salud de la Mujer</a:t>
            </a: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tecciones de CaCu por mil MEF   1/</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de displasias  respecto a detecciones de CaCu</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tecciones positivas de CaCu por mil  MEF</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tecciones de cáncer de mama por mil MEF</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   De  Población  Potencial</a:t>
            </a:r>
            <a:endParaRPr b="0" lang="en-US" sz="800" spc="-1" strike="noStrike">
              <a:solidFill>
                <a:srgbClr val="000000"/>
              </a:solidFill>
              <a:latin typeface="Times New Roman"/>
            </a:endParaRPr>
          </a:p>
        </p:txBody>
      </p:sp>
      <p:sp>
        <p:nvSpPr>
          <p:cNvPr id="125" name=""/>
          <p:cNvSpPr/>
          <p:nvPr/>
        </p:nvSpPr>
        <p:spPr>
          <a:xfrm>
            <a:off x="457200" y="533520"/>
            <a:ext cx="5867280" cy="100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FORMULAS UTILIZADAS PARA LA CONSTRUCCION DE INDICADORES</a:t>
            </a:r>
            <a:endParaRPr b="0" lang="en-US" sz="1100" spc="-1" strike="noStrike">
              <a:solidFill>
                <a:srgbClr val="000000"/>
              </a:solidFill>
              <a:latin typeface="Times New Roman"/>
            </a:endParaRPr>
          </a:p>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SALUD  REPRODUCTIVA  Y  DE  LA  MUJER</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6" name=""/>
          <p:cNvSpPr/>
          <p:nvPr/>
        </p:nvSpPr>
        <p:spPr>
          <a:xfrm>
            <a:off x="3200400" y="1854360"/>
            <a:ext cx="3295800" cy="586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FORMULAS</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Total Cons. Ext. Prenatal/Cons. Prenatal de 1a. Vez</a:t>
            </a:r>
            <a:endParaRPr b="0" lang="en-US" sz="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de 1a.Vez en el 1° trim. Gestal./Cons.Prenat.de 1a.vez por </a:t>
            </a:r>
            <a:r>
              <a:rPr b="0" lang="es-ES_tradnl" sz="700" spc="-1" strike="noStrike">
                <a:solidFill>
                  <a:srgbClr val="000000"/>
                </a:solidFill>
                <a:latin typeface="Arial"/>
              </a:rPr>
              <a:t>100</a:t>
            </a:r>
            <a:endParaRPr b="0" lang="en-US" sz="7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mbarazadas de alto riesgo/Cons.prenatal de 1° vez por cie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 Prenatal de 1° vez/Cons. Prenatal subsecuente</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  Prenatal de 1° vez /MEF  por  mil</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Total de cons. a puérperas/Cons. de 1° vez a puérperas</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 de 1° vez a puérperas/Nacimientos atendidos</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esáreas/Nacimientos atendidos por cie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acidos vivos &lt; 2,500 gr./Nacidos vivos por  cie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Total de nacimientos atendidos/MEF por mil</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acidos vivos/Población legal  por  mil</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Total de muertes intrauterinas / Total de nacidos vivos por mil</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Muertes maternas/Nacidos vivos por  diez  mil</a:t>
            </a:r>
            <a:endParaRPr b="0" lang="en-US" sz="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 de planificación familiar/MEF  por  mil</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rvs. Quirúrgicas en hombres/Total de intervenc. Quirúrg. por 100</a:t>
            </a:r>
            <a:endParaRPr b="0" lang="en-US" sz="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Intervs. Quirúrgicas en hombres sin bisturí/Interv.Quirúrg en hombres por cien</a:t>
            </a:r>
            <a:endParaRPr b="0" lang="en-US" sz="7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uevas aceptantes por método/MEF  por mil</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suarias Activas por método/MEF  por mil</a:t>
            </a:r>
            <a:endParaRPr b="0" lang="en-US" sz="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suarias activas por método quirúrg./Usu.activas por método </a:t>
            </a:r>
            <a:r>
              <a:rPr b="0" lang="es-ES_tradnl" sz="700" spc="-1" strike="noStrike">
                <a:solidFill>
                  <a:srgbClr val="000000"/>
                </a:solidFill>
                <a:latin typeface="Arial"/>
              </a:rPr>
              <a:t>por 100</a:t>
            </a: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Usuarias activas por método D.I.U./Usuarias activas por método por cien</a:t>
            </a: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Usuarias activas por método hormonal/Usuarias activas por método por cien.</a:t>
            </a: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tecciones de CaCu/MEF  por  mil</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tecciones de displasias de CaCu/Detecciones de CaCu por cie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tecciones positivas de CaCu/Detecciones de Cacu  por mil</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tecciones de cáncer mamario/MEF  por  mil.</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0"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p:nvPr>
        </p:nvSpPr>
        <p:spPr>
          <a:xfrm>
            <a:off x="533160" y="2641680"/>
            <a:ext cx="2514600" cy="5968800"/>
          </a:xfrm>
          <a:prstGeom prst="rect">
            <a:avLst/>
          </a:prstGeom>
          <a:noFill/>
          <a:ln w="0">
            <a:noFill/>
          </a:ln>
        </p:spPr>
        <p:txBody>
          <a:bodyPr lIns="90000" rIns="90000" tIns="46800" bIns="46800" anchor="t">
            <a:normAutofit/>
          </a:bodyPr>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INDICADOR</a:t>
            </a:r>
            <a:endParaRPr b="0" lang="en-US" sz="900" spc="-1" strike="noStrike">
              <a:solidFill>
                <a:srgbClr val="000000"/>
              </a:solidFill>
              <a:latin typeface="Times New Roman"/>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Consulta a Niño Sano</a:t>
            </a:r>
            <a:endParaRPr b="0" lang="en-US" sz="9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por  niño</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lt;  de  1  año</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De  1  a  4  años</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imera  vez/ Subsecuente</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lt;  de  1  año</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De  1  a  4  años  </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Nutrición</a:t>
            </a:r>
            <a:endParaRPr b="0" lang="en-US" sz="9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de consultas  con desnutrición</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valencia de desnutrición moderada y severa</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Enfermedad Diarreica</a:t>
            </a: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de casos con deshidratación</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obres por caso</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Infecciones Respiratorias Agudas</a:t>
            </a: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de casos de neumonía</a:t>
            </a:r>
            <a:endParaRPr b="0" lang="en-US" sz="800" spc="-1" strike="noStrike">
              <a:solidFill>
                <a:srgbClr val="000000"/>
              </a:solidFill>
              <a:latin typeface="Times New Roman"/>
            </a:endParaRPr>
          </a:p>
        </p:txBody>
      </p:sp>
      <p:sp>
        <p:nvSpPr>
          <p:cNvPr id="132" name=""/>
          <p:cNvSpPr/>
          <p:nvPr/>
        </p:nvSpPr>
        <p:spPr>
          <a:xfrm>
            <a:off x="3048120" y="2666880"/>
            <a:ext cx="3295440" cy="586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FORMULAS</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de 1° vez a niño &lt; de 1 año/Total de cons. a niño sano</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de 1° vez a niño de 1 a 4 años/Total de cons. a niño sano</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de 1° vez a niño &lt; de 1 año/Cons. Subsec. a niño &lt; 1 año</a:t>
            </a:r>
            <a:endParaRPr b="0" lang="en-US" sz="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de 1° vez a niño de 1 a 4 años/Cons.Subsec.</a:t>
            </a:r>
            <a:r>
              <a:rPr b="0" lang="es-ES_tradnl" sz="700" spc="-1" strike="noStrike">
                <a:solidFill>
                  <a:srgbClr val="000000"/>
                </a:solidFill>
                <a:latin typeface="Arial"/>
              </a:rPr>
              <a:t>a niño </a:t>
            </a:r>
            <a:r>
              <a:rPr b="0" lang="es-ES_tradnl" sz="800" spc="-1" strike="noStrike">
                <a:solidFill>
                  <a:srgbClr val="000000"/>
                </a:solidFill>
                <a:latin typeface="Arial"/>
              </a:rPr>
              <a:t>&lt;1 </a:t>
            </a:r>
            <a:r>
              <a:rPr b="0" lang="es-ES_tradnl" sz="700" spc="-1" strike="noStrike">
                <a:solidFill>
                  <a:srgbClr val="000000"/>
                </a:solidFill>
                <a:latin typeface="Arial"/>
              </a:rPr>
              <a:t>año</a:t>
            </a:r>
            <a:endParaRPr b="0" lang="en-US" sz="7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ons.en niños &lt;de 5 años con desnut./Total de cons.en niños &lt;5 años por 100</a:t>
            </a: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ons.en niños &lt;de 5 años con desnut. Moderada más cons.en niños &lt; 5 años</a:t>
            </a: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on desnutrición severa/Total de cons. en niños &lt; 5 años por mil.</a:t>
            </a: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Menores deshidratados/Niños atendidos de enfermedad diarreica  por 100</a:t>
            </a: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Sobres de hidratación oral repartidos/Niños atendidos de enf.diarreica por 100</a:t>
            </a:r>
            <a:endParaRPr b="0" lang="en-US" sz="7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asos de neumonía/Niños atendidos de IRA’S  por  10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3" name=""/>
          <p:cNvSpPr/>
          <p:nvPr/>
        </p:nvSpPr>
        <p:spPr>
          <a:xfrm>
            <a:off x="457200" y="990720"/>
            <a:ext cx="5867280" cy="863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FORMULAS UTILIZADAS PARA LA CONSTRUCCION DE INDICADORES</a:t>
            </a:r>
            <a:endParaRPr b="0" lang="en-US" sz="1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TENCION  A  LA  SALUD  DEL  NIÑO</a:t>
            </a:r>
            <a:endParaRPr b="0" lang="en-US" sz="1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6"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PlaceHolder 1"/>
          <p:cNvSpPr>
            <a:spLocks noGrp="1"/>
          </p:cNvSpPr>
          <p:nvPr>
            <p:ph/>
          </p:nvPr>
        </p:nvSpPr>
        <p:spPr>
          <a:xfrm>
            <a:off x="533160" y="2641680"/>
            <a:ext cx="2514600" cy="5968800"/>
          </a:xfrm>
          <a:prstGeom prst="rect">
            <a:avLst/>
          </a:prstGeom>
          <a:noFill/>
          <a:ln w="0">
            <a:noFill/>
          </a:ln>
        </p:spPr>
        <p:txBody>
          <a:bodyPr lIns="90000" rIns="90000" tIns="46800" bIns="46800" anchor="t">
            <a:normAutofit/>
          </a:bodyPr>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INDICADOR</a:t>
            </a:r>
            <a:endParaRPr b="0" lang="en-US" sz="900" spc="-1" strike="noStrike">
              <a:solidFill>
                <a:srgbClr val="000000"/>
              </a:solidFill>
              <a:latin typeface="Times New Roman"/>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Diabetes  Mellitus</a:t>
            </a:r>
            <a:endParaRPr b="0" lang="en-US" sz="9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Detecciones por  mil  habitantes</a:t>
            </a: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Hipertensión  Arterial</a:t>
            </a:r>
            <a:endParaRPr b="0" lang="en-US" sz="9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Detecciones por  mil  habitantes</a:t>
            </a:r>
            <a:endParaRPr b="0" lang="en-US" sz="9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asos en control  por mil habitantes</a:t>
            </a:r>
            <a:endParaRPr b="0" lang="en-US" sz="9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lación ingresos / Casos en control</a:t>
            </a: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Salud  Bucal</a:t>
            </a: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onsultas por  mil  habitantes</a:t>
            </a:r>
            <a:endParaRPr b="0" lang="en-US" sz="9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onsulta primera vez / Subsecuente</a:t>
            </a:r>
            <a:endParaRPr b="0" lang="en-US" sz="9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tenciones preventivas por  mil habitantes</a:t>
            </a:r>
            <a:endParaRPr b="0" lang="en-US" sz="9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tenciones curativas  por  mil  habitantes</a:t>
            </a:r>
            <a:endParaRPr b="0" lang="en-US" sz="9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8" name=""/>
          <p:cNvSpPr/>
          <p:nvPr/>
        </p:nvSpPr>
        <p:spPr>
          <a:xfrm>
            <a:off x="3048120" y="2666880"/>
            <a:ext cx="3295440" cy="586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FORMULAS</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Detecciones / Población  legal  por  mil</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Detecciones / Población  legal  por  mil</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asos en control / Población  legal  por  mil</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Ingresos a control / Casos en control</a:t>
            </a:r>
            <a:endParaRPr b="0" lang="en-US" sz="9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Total  de consultas / Población legal por mil</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onsulta de  1° vez / Subsecuente</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tenciones preventivas / Población legal por mil</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tenciones curativas / Población usuaria  por  mil</a:t>
            </a:r>
            <a:endParaRPr b="0" lang="en-US" sz="9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 name=""/>
          <p:cNvSpPr/>
          <p:nvPr/>
        </p:nvSpPr>
        <p:spPr>
          <a:xfrm>
            <a:off x="457200" y="1066680"/>
            <a:ext cx="586728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FORMULAS UTILIZADAS PARA LA CONSTRUCCION DE INDICADOR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TENCION  A  LA  SALUD  DEL  ADULTO Y  DEL  ANCIANO</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3"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57200" y="533520"/>
            <a:ext cx="5867280" cy="8153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p:nvPr>
        </p:nvSpPr>
        <p:spPr>
          <a:xfrm>
            <a:off x="533160" y="2641680"/>
            <a:ext cx="2514600" cy="5968800"/>
          </a:xfrm>
          <a:prstGeom prst="rect">
            <a:avLst/>
          </a:prstGeom>
          <a:noFill/>
          <a:ln w="0">
            <a:noFill/>
          </a:ln>
        </p:spPr>
        <p:txBody>
          <a:bodyPr lIns="90000" rIns="90000" tIns="46800" bIns="46800" anchor="t">
            <a:normAutofit/>
          </a:bodyPr>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INDICADOR</a:t>
            </a:r>
            <a:endParaRPr b="0" lang="en-US" sz="900" spc="-1" strike="noStrike">
              <a:solidFill>
                <a:srgbClr val="000000"/>
              </a:solidFill>
              <a:latin typeface="Times New Roman"/>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Tuberculosis</a:t>
            </a:r>
            <a:endParaRPr b="0" lang="en-US" sz="9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Detecciones por  mil  habitantes</a:t>
            </a:r>
            <a:endParaRPr b="0" lang="en-US" sz="9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asos en control  por  mil  habitantes</a:t>
            </a:r>
            <a:endParaRPr b="0" lang="en-US" sz="9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lación ingresos / Casos en control</a:t>
            </a:r>
            <a:endParaRPr b="0" lang="en-US" sz="9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de casos en control  TAES</a:t>
            </a: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Lepra</a:t>
            </a:r>
            <a:endParaRPr b="0" lang="en-US" sz="9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asos registrados  por  mil  habitantes</a:t>
            </a:r>
            <a:endParaRPr b="0" lang="en-US" sz="9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lación ingresos / Casos registrados</a:t>
            </a:r>
            <a:endParaRPr b="0" lang="en-US" sz="9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de vigilancia postratamiento</a:t>
            </a: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46" name=""/>
          <p:cNvSpPr/>
          <p:nvPr/>
        </p:nvSpPr>
        <p:spPr>
          <a:xfrm>
            <a:off x="3048120" y="2666880"/>
            <a:ext cx="3295440" cy="586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FORMULAS</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Total de detecciones / Población  legal  por  mil</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asos en tratamiento / Población  legal  por  mil</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Ingresos a control / Casos en tratamiento</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asos en tratamiento  / TAES   por  cien</a:t>
            </a:r>
            <a:endParaRPr b="0" lang="en-US" sz="9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asos registrados / Población  legal  por  mil</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Ingresos a control / Casos en tratamiento</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Vigilancia postratamiento / Casos registrados por cien</a:t>
            </a:r>
            <a:endParaRPr b="0" lang="en-US" sz="9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7" name=""/>
          <p:cNvSpPr/>
          <p:nvPr/>
        </p:nvSpPr>
        <p:spPr>
          <a:xfrm>
            <a:off x="457200" y="1066680"/>
            <a:ext cx="579132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FORMULAS UTILIZADAS PARA LA CONSTRUCCION DE INDICADOR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 I C O B A C T E R I O S I 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1"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1447920"/>
            <a:ext cx="5867280" cy="678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p:nvPr>
        </p:nvSpPr>
        <p:spPr>
          <a:xfrm>
            <a:off x="685440" y="1218960"/>
            <a:ext cx="2438280" cy="6629400"/>
          </a:xfrm>
          <a:prstGeom prst="rect">
            <a:avLst/>
          </a:prstGeom>
          <a:noFill/>
          <a:ln w="0">
            <a:noFill/>
          </a:ln>
        </p:spPr>
        <p:txBody>
          <a:bodyPr lIns="90000" rIns="90000" tIns="46800" bIns="46800" anchor="t">
            <a:normAutofit/>
          </a:bodyPr>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INDICADOR</a:t>
            </a: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Recursos Físicos por 100,000 Habs. 1/</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amas</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orios</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Gabinetes de Rayos X</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Quirófanos</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alas de Expulsión</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Bancos de Sangre      </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Recursos Humanos por 100,000 Hab. 1/</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Médico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Odontólogo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nfermera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Trabajadores de salud  2/</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Servicios por 1 000 Habs. 1/</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Generale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gresos Hospitalario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rvenciones Quirúrgica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Odontológica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tención de Urgencia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udios de Laboratorio</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udios de Rayos X</a:t>
            </a:r>
            <a:endParaRPr b="0" lang="en-US" sz="800" spc="-1" strike="noStrike">
              <a:solidFill>
                <a:srgbClr val="000000"/>
              </a:solidFill>
              <a:latin typeface="Times New Roman"/>
            </a:endParaRPr>
          </a:p>
          <a:p>
            <a:pPr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Por 1,000  Mujeres en Edad Fértil</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acimientos Atendido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suarias Activa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uevas Aceptantes</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Productividad Diaria de los Recursos  3/</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Diarias por Médico</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por Médico General</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por Médico Especialista</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por Odontólogo</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por Consultorio</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rvenciones Quirúrgicas por Quirófano</a:t>
            </a:r>
            <a:endParaRPr b="0" lang="en-US" sz="800" spc="-1" strike="noStrike">
              <a:solidFill>
                <a:srgbClr val="000000"/>
              </a:solidFill>
              <a:latin typeface="Times New Roman"/>
            </a:endParaRPr>
          </a:p>
          <a:p>
            <a:pPr indent="0">
              <a:lnSpc>
                <a:spcPct val="6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Hospitalización</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Ocupación Hospitalari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medio Días Estanci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Mortalidad Hospitalari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nfermeras por Médico</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nfermeras por Cam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artos por 1,000  Egresos</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Egresos de Medicina Intern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Egresos de Cirugí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Egresos de Gineco-Obstetrici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Egresos de Pediatrí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4" name=""/>
          <p:cNvSpPr/>
          <p:nvPr/>
        </p:nvSpPr>
        <p:spPr>
          <a:xfrm>
            <a:off x="3048120" y="1019160"/>
            <a:ext cx="3276360" cy="6858000"/>
          </a:xfrm>
          <a:prstGeom prst="rect">
            <a:avLst/>
          </a:prstGeom>
          <a:noFill/>
          <a:ln w="0">
            <a:noFill/>
          </a:ln>
        </p:spPr>
        <p:style>
          <a:lnRef idx="0"/>
          <a:fillRef idx="0"/>
          <a:effectRef idx="0"/>
          <a:fontRef idx="minor"/>
        </p:style>
        <p:txBody>
          <a:bodyPr lIns="90000" rIns="90000" tIns="46800" bIns="46800" anchor="t">
            <a:normAutofit/>
          </a:bodyPr>
          <a:p>
            <a:pPr marL="101520" indent="101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FÓRMULAS</a:t>
            </a:r>
            <a:endParaRPr b="0" lang="en-US" sz="900" spc="-1" strike="noStrike">
              <a:solidFill>
                <a:srgbClr val="000000"/>
              </a:solidFill>
              <a:latin typeface="Times New Roman"/>
            </a:endParaRPr>
          </a:p>
          <a:p>
            <a:pPr marL="101520" indent="10152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amas censables / Población legal x 100,0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orios / Población legal  x  100,0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Gabinetes de Rayos X / Población legal x 100,0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Quirófanos /  Población legal  x  100,0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alas de Expulsión / Población legal  x  100,0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Bancos de Sangre /  Población legal  x  100,000</a:t>
            </a:r>
            <a:endParaRPr b="0" lang="en-US" sz="800" spc="-1" strike="noStrike">
              <a:solidFill>
                <a:srgbClr val="000000"/>
              </a:solidFill>
              <a:latin typeface="Times New Roman"/>
            </a:endParaRPr>
          </a:p>
          <a:p>
            <a:pPr marL="101520" indent="101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Médicos en contacto / Población legal x 100,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Odontólogos / Población legal x 100,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nfermeras / Población legal  x 100,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Recursos Humanos  / Población legal  x 100,000</a:t>
            </a:r>
            <a:endParaRPr b="0" lang="en-US" sz="800" spc="-1" strike="noStrike">
              <a:solidFill>
                <a:srgbClr val="000000"/>
              </a:solidFill>
              <a:latin typeface="Times New Roman"/>
            </a:endParaRPr>
          </a:p>
          <a:p>
            <a:pPr marL="101520" indent="101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01520" indent="101520">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01520" indent="10152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7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 Externa Gral./ Pob. legal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gresos Hospitalarios / Pob. legal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rvs. Quirúrgicas / Pob. legal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Odontológicas / Pob. legal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tención de Urgencias / Pob. legal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udios de Laboratorio / Pob. legal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udios de Rayos X / Pob. legal  x  1,000</a:t>
            </a:r>
            <a:endParaRPr b="0" lang="en-US" sz="800" spc="-1" strike="noStrike">
              <a:solidFill>
                <a:srgbClr val="000000"/>
              </a:solidFill>
              <a:latin typeface="Times New Roman"/>
            </a:endParaRPr>
          </a:p>
          <a:p>
            <a:pPr marL="101520" indent="10152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acimientos Atendidos / M.E.F.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suarias Activas / M.E.F.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uevas Aceptantes / M. E. F.  x  1,000</a:t>
            </a:r>
            <a:endParaRPr b="0" lang="en-US" sz="800" spc="-1" strike="noStrike">
              <a:solidFill>
                <a:srgbClr val="000000"/>
              </a:solidFill>
              <a:latin typeface="Times New Roman"/>
            </a:endParaRPr>
          </a:p>
          <a:p>
            <a:pPr marL="101520" indent="10152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 Ext. / Médicos en contacto / 252</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 Ext. Grales. / Med. Grales. </a:t>
            </a:r>
            <a:r>
              <a:rPr b="1" lang="es-ES_tradnl" sz="800" spc="-1" strike="noStrike">
                <a:solidFill>
                  <a:srgbClr val="000000"/>
                </a:solidFill>
                <a:latin typeface="Arial"/>
              </a:rPr>
              <a:t>+</a:t>
            </a:r>
            <a:r>
              <a:rPr b="0" lang="es-ES_tradnl" sz="800" spc="-1" strike="noStrike">
                <a:solidFill>
                  <a:srgbClr val="000000"/>
                </a:solidFill>
                <a:latin typeface="Arial"/>
              </a:rPr>
              <a:t> Pasantes / 252</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 Esp. / Especialistas </a:t>
            </a:r>
            <a:r>
              <a:rPr b="1" lang="es-ES_tradnl" sz="800" spc="-1" strike="noStrike">
                <a:solidFill>
                  <a:srgbClr val="000000"/>
                </a:solidFill>
                <a:latin typeface="Arial"/>
              </a:rPr>
              <a:t>+</a:t>
            </a:r>
            <a:r>
              <a:rPr b="0" lang="es-ES_tradnl" sz="800" spc="-1" strike="noStrike">
                <a:solidFill>
                  <a:srgbClr val="000000"/>
                </a:solidFill>
                <a:latin typeface="Arial"/>
              </a:rPr>
              <a:t> Residentes / 252</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 X  Odontólogo  / Odontólogos / 252</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 Ext. Grales. / Consultorios Grales. / 252</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rvenciones Quirúrgicas / Quirófanos / 365</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ías Paciente  / Camas Censables  x   365  x  1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ías Estancia  /  Egresos</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unciones  /  Egresos  x  1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nfermeras  /  Médicos en Contacto</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nfermeras /  Camas Censables</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acimientos  atendidos / Egresos  x  1,0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gresos de Med. Interna / Total de Egresos  x  1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gresos de Cirugía / Total de Egresos  x  1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gresos de Gineco-Obst. / Total de Egresos x 1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gresos de Pediatría / Total de Egresos  x  1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5" name=""/>
          <p:cNvSpPr/>
          <p:nvPr/>
        </p:nvSpPr>
        <p:spPr>
          <a:xfrm>
            <a:off x="533520" y="7620120"/>
            <a:ext cx="586728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  Para el cálculo de los indicadores institucionales se consideró la población legal o potenci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Para los valores estatales, los denominadores se refieren a la población proyectada para el 2000 por 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Consejo Nacional de Població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  Incluye el total del personal que labora en unidades médic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  Para fines de este Boletín se consideraron  252  días hábiles.</a:t>
            </a:r>
            <a:endParaRPr b="0" lang="en-US" sz="800" spc="-1" strike="noStrike">
              <a:solidFill>
                <a:srgbClr val="000000"/>
              </a:solidFill>
              <a:latin typeface="Times New Roman"/>
            </a:endParaRPr>
          </a:p>
        </p:txBody>
      </p:sp>
      <p:sp>
        <p:nvSpPr>
          <p:cNvPr id="156" name=""/>
          <p:cNvSpPr/>
          <p:nvPr/>
        </p:nvSpPr>
        <p:spPr>
          <a:xfrm>
            <a:off x="2409840" y="126540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838080" y="533520"/>
            <a:ext cx="5029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FÓRMULAS UTILIZADAS PARA LA CONSTRUCCIÓN DE INDICADO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362320" y="1828800"/>
            <a:ext cx="4190760" cy="6400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las Unidades de Consulta Externa están incluídos los Centros de Salud Urbanos, Centros de Salud Rurales, Clínicas de Especialidades, Unidades Móviles y Centros de Salud con Hospitalización, y en éstas, los Hospitales Generales y Especializados, quienes incluyen además los  Hospitales Psiquiátricos e Institutos Nacionales de Salud.</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otros consultorios incluye: Odontología y Urgencia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asantes incluye: pasantes de medicina en servicio social e internos de pregrad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dontólogos incluye: odontólogo general, odontólogo especialista y pasantes de odontología en servicio social.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as Enfermeras incluye: pasantes de enfermería, en servicio social y enfermeras en otra actividad.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 Personal Paramédico incluye: personal de trabajo social. En Servicios Auxiliares de Diagnóstico y Tratamiento incluye: profesionistas y técnicos.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rsonal Administrativo incluye: personal de intendencia, de conservación y mantenimiento además de personal administrativo propiamente.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 Personal incluye: promotores en salud, archivo clínico, personal de estadística, otros técnicos y otro person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s Consultorios incluye: odontología, medicina preventiva, urgencias y otr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 se incluyeron las unidades médicas subrogadas (ya que sólo se subroga el servicio) ni las unidades de apoy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s Unidades de Consulta Externa General incluyen Unidades de Medicina Familiar y Unidades Auxiliares de Medicina Familiar.</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s Unidades Médicas de Hospitalización General consideran Unidades de Medicina Familiar con Hospital. Hospital General Regional con Medicina Familiar, Hospital General Regional, Hospital Rural con Esquema Modificado, Hospital General de Zona con Medicina Familiar y Hospital General de Zon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equipos de radioterapia incluye aparatos de radioterapia superficial y profunda, unidad de telecobalto, acelerador de partículas  y unidad de terapia intracavitar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1"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PlaceHolder 1"/>
          <p:cNvSpPr>
            <a:spLocks noGrp="1"/>
          </p:cNvSpPr>
          <p:nvPr>
            <p:ph/>
          </p:nvPr>
        </p:nvSpPr>
        <p:spPr>
          <a:xfrm>
            <a:off x="666720" y="1828440"/>
            <a:ext cx="1619280" cy="6451560"/>
          </a:xfrm>
          <a:prstGeom prst="rect">
            <a:avLst/>
          </a:prstGeom>
          <a:noFill/>
          <a:ln w="0">
            <a:noFill/>
          </a:ln>
        </p:spPr>
        <p:txBody>
          <a:bodyPr lIns="90000" rIns="90000" tIns="46800" bIns="46800" anchor="t">
            <a:normAutofit/>
          </a:bodyPr>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cretaría de Salud</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MSS-Solidaridad</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ituto Mexicano del Seguro Social</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 name=""/>
          <p:cNvSpPr/>
          <p:nvPr/>
        </p:nvSpPr>
        <p:spPr>
          <a:xfrm>
            <a:off x="685800" y="990720"/>
            <a:ext cx="563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 a la información de Recursos</a:t>
            </a:r>
            <a:endParaRPr b="0" lang="en-US" sz="1200" spc="-1" strike="noStrike">
              <a:solidFill>
                <a:srgbClr val="000000"/>
              </a:solidFill>
              <a:latin typeface="Times New Roman"/>
            </a:endParaRPr>
          </a:p>
        </p:txBody>
      </p:sp>
      <p:sp>
        <p:nvSpPr>
          <p:cNvPr id="54" name=""/>
          <p:cNvSpPr/>
          <p:nvPr/>
        </p:nvSpPr>
        <p:spPr>
          <a:xfrm>
            <a:off x="609480" y="609480"/>
            <a:ext cx="289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352680" y="838188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09680" y="838080"/>
            <a:ext cx="3962520" cy="7086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 se consideran los hospitales subrogados, ya que únicamente se  subroga el servicio. </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personal médico en otras labores incluye al cuerpo de gobierno de la unidad, dirección y subdirección: jefes de servicios, departamentos y divisiones médicas;  medicina preventiva; enseñanza e investigación; planificación familiar; médicos en servicios auxiliares de diagnóstico y tratamiento e incluye médicos de contrato.</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enfermeras, no se incluyen a las de labores administrativas.</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as enfermeras, está formado por: jefe, subjefe, supervisor de enfermería y parteras, así como personal de confianza en el área de enfermería.</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 personal paramédico incluye: trabajo social, de confianza y becarios.</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recursos humanos, se incluyó en médicos y pasantes, a los internos de pregrado.</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édicos en otras labores, incluye a médicos en gerencia y cuerpos de gobierno de área médica.</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 personal paramédico, incluye trabajadoras sociales, farmacéuticos, dietistas y de archivo clínico.</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otro personal, se refiere a operadores de telecomunicaciones, personal administrativo y de servicios generales.</a:t>
            </a:r>
            <a:endParaRPr b="0" lang="en-US" sz="1000" spc="-1" strike="noStrike">
              <a:solidFill>
                <a:srgbClr val="000000"/>
              </a:solidFill>
              <a:latin typeface="Times New Roman"/>
            </a:endParaRPr>
          </a:p>
          <a:p>
            <a:pPr algn="just">
              <a:lnSpc>
                <a:spcPct val="13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s consultorios incluye odontológicos.</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el rubro de médicos en otras labores se incluye a personal directivo, de administración, investigación y docencia.</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 personal paramédico, comprende al de archivo clínico, estadística y auxiliar de farmacia.</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otro personal, se incluye a los de intendencia y otras actividades no médicas. </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columna estatal de población derechohabiente, incluye la seguridad social para trabajadores estatales  y al Sistema de Transporte Colectivo (Metro).</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0"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p:nvPr>
        </p:nvSpPr>
        <p:spPr>
          <a:xfrm>
            <a:off x="457200" y="837720"/>
            <a:ext cx="1619280" cy="7696440"/>
          </a:xfrm>
          <a:prstGeom prst="rect">
            <a:avLst/>
          </a:prstGeom>
          <a:noFill/>
          <a:ln w="0">
            <a:noFill/>
          </a:ln>
        </p:spPr>
        <p:txBody>
          <a:bodyPr lIns="90000" rIns="90000" tIns="46800" bIns="46800" anchor="t">
            <a:normAutofit/>
          </a:bodyPr>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ituto de Seguridad   y</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rvicios Sociales de los</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rabajadores del Estado</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tróleos Mexicanos</a:t>
            </a:r>
            <a:endParaRPr b="0" lang="en-US" sz="1000" spc="-1" strike="noStrike">
              <a:solidFill>
                <a:srgbClr val="000000"/>
              </a:solidFill>
              <a:latin typeface="Times New Roman"/>
            </a:endParaRPr>
          </a:p>
          <a:p>
            <a:pPr indent="0">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cretaría de Marina</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rvicios Estatales</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62" name=""/>
          <p:cNvSpPr/>
          <p:nvPr/>
        </p:nvSpPr>
        <p:spPr>
          <a:xfrm>
            <a:off x="609480" y="609480"/>
            <a:ext cx="289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352680" y="838188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7"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PlaceHolder 1"/>
          <p:cNvSpPr>
            <a:spLocks noGrp="1"/>
          </p:cNvSpPr>
          <p:nvPr>
            <p:ph/>
          </p:nvPr>
        </p:nvSpPr>
        <p:spPr>
          <a:xfrm>
            <a:off x="457200" y="2666880"/>
            <a:ext cx="1619280" cy="3810240"/>
          </a:xfrm>
          <a:prstGeom prst="rect">
            <a:avLst/>
          </a:prstGeom>
          <a:noFill/>
          <a:ln w="0">
            <a:noFill/>
          </a:ln>
        </p:spPr>
        <p:txBody>
          <a:bodyPr lIns="90000" rIns="90000" tIns="46800" bIns="46800" anchor="t">
            <a:normAutofit/>
          </a:bodyPr>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stema Nacional  de</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alud</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cretaría de Salud</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ituto Mexicano del Seguro Social</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 name=""/>
          <p:cNvSpPr/>
          <p:nvPr/>
        </p:nvSpPr>
        <p:spPr>
          <a:xfrm>
            <a:off x="2209680" y="2666880"/>
            <a:ext cx="3886200" cy="3581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Total de Consultorios incluye: a los generales, de especialidad y otros consultori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édicos,  se refiere a los médicos en contacto con el paciente y en otras labore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las Unidades de Consulta Externa, están incluídos los Centros de Salud Urbanos, Centros de Salud Rurales, Clínicas de Especialidades o Unidades Móvil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ara este año la institución no dispone de la información  sobre médicos y enfermeras.</a:t>
            </a:r>
            <a:endParaRPr b="0" lang="en-US" sz="1000" spc="-1" strike="noStrike">
              <a:solidFill>
                <a:srgbClr val="000000"/>
              </a:solidFill>
              <a:latin typeface="Times New Roman"/>
            </a:endParaRPr>
          </a:p>
        </p:txBody>
      </p:sp>
      <p:sp>
        <p:nvSpPr>
          <p:cNvPr id="70" name=""/>
          <p:cNvSpPr/>
          <p:nvPr/>
        </p:nvSpPr>
        <p:spPr>
          <a:xfrm>
            <a:off x="685800" y="1295280"/>
            <a:ext cx="556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 a la información de Tipo de Unidad</a:t>
            </a:r>
            <a:endParaRPr b="0" lang="en-US" sz="1200" spc="-1" strike="noStrike">
              <a:solidFill>
                <a:srgbClr val="000000"/>
              </a:solidFill>
              <a:latin typeface="Times New Roman"/>
            </a:endParaRPr>
          </a:p>
        </p:txBody>
      </p:sp>
      <p:sp>
        <p:nvSpPr>
          <p:cNvPr id="71" name=""/>
          <p:cNvSpPr/>
          <p:nvPr/>
        </p:nvSpPr>
        <p:spPr>
          <a:xfrm>
            <a:off x="609480" y="609480"/>
            <a:ext cx="289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52680" y="838188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6"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p:nvPr>
        </p:nvSpPr>
        <p:spPr>
          <a:xfrm>
            <a:off x="762120" y="2362320"/>
            <a:ext cx="5410080" cy="4698720"/>
          </a:xfrm>
          <a:prstGeom prst="rect">
            <a:avLst/>
          </a:prstGeom>
          <a:noFill/>
          <a:ln w="0">
            <a:noFill/>
          </a:ln>
        </p:spPr>
        <p:txBody>
          <a:bodyPr lIns="90000" rIns="90000" tIns="46800" bIns="46800" anchor="t">
            <a:normAutofit/>
          </a:bodyPr>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este apartado no se incluye la información de la Medicina Privada.</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ara el Distrito Federal,  se consideró a las Delegaciones Políticas como áreas geopolíticas equivalentes a municipios.</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cada entidad se incluyó al final  de los municipios un rubro de “No Especificado”, que se refiere a los recursos de las unidades que las diferentes instituciones no pudieron ubicar por municipio.</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unque el total de personal médico y de enfermería  coincide con las cifras reportadas en el capítulo de Recursos Físicos, Materiales y Humanos, las columnas de médicos generales, especialistas y otros, y en las enfermeras generales, especializadas y otras no coinciden con las registradas en dicho capítulo, debido a que en algunas instituciones y  unidades médicas que dependen de los gobiernos estatales sumaron a los médicos generales con los pasantes en algunos casos, y   a los especialistas con  los residentes y odontólogos.</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partos normales, están incluidos los partos distócicos vaginales.</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 name=""/>
          <p:cNvSpPr/>
          <p:nvPr/>
        </p:nvSpPr>
        <p:spPr>
          <a:xfrm>
            <a:off x="990720" y="1143000"/>
            <a:ext cx="4952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 a la información de Recursos y Servicios para la Salud por Municipio</a:t>
            </a:r>
            <a:endParaRPr b="0" lang="en-US" sz="1200" spc="-1" strike="noStrike">
              <a:solidFill>
                <a:srgbClr val="000000"/>
              </a:solidFill>
              <a:latin typeface="Times New Roman"/>
            </a:endParaRPr>
          </a:p>
        </p:txBody>
      </p:sp>
      <p:sp>
        <p:nvSpPr>
          <p:cNvPr id="79" name=""/>
          <p:cNvSpPr/>
          <p:nvPr/>
        </p:nvSpPr>
        <p:spPr>
          <a:xfrm>
            <a:off x="609480" y="609480"/>
            <a:ext cx="289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352680" y="838188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4"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p:nvPr>
        </p:nvSpPr>
        <p:spPr>
          <a:xfrm>
            <a:off x="514080" y="3047760"/>
            <a:ext cx="1771560" cy="507996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ituto Mexicano  del</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guro Social  -</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lidaridad</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ituto Mexicano  del</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guro Social</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ituto de Seguridad y</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rvicios Sociales de los</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rabajadores del Estado</a:t>
            </a:r>
            <a:endParaRPr b="0" lang="en-US" sz="1000" spc="-1" strike="noStrike">
              <a:solidFill>
                <a:srgbClr val="000000"/>
              </a:solidFill>
              <a:latin typeface="Times New Roman"/>
            </a:endParaRPr>
          </a:p>
          <a:p>
            <a:pPr marL="343080" indent="0">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rvicios  Estatales  de</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blación  Derechohabiente</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6" name=""/>
          <p:cNvSpPr/>
          <p:nvPr/>
        </p:nvSpPr>
        <p:spPr>
          <a:xfrm>
            <a:off x="2514600" y="3048120"/>
            <a:ext cx="3657600" cy="50799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hospitalización de pediatría incluye prematur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os egresos reportados en cada división incluyen los movimientos intrahospitalari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otros servicios auxiliares de diagnóstico se incluyen  electrocardiografía y electroencefalografí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láticas de educación para la salud, incluye  entrevistas, pláticas y curs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columna estatal se refiere a la información de los servicios de salud otorgados por unidades médicas dependientes del  ISSSTE  del gobierno del estado y cuyos beneficiarios son los trabajadores del gobierno estatal o municipal.  En el caso del D. F. incluye información  del  STC  (METR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 name=""/>
          <p:cNvSpPr/>
          <p:nvPr/>
        </p:nvSpPr>
        <p:spPr>
          <a:xfrm>
            <a:off x="914400" y="1143000"/>
            <a:ext cx="502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 a la información de Servicios</a:t>
            </a:r>
            <a:endParaRPr b="0" lang="en-US" sz="1200" spc="-1" strike="noStrike">
              <a:solidFill>
                <a:srgbClr val="000000"/>
              </a:solidFill>
              <a:latin typeface="Times New Roman"/>
            </a:endParaRPr>
          </a:p>
        </p:txBody>
      </p:sp>
      <p:sp>
        <p:nvSpPr>
          <p:cNvPr id="88" name=""/>
          <p:cNvSpPr/>
          <p:nvPr/>
        </p:nvSpPr>
        <p:spPr>
          <a:xfrm>
            <a:off x="609480" y="609480"/>
            <a:ext cx="289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352680" y="838188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3"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914400" y="2437920"/>
            <a:ext cx="5105520" cy="1752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_tradnl" sz="1100" spc="-1" strike="noStrike">
                <a:solidFill>
                  <a:srgbClr val="000000"/>
                </a:solidFill>
                <a:latin typeface="Arial"/>
              </a:rPr>
              <a:t>La información de este capítulo fue recabada  a  través  de  las   Entidades  Federativas mediante la Encuesta de Unidades Médicas Privadas con servicio  de  hospitalización.</a:t>
            </a:r>
            <a:br>
              <a:rPr sz="1100"/>
            </a:br>
            <a:br>
              <a:rPr sz="1100"/>
            </a:br>
            <a:r>
              <a:rPr b="0" lang="es-ES_tradnl" sz="1100" spc="-1" strike="noStrike">
                <a:solidFill>
                  <a:srgbClr val="000000"/>
                </a:solidFill>
                <a:latin typeface="Arial"/>
              </a:rPr>
              <a:t>El criterio para la inclusión de las unidades médicas privadas se hizo en base a que éstas contaran con servicios de hospitalización, la disponibilidad de camas censables y que realizaran cirugías de corta estancia.. </a:t>
            </a:r>
            <a:br>
              <a:rPr sz="1100"/>
            </a:br>
            <a:br>
              <a:rPr sz="1100"/>
            </a:br>
            <a:r>
              <a:rPr b="0" lang="es-ES_tradnl" sz="1100" spc="-1" strike="noStrike">
                <a:solidFill>
                  <a:srgbClr val="000000"/>
                </a:solidFill>
                <a:latin typeface="Arial"/>
              </a:rPr>
              <a:t>La definición usada para la  clasificación  por  tipo  de unidad, se  basó  en  el número de camas censables de acuerdo a los parámetros siguientes :</a:t>
            </a:r>
            <a:br>
              <a:rPr sz="1100"/>
            </a:br>
            <a:endParaRPr b="0" lang="en-US" sz="1100" spc="-1" strike="noStrike">
              <a:solidFill>
                <a:srgbClr val="000000"/>
              </a:solidFill>
              <a:latin typeface="Times New Roman"/>
            </a:endParaRPr>
          </a:p>
        </p:txBody>
      </p:sp>
      <p:sp>
        <p:nvSpPr>
          <p:cNvPr id="95" name="PlaceHolder 2"/>
          <p:cNvSpPr>
            <a:spLocks noGrp="1"/>
          </p:cNvSpPr>
          <p:nvPr>
            <p:ph/>
          </p:nvPr>
        </p:nvSpPr>
        <p:spPr>
          <a:xfrm>
            <a:off x="914400" y="4572000"/>
            <a:ext cx="1752480" cy="3556080"/>
          </a:xfrm>
          <a:prstGeom prst="rect">
            <a:avLst/>
          </a:prstGeom>
          <a:noFill/>
          <a:ln w="0">
            <a:noFill/>
          </a:ln>
        </p:spPr>
        <p:txBody>
          <a:bodyPr lIns="90000" rIns="90000" tIns="46800" bIns="46800" anchor="t">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línica</a:t>
            </a: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anatorio</a:t>
            </a: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Hospital</a:t>
            </a: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o  Médico</a:t>
            </a: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96" name=""/>
          <p:cNvSpPr/>
          <p:nvPr/>
        </p:nvSpPr>
        <p:spPr>
          <a:xfrm>
            <a:off x="2895480" y="4572000"/>
            <a:ext cx="3200400" cy="355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enos  de   14   camas  censables</a:t>
            </a:r>
            <a:endParaRPr b="0" lang="en-US" sz="1100" spc="-1" strike="noStrike">
              <a:solidFill>
                <a:srgbClr val="000000"/>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  15  a   24   camas censables</a:t>
            </a:r>
            <a:endParaRPr b="0" lang="en-US" sz="1100" spc="-1" strike="noStrike">
              <a:solidFill>
                <a:srgbClr val="000000"/>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  25  a   49   camas censables</a:t>
            </a:r>
            <a:endParaRPr b="0" lang="en-US" sz="1100" spc="-1" strike="noStrike">
              <a:solidFill>
                <a:srgbClr val="000000"/>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ás  de    50  camas censables</a:t>
            </a:r>
            <a:endParaRPr b="0" lang="en-US" sz="1100" spc="-1" strike="noStrike">
              <a:solidFill>
                <a:srgbClr val="000000"/>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97" name=""/>
          <p:cNvSpPr/>
          <p:nvPr/>
        </p:nvSpPr>
        <p:spPr>
          <a:xfrm>
            <a:off x="838080" y="990720"/>
            <a:ext cx="4953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 a la información de unidades de medicina privada con hospitalización</a:t>
            </a:r>
            <a:endParaRPr b="0" lang="en-US" sz="1200" spc="-1" strike="noStrike">
              <a:solidFill>
                <a:srgbClr val="000000"/>
              </a:solidFill>
              <a:latin typeface="Times New Roman"/>
            </a:endParaRPr>
          </a:p>
        </p:txBody>
      </p:sp>
      <p:sp>
        <p:nvSpPr>
          <p:cNvPr id="98" name=""/>
          <p:cNvSpPr/>
          <p:nvPr/>
        </p:nvSpPr>
        <p:spPr>
          <a:xfrm>
            <a:off x="609480" y="609480"/>
            <a:ext cx="289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352680" y="838188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3"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p:nvPr>
        </p:nvSpPr>
        <p:spPr>
          <a:xfrm>
            <a:off x="837720" y="2895120"/>
            <a:ext cx="2057400" cy="5232600"/>
          </a:xfrm>
          <a:prstGeom prst="rect">
            <a:avLst/>
          </a:prstGeom>
          <a:noFill/>
          <a:ln w="0">
            <a:noFill/>
          </a:ln>
        </p:spPr>
        <p:txBody>
          <a:bodyPr lIns="90000" rIns="90000" tIns="46800" bIns="46800" anchor="t">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bertura  de  Población</a:t>
            </a: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Usuaria</a:t>
            </a: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ujeres en Edad  Fértil</a:t>
            </a:r>
            <a:endParaRPr b="0" lang="en-US" sz="1100" spc="-1" strike="noStrike">
              <a:solidFill>
                <a:srgbClr val="000000"/>
              </a:solidFill>
              <a:latin typeface="Times New Roman"/>
            </a:endParaRPr>
          </a:p>
        </p:txBody>
      </p:sp>
      <p:sp>
        <p:nvSpPr>
          <p:cNvPr id="105" name=""/>
          <p:cNvSpPr/>
          <p:nvPr/>
        </p:nvSpPr>
        <p:spPr>
          <a:xfrm>
            <a:off x="3048120" y="2895480"/>
            <a:ext cx="3200400" cy="52326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 utilizó como numerador, la población  usuaria  y como denominador, la población legal o potencial de cada institución;  salvo en el caso de los  totales nacionales  y  estatales, en  los cuales se utilizaron  las  Proyecciones de la  Población  de  México  1996 - 2050  elaboradas por CONAPO.</a:t>
            </a: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 refiere al grupo de mujeres  de  15  a  49  años de la población  usuaria de cada institución, salvo en el caso de los totales nacionales y por estado,  donde se utilizó la estructura por edades de la población proyectada por  CONAPO.</a:t>
            </a: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06" name=""/>
          <p:cNvSpPr/>
          <p:nvPr/>
        </p:nvSpPr>
        <p:spPr>
          <a:xfrm>
            <a:off x="685800" y="1143000"/>
            <a:ext cx="5486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 a la información de indicadores estadísticos básicos del SNS</a:t>
            </a:r>
            <a:endParaRPr b="0" lang="en-US" sz="1200" spc="-1" strike="noStrike">
              <a:solidFill>
                <a:srgbClr val="000000"/>
              </a:solidFill>
              <a:latin typeface="Times New Roman"/>
            </a:endParaRPr>
          </a:p>
        </p:txBody>
      </p:sp>
      <p:sp>
        <p:nvSpPr>
          <p:cNvPr id="107" name=""/>
          <p:cNvSpPr/>
          <p:nvPr/>
        </p:nvSpPr>
        <p:spPr>
          <a:xfrm>
            <a:off x="609480" y="609480"/>
            <a:ext cx="289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352680" y="838188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2"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PlaceHolder 1"/>
          <p:cNvSpPr>
            <a:spLocks noGrp="1"/>
          </p:cNvSpPr>
          <p:nvPr>
            <p:ph/>
          </p:nvPr>
        </p:nvSpPr>
        <p:spPr>
          <a:xfrm>
            <a:off x="761760" y="2437920"/>
            <a:ext cx="5562360" cy="1295640"/>
          </a:xfrm>
          <a:prstGeom prst="rect">
            <a:avLst/>
          </a:prstGeom>
          <a:noFill/>
          <a:ln w="0">
            <a:noFill/>
          </a:ln>
        </p:spPr>
        <p:txBody>
          <a:bodyPr lIns="90000" rIns="90000" tIns="46800" bIns="46800" anchor="t">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1100" spc="-1" strike="noStrike">
                <a:solidFill>
                  <a:srgbClr val="000000"/>
                </a:solidFill>
                <a:latin typeface="Arial"/>
              </a:rPr>
              <a:t>La información sobre infraestructura no se presenta en virtud de que estas instituciones tienen convenio con diferentes unidades privadas para prestar servicio, las cuales se presentan en el apartado de unidades médicas privadas.</a:t>
            </a:r>
            <a:endParaRPr b="0" lang="en-US" sz="1100" spc="-1" strike="noStrike">
              <a:solidFill>
                <a:srgbClr val="000000"/>
              </a:solidFill>
              <a:latin typeface="Times New Roman"/>
            </a:endParaRPr>
          </a:p>
          <a:p>
            <a:pPr marL="343080" indent="0" algn="just">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gn="just">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gn="just">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gn="just">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gn="just">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gn="just">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14" name=""/>
          <p:cNvSpPr/>
          <p:nvPr/>
        </p:nvSpPr>
        <p:spPr>
          <a:xfrm>
            <a:off x="3048120" y="2895480"/>
            <a:ext cx="3200400" cy="523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838080" y="1219320"/>
            <a:ext cx="5181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 a la información de Instituciones Bancarias</a:t>
            </a:r>
            <a:endParaRPr b="0" lang="en-US" sz="1200" spc="-1" strike="noStrike">
              <a:solidFill>
                <a:srgbClr val="000000"/>
              </a:solidFill>
              <a:latin typeface="Times New Roman"/>
            </a:endParaRPr>
          </a:p>
        </p:txBody>
      </p:sp>
      <p:sp>
        <p:nvSpPr>
          <p:cNvPr id="116" name=""/>
          <p:cNvSpPr/>
          <p:nvPr/>
        </p:nvSpPr>
        <p:spPr>
          <a:xfrm>
            <a:off x="609480" y="609480"/>
            <a:ext cx="289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352680" y="838188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4T15:58:34Z</dcterms:created>
  <dc:creator>,</dc:creator>
  <dc:description/>
  <dc:language>en-US</dc:language>
  <cp:lastModifiedBy>Alberto de la Rosa Rábago</cp:lastModifiedBy>
  <cp:lastPrinted>2002-11-26T22:02:35Z</cp:lastPrinted>
  <dcterms:modified xsi:type="dcterms:W3CDTF">2003-05-21T17:35:23Z</dcterms:modified>
  <cp:revision>115</cp:revision>
  <dc:subject/>
  <dc:title>A partir de este año el presupuesto se presenta por Función, Subfunción y Actividad Institucional debido a que cambió la  apertura programática vigente. Las claves que  se incluyen corresponden a la Actividad Institucional y están conformadas de acuerdo al ejemplo siguiente:</dc:title>
</cp:coreProperties>
</file>