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429000" y="2209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77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432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MEDIO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2000" y="2514600"/>
            <a:ext cx="48816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3657600" y="24379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685800"/>
            <a:ext cx="52578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mas censables por 100,000 habi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43280" y="7311960"/>
            <a:ext cx="11588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43280" y="7165800"/>
            <a:ext cx="13982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43280" y="7018200"/>
            <a:ext cx="14842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43280" y="6877080"/>
            <a:ext cx="156348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43280" y="6730920"/>
            <a:ext cx="157788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43280" y="6583320"/>
            <a:ext cx="16570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43280" y="6435720"/>
            <a:ext cx="17301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43280" y="6289560"/>
            <a:ext cx="18302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43280" y="6141960"/>
            <a:ext cx="18763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43280" y="6000840"/>
            <a:ext cx="189036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43280" y="5854680"/>
            <a:ext cx="190332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943280" y="5707080"/>
            <a:ext cx="19238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43280" y="5560920"/>
            <a:ext cx="19364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43280" y="5413320"/>
            <a:ext cx="20905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43280" y="5265720"/>
            <a:ext cx="223020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943280" y="5119560"/>
            <a:ext cx="226980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43280" y="4978440"/>
            <a:ext cx="230976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943280" y="4830840"/>
            <a:ext cx="23558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43280" y="4684680"/>
            <a:ext cx="24285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3280" y="4537080"/>
            <a:ext cx="25761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43280" y="4390920"/>
            <a:ext cx="264312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43280" y="4243320"/>
            <a:ext cx="26557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43280" y="4102200"/>
            <a:ext cx="268272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43280" y="3956040"/>
            <a:ext cx="271620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943280" y="3808440"/>
            <a:ext cx="272880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43280" y="3660840"/>
            <a:ext cx="28684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43280" y="3514680"/>
            <a:ext cx="29955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43280" y="3367080"/>
            <a:ext cx="30225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3280" y="3227400"/>
            <a:ext cx="317484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43280" y="3079800"/>
            <a:ext cx="344772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43280" y="2932200"/>
            <a:ext cx="36813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43280" y="2786040"/>
            <a:ext cx="37670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43280" y="7416720"/>
            <a:ext cx="3894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943280" y="741672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428920" y="741672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914560" y="741672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400560" y="741672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894120" y="741672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4379760" y="741672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4865760" y="741672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5351400" y="741672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837400" y="741672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943280" y="2743200"/>
            <a:ext cx="1440" cy="467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16280" y="741672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6280" y="726912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16280" y="712296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16280" y="697536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16280" y="68342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16280" y="668808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16280" y="654048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16280" y="639288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16280" y="624672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16280" y="609912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16280" y="59580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16280" y="58118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16280" y="56642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16280" y="551808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16280" y="537048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16280" y="522288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16280" y="507672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16280" y="49356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16280" y="47880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16280" y="46418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16280" y="44942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916280" y="434808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16280" y="420048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16280" y="405936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16280" y="39132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16280" y="37656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916280" y="36180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16280" y="34718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916280" y="33242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916280" y="318456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16280" y="303696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6280" y="288936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16280" y="27432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88760" y="2271600"/>
            <a:ext cx="125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MEDIO 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51800" y="24177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44.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16280" y="750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68800" y="7508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54800" y="7508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41880" y="7508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4000" y="7508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20000" y="7508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05640" y="7508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291640" y="7508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77280" y="7508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536480" y="729468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97880" y="7147080"/>
            <a:ext cx="43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510560" y="6999120"/>
            <a:ext cx="329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AX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30720" y="685944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UEB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91840" y="671184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A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351800" y="656424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ICHOAC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154160" y="6418440"/>
            <a:ext cx="66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AN LUIS POTO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84840" y="6270480"/>
            <a:ext cx="538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ANAJUA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43600" y="612468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344960" y="597708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ERETA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83560" y="5835600"/>
            <a:ext cx="35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17320" y="5689440"/>
            <a:ext cx="41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LAXCA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18760" y="5541840"/>
            <a:ext cx="42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VERACRU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502640" y="5394240"/>
            <a:ext cx="33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LI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364400" y="5248440"/>
            <a:ext cx="47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ZACATE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30400" y="5100480"/>
            <a:ext cx="70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72320" y="495936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57640" y="4813200"/>
            <a:ext cx="37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B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30120" y="466560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INTANA RO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03720" y="451944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AYAR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470960" y="437184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UCAT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0400" y="422424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INAL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10240" y="4084560"/>
            <a:ext cx="706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45400" y="393696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URAN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98600" y="378936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AMPEC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330200" y="3643200"/>
            <a:ext cx="50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UEVO LE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23720" y="349560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MAULI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35760" y="334980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LI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03360" y="320184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N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30280" y="3060720"/>
            <a:ext cx="40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AHU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43200" y="2914560"/>
            <a:ext cx="88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00160" y="2766960"/>
            <a:ext cx="73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STRITO FED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57920" y="7686720"/>
            <a:ext cx="1404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EGRESOS  HOSPITAL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114800" y="259056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1066680"/>
            <a:ext cx="54100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gresos hospitalarios por 1,000 habi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062080" y="7159680"/>
            <a:ext cx="20210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62080" y="7013520"/>
            <a:ext cx="213840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062080" y="6865920"/>
            <a:ext cx="22543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062080" y="6724800"/>
            <a:ext cx="226080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62080" y="6578640"/>
            <a:ext cx="231948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062080" y="6431040"/>
            <a:ext cx="23576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62080" y="6283440"/>
            <a:ext cx="24098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062080" y="6137280"/>
            <a:ext cx="242892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062080" y="5989680"/>
            <a:ext cx="24544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62080" y="5848200"/>
            <a:ext cx="2460600" cy="55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62080" y="5702400"/>
            <a:ext cx="255744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62080" y="5554800"/>
            <a:ext cx="259740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062080" y="5408640"/>
            <a:ext cx="266076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62080" y="5261040"/>
            <a:ext cx="27259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062080" y="5113440"/>
            <a:ext cx="27640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062080" y="4967280"/>
            <a:ext cx="281628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062080" y="4826160"/>
            <a:ext cx="286092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2080" y="4678200"/>
            <a:ext cx="28796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62080" y="4532400"/>
            <a:ext cx="291312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62080" y="4384800"/>
            <a:ext cx="29638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62080" y="4238640"/>
            <a:ext cx="29703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062080" y="4091040"/>
            <a:ext cx="29847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62080" y="3949560"/>
            <a:ext cx="2997360" cy="55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62080" y="3803760"/>
            <a:ext cx="306720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62080" y="3656160"/>
            <a:ext cx="31003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062080" y="3508200"/>
            <a:ext cx="31132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62080" y="3362400"/>
            <a:ext cx="313236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62080" y="3214800"/>
            <a:ext cx="31449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62080" y="3075120"/>
            <a:ext cx="320364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062080" y="2927520"/>
            <a:ext cx="326880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062080" y="2779560"/>
            <a:ext cx="33321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062080" y="2633760"/>
            <a:ext cx="369432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62080" y="7264440"/>
            <a:ext cx="3778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062080" y="726444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462040" y="726444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857680" y="726444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257640" y="726444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51120" y="726444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51440" y="726444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444920" y="726444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844880" y="726444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5246640" y="726444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640480" y="726444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62080" y="2590920"/>
            <a:ext cx="1800" cy="467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72644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036880" y="71168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36880" y="697068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036880" y="682308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36880" y="66819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036880" y="65358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36880" y="63882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36880" y="62406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36880" y="60944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36880" y="59468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36880" y="58053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036880" y="56595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036880" y="55119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36880" y="53658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36880" y="52182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36880" y="50706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36880" y="49244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36880" y="47829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036880" y="46353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036880" y="44895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036880" y="43419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036880" y="41958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036880" y="40482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36880" y="390672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36880" y="376092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036880" y="361332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036880" y="34653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36880" y="33195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036880" y="31719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036880" y="303228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36880" y="288432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036880" y="273672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36880" y="259092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155480" y="2130480"/>
            <a:ext cx="125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MEDIO 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702680" y="22780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68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36880" y="7356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05520" y="7356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799000" y="7356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199320" y="7356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92800" y="7356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94560" y="7356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388040" y="7356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788360" y="7356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8320" y="7356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582160" y="7356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86120" y="7142040"/>
            <a:ext cx="88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36200" y="6994440"/>
            <a:ext cx="33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LI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35040" y="684684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AMPEC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67520" y="670716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LI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534320" y="6559560"/>
            <a:ext cx="43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62480" y="641196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UEB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292400" y="6265800"/>
            <a:ext cx="66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AN LUIS POTO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22520" y="611820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AYAR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52320" y="5972040"/>
            <a:ext cx="41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LAXCA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668240" y="582444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44120" y="5683320"/>
            <a:ext cx="329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AX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25040" y="553716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A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19320" y="5389560"/>
            <a:ext cx="73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STRITO FED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472760" y="524196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MAULI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375920" y="509580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INTANA RO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48720" y="4948200"/>
            <a:ext cx="42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VERACRU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636920" y="480708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N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13440" y="466092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92920" y="451332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ICHOAC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595520" y="4367160"/>
            <a:ext cx="37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B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429200" y="4219560"/>
            <a:ext cx="538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ANAJUA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500840" y="4071960"/>
            <a:ext cx="47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ZACATE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565280" y="3932280"/>
            <a:ext cx="40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AHU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578600" y="378468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URAN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61080" y="3637080"/>
            <a:ext cx="706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81400" y="349092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ERETA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628280" y="334332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INAL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81840" y="319716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76200" y="3049560"/>
            <a:ext cx="70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465200" y="2908440"/>
            <a:ext cx="50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UEVO LE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99480" y="276228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UCAT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26480" y="2614680"/>
            <a:ext cx="35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36040" y="7534440"/>
            <a:ext cx="1416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OCUPACIÓN HOSPITALA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4800600" y="251424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7200" y="914400"/>
            <a:ext cx="59436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cupación hospit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019240" y="7175520"/>
            <a:ext cx="18176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019240" y="7032600"/>
            <a:ext cx="184320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19240" y="6889680"/>
            <a:ext cx="187632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019240" y="6753240"/>
            <a:ext cx="195120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019240" y="6610320"/>
            <a:ext cx="199080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19240" y="6467400"/>
            <a:ext cx="200340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019240" y="6323040"/>
            <a:ext cx="215748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019240" y="6180120"/>
            <a:ext cx="22035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019240" y="6037200"/>
            <a:ext cx="22100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019240" y="5900760"/>
            <a:ext cx="226368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19240" y="5757840"/>
            <a:ext cx="228276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019240" y="5613480"/>
            <a:ext cx="230364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19240" y="5470560"/>
            <a:ext cx="231624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019240" y="5327640"/>
            <a:ext cx="23432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19240" y="5184720"/>
            <a:ext cx="24098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19240" y="5041800"/>
            <a:ext cx="244944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019240" y="4905360"/>
            <a:ext cx="2455920" cy="525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019240" y="4761000"/>
            <a:ext cx="247032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019240" y="4618080"/>
            <a:ext cx="248292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019240" y="4475160"/>
            <a:ext cx="250992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019240" y="4332240"/>
            <a:ext cx="254952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19240" y="4189320"/>
            <a:ext cx="254952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019240" y="4051440"/>
            <a:ext cx="257652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19240" y="3908520"/>
            <a:ext cx="262260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019240" y="3765600"/>
            <a:ext cx="262908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019240" y="3622680"/>
            <a:ext cx="266220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019240" y="3479760"/>
            <a:ext cx="267660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19240" y="3336840"/>
            <a:ext cx="277488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19240" y="3198960"/>
            <a:ext cx="300204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19240" y="3056040"/>
            <a:ext cx="318132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19240" y="2913120"/>
            <a:ext cx="330840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19240" y="2770200"/>
            <a:ext cx="386100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19240" y="7277040"/>
            <a:ext cx="3927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019240" y="727704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2671920" y="727704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3330720" y="727704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3983040" y="727704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35360" y="727704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294160" y="7277040"/>
            <a:ext cx="180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5946840" y="7277040"/>
            <a:ext cx="1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019240" y="2728800"/>
            <a:ext cx="1800" cy="454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992240" y="727704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992240" y="713412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992240" y="699120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992240" y="68486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92240" y="67104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92240" y="656748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92240" y="642456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92240" y="628164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992240" y="613872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92240" y="599616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92240" y="585792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2240" y="57150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992240" y="557208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992240" y="542916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992240" y="528624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992240" y="514368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92240" y="500076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992240" y="486252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92240" y="471960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992240" y="457668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92240" y="443376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429084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992240" y="414828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92240" y="40100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992240" y="386712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992240" y="372420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992240" y="358128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92240" y="343836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92240" y="329580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992240" y="315756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992240" y="3014640"/>
            <a:ext cx="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992240" y="287172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92240" y="2728800"/>
            <a:ext cx="27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177800" y="2281320"/>
            <a:ext cx="125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MEDIO 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780440" y="24242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92240" y="7367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644920" y="7367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303720" y="7367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956040" y="7367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08360" y="7367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67160" y="7367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919840" y="7367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40360" y="7157880"/>
            <a:ext cx="47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ZACATE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493640" y="7015320"/>
            <a:ext cx="41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LAXCA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570320" y="687240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AYAR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567800" y="673560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A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11720" y="659124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LI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320480" y="644832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INTANA RO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474560" y="630540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AMPEC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473840" y="6162840"/>
            <a:ext cx="43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016280" y="6019920"/>
            <a:ext cx="88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519920" y="587700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427760" y="573876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ICHOAC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238400" y="5595840"/>
            <a:ext cx="66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AN LUIS POTO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425960" y="545292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ERETA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205640" y="5310360"/>
            <a:ext cx="706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586880" y="5167440"/>
            <a:ext cx="329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AX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10840" y="502452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MAULI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79680" y="488628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N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90040" y="4743360"/>
            <a:ext cx="42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VERACRU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71400" y="460044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INAL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526400" y="445788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URAN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38640" y="4314960"/>
            <a:ext cx="37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B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11280" y="4172040"/>
            <a:ext cx="40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AHU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75200" y="4033800"/>
            <a:ext cx="538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ANAJUA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07040" y="389088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UEB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12840" y="3747960"/>
            <a:ext cx="70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8960" y="3605040"/>
            <a:ext cx="33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LI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448280" y="346248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59520" y="3319560"/>
            <a:ext cx="35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612440" y="317484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03280" y="3038400"/>
            <a:ext cx="50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UEVO LE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47280" y="289548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UCAT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177920" y="2752560"/>
            <a:ext cx="73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STRITO FED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174480" y="7540560"/>
            <a:ext cx="1550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ROMEDIO DE DÍAS ESTANC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4800600" y="2590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" y="914400"/>
            <a:ext cx="5943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edio de días esta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95480" y="2712960"/>
            <a:ext cx="385596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38440" y="2712960"/>
            <a:ext cx="1440" cy="468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82840" y="2712960"/>
            <a:ext cx="1800" cy="468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27600" y="2712960"/>
            <a:ext cx="1440" cy="468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64080" y="2712960"/>
            <a:ext cx="1440" cy="468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08480" y="2712960"/>
            <a:ext cx="1800" cy="468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51440" y="2712960"/>
            <a:ext cx="1800" cy="468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95480" y="7288200"/>
            <a:ext cx="93204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95480" y="7140600"/>
            <a:ext cx="100476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95480" y="6994440"/>
            <a:ext cx="110664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95480" y="6846840"/>
            <a:ext cx="111924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95480" y="6705720"/>
            <a:ext cx="1179360" cy="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5480" y="6559560"/>
            <a:ext cx="117936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95480" y="6411960"/>
            <a:ext cx="119376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5480" y="6265800"/>
            <a:ext cx="128736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5480" y="6118200"/>
            <a:ext cx="128736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95480" y="5970600"/>
            <a:ext cx="128736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95480" y="5824440"/>
            <a:ext cx="131436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95480" y="5676840"/>
            <a:ext cx="133344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95480" y="5535720"/>
            <a:ext cx="1428840" cy="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5480" y="5389560"/>
            <a:ext cx="143496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95480" y="5241960"/>
            <a:ext cx="146196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95480" y="5095800"/>
            <a:ext cx="148104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95480" y="4948200"/>
            <a:ext cx="153504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95480" y="4800600"/>
            <a:ext cx="160344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95480" y="4654440"/>
            <a:ext cx="162252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95480" y="4506840"/>
            <a:ext cx="167004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95480" y="4365720"/>
            <a:ext cx="1730520" cy="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95480" y="4219560"/>
            <a:ext cx="175104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95480" y="4071960"/>
            <a:ext cx="175104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95480" y="3925800"/>
            <a:ext cx="175752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95480" y="3778200"/>
            <a:ext cx="177012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95480" y="3630600"/>
            <a:ext cx="181764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95480" y="3484440"/>
            <a:ext cx="183672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95480" y="3336840"/>
            <a:ext cx="207180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5480" y="3197160"/>
            <a:ext cx="207972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95480" y="3049560"/>
            <a:ext cx="211284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95480" y="2901960"/>
            <a:ext cx="3179880" cy="6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95480" y="2755800"/>
            <a:ext cx="344808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95480" y="7392960"/>
            <a:ext cx="3855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95480" y="7392960"/>
            <a:ext cx="1440" cy="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638440" y="7392960"/>
            <a:ext cx="1440" cy="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82840" y="7392960"/>
            <a:ext cx="1800" cy="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927600" y="7392960"/>
            <a:ext cx="1440" cy="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64080" y="7392960"/>
            <a:ext cx="1440" cy="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08480" y="7392960"/>
            <a:ext cx="1800" cy="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851440" y="7392960"/>
            <a:ext cx="1800" cy="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95480" y="2712960"/>
            <a:ext cx="1440" cy="468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68480" y="739296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8480" y="724536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68480" y="709776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68480" y="695160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68480" y="680400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68480" y="666288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68480" y="651672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8480" y="636912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68480" y="622296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68480" y="607536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68480" y="592776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68480" y="578160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68480" y="563400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68480" y="549288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8480" y="534672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68480" y="519912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68480" y="505296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8480" y="490536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68480" y="475776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8480" y="461160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68480" y="446400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68480" y="432288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68480" y="417672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8480" y="402912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68480" y="388296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68480" y="373536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68480" y="358776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8480" y="344160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68480" y="329400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8480" y="315432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68480" y="300672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68480" y="2859120"/>
            <a:ext cx="2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68480" y="2712960"/>
            <a:ext cx="27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33120" y="2351160"/>
            <a:ext cx="125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MEDIO 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7360" y="249876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20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68480" y="7483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78320" y="7483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96440" y="74833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40840" y="74833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7320" y="74833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22080" y="74833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66480" y="74833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5440" y="726912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4960" y="7122960"/>
            <a:ext cx="538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ANAJUA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5480" y="6975360"/>
            <a:ext cx="329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AX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97520" y="682956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ICHOAC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1680" y="6688080"/>
            <a:ext cx="66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AN LUIS POTO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65640" y="654048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UEB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30000" y="639432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A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11920" y="6246720"/>
            <a:ext cx="47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ZACATE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19840" y="609912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5400" y="5952960"/>
            <a:ext cx="43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31080" y="5805360"/>
            <a:ext cx="35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51880" y="5659560"/>
            <a:ext cx="42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VERACRU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95720" y="551808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ERETA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1120" y="537048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7920" y="522432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INAL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76480" y="5076720"/>
            <a:ext cx="70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64840" y="4929120"/>
            <a:ext cx="41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LAXCA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51960" y="4782960"/>
            <a:ext cx="33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LI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68360" y="4635360"/>
            <a:ext cx="50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UEVO LE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38640" y="448956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AYAR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92920" y="434808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URAN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99400" y="420048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UCAT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7800" y="4054320"/>
            <a:ext cx="40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AHU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0880" y="390672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INTANA RO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80960" y="375912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MAULI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61360" y="3613320"/>
            <a:ext cx="706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3320" y="346536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N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05160" y="3319560"/>
            <a:ext cx="37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B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84720" y="317808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LI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6120" y="303048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AMPEC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3960" y="2884320"/>
            <a:ext cx="88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4800" y="2736720"/>
            <a:ext cx="73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STRITO FED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84960" y="7661160"/>
            <a:ext cx="41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MÉDI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48160" y="2636640"/>
            <a:ext cx="0" cy="472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685800"/>
            <a:ext cx="59436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édicos en contacto con el paciente por 100,000 habi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7372440"/>
            <a:ext cx="7192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7221600"/>
            <a:ext cx="7905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7070760"/>
            <a:ext cx="9446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0920" y="6926400"/>
            <a:ext cx="101448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6775560"/>
            <a:ext cx="10414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0920" y="6622920"/>
            <a:ext cx="104796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6472080"/>
            <a:ext cx="107316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6321600"/>
            <a:ext cx="108612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6170760"/>
            <a:ext cx="108612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6026040"/>
            <a:ext cx="1092240" cy="57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0920" y="5875200"/>
            <a:ext cx="114300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5724360"/>
            <a:ext cx="116856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5573880"/>
            <a:ext cx="117648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5423040"/>
            <a:ext cx="12020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5272200"/>
            <a:ext cx="12207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5121360"/>
            <a:ext cx="12337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976640"/>
            <a:ext cx="1239840" cy="55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4824360"/>
            <a:ext cx="124632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4673520"/>
            <a:ext cx="125280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4522680"/>
            <a:ext cx="129060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4371840"/>
            <a:ext cx="129708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21000"/>
            <a:ext cx="133668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076640"/>
            <a:ext cx="1452600" cy="57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3925800"/>
            <a:ext cx="150336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774960"/>
            <a:ext cx="150984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624120"/>
            <a:ext cx="15098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473280"/>
            <a:ext cx="154800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3322800"/>
            <a:ext cx="15541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3178080"/>
            <a:ext cx="1714680" cy="55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3027240"/>
            <a:ext cx="24037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874960"/>
            <a:ext cx="264636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2724120"/>
            <a:ext cx="304488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7478640"/>
            <a:ext cx="3719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050920" y="747864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95760" y="747864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41680" y="747864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80040" y="747864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025960" y="747864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770440" y="747864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2681280"/>
            <a:ext cx="1800" cy="479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25720" y="747864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5720" y="73278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25720" y="71769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25720" y="702612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25720" y="68817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25720" y="673092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5720" y="658008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25720" y="642924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25720" y="62784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5720" y="612612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25720" y="59817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25720" y="583092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5720" y="568008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25720" y="55292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25720" y="53784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5720" y="52275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25720" y="507672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25720" y="49323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25720" y="478152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25720" y="463068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25720" y="447984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25720" y="43290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5720" y="417672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25720" y="40323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5720" y="388152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25720" y="373068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5720" y="35798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5720" y="34290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25720" y="32781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25720" y="31338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25720" y="29829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25720" y="283212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25720" y="268128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58680" y="2309760"/>
            <a:ext cx="125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MEDIO 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40440" y="2460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25720" y="7574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70200" y="7574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83360" y="75740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23160" y="75740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67640" y="75740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3920" y="75740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960" y="7353360"/>
            <a:ext cx="538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ANAJUA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77160" y="7202520"/>
            <a:ext cx="329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AX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3600" y="705168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0360" y="6907320"/>
            <a:ext cx="47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ZACATE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82120" y="6756480"/>
            <a:ext cx="42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VERACRU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77080" y="6605640"/>
            <a:ext cx="43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11000" y="645336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78960" y="6302520"/>
            <a:ext cx="33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LI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59520" y="6151680"/>
            <a:ext cx="35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66360" y="600084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INAL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16680" y="58561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URAN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75000" y="570564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N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46320" y="5554800"/>
            <a:ext cx="66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AN LUIS POTO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3120" y="540396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A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25960" y="525312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ERETA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32440" y="51022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ICHOAC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95880" y="495792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UEB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10840" y="480708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MAULI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8200" y="465624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UCAT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6080" y="4503600"/>
            <a:ext cx="70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12720" y="4352760"/>
            <a:ext cx="40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AHU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03280" y="4202280"/>
            <a:ext cx="50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UEVO LE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4600" y="405756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00960" y="3906720"/>
            <a:ext cx="706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3120" y="375588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AMPEC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15800" y="360504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INTANA RO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5640" y="345456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AYAR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10280" y="330372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LI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99760" y="3152880"/>
            <a:ext cx="41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LAXCA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33600" y="3008160"/>
            <a:ext cx="37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B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26000" y="2857680"/>
            <a:ext cx="88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74680" y="2705040"/>
            <a:ext cx="73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STRITO FED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02800" y="7756560"/>
            <a:ext cx="816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ODONTÓLOG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29000" y="25909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762120"/>
            <a:ext cx="5943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dontólogos por 100,000 habi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5029200" cy="5715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V="1">
            <a:off x="3429000" y="26668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785880"/>
            <a:ext cx="59436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fermeras por 100, 000 habi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19720" y="26668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4724640" cy="5867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4419720" y="243792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762120"/>
            <a:ext cx="5943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ultas generales por 1,000 habi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69920" y="7296120"/>
            <a:ext cx="16084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69920" y="7145280"/>
            <a:ext cx="19195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69920" y="6994440"/>
            <a:ext cx="213048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69920" y="6850080"/>
            <a:ext cx="214344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69920" y="6699240"/>
            <a:ext cx="219420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9920" y="6546960"/>
            <a:ext cx="228924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69920" y="6396120"/>
            <a:ext cx="229572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69920" y="6245280"/>
            <a:ext cx="231480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69920" y="6094440"/>
            <a:ext cx="236556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69920" y="5950080"/>
            <a:ext cx="2384640" cy="568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69920" y="5799240"/>
            <a:ext cx="241632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69920" y="5648400"/>
            <a:ext cx="244188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69920" y="5497560"/>
            <a:ext cx="246096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69920" y="5346720"/>
            <a:ext cx="24987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69920" y="5195880"/>
            <a:ext cx="25178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69920" y="5045040"/>
            <a:ext cx="256860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69920" y="4900680"/>
            <a:ext cx="259416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69920" y="4748040"/>
            <a:ext cx="260676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69920" y="4597560"/>
            <a:ext cx="265752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69920" y="4446720"/>
            <a:ext cx="272124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69920" y="4295880"/>
            <a:ext cx="275940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69920" y="4145040"/>
            <a:ext cx="280368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69920" y="4000680"/>
            <a:ext cx="2822760" cy="568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69920" y="3849840"/>
            <a:ext cx="282276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69920" y="3699000"/>
            <a:ext cx="2854440" cy="633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69920" y="3548160"/>
            <a:ext cx="28670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9920" y="3397320"/>
            <a:ext cx="28861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69920" y="3246480"/>
            <a:ext cx="288612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69920" y="3102120"/>
            <a:ext cx="2975040" cy="55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69920" y="2951280"/>
            <a:ext cx="307044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69920" y="2798640"/>
            <a:ext cx="315288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69920" y="2647800"/>
            <a:ext cx="3218040" cy="637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69920" y="7402680"/>
            <a:ext cx="3719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969920" y="74026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592360" y="740268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09760" y="74026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832200" y="740268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49600" y="74026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072040" y="7402680"/>
            <a:ext cx="144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689440" y="7402680"/>
            <a:ext cx="18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69920" y="2604960"/>
            <a:ext cx="1800" cy="479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44720" y="740268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44720" y="72518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44720" y="71010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44720" y="69501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44720" y="680544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44720" y="66549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44720" y="650412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4720" y="635328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44720" y="62024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44720" y="60498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44720" y="590544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44720" y="57546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44720" y="56037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4720" y="545292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44720" y="530208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44720" y="515160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4720" y="500076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44720" y="485604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4720" y="47052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4720" y="45543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44720" y="440388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44720" y="42530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44720" y="41004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44720" y="3956040"/>
            <a:ext cx="2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44720" y="38052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44720" y="36543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44720" y="350352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44720" y="335268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44720" y="320184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44720" y="305748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44720" y="290664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44720" y="275580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44720" y="2604960"/>
            <a:ext cx="25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1600" y="2189160"/>
            <a:ext cx="125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MEDIO 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78680" y="23400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7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44720" y="749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67160" y="749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84560" y="749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7000" y="749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4400" y="749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15160" y="74977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2920" y="74977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54160" y="7277040"/>
            <a:ext cx="73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STRITO FED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7200" y="7126200"/>
            <a:ext cx="88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50520" y="6975360"/>
            <a:ext cx="33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LI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69280" y="6831000"/>
            <a:ext cx="706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81480" y="668016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LI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7280" y="6529320"/>
            <a:ext cx="70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9360" y="637704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AMPEC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05160" y="6226200"/>
            <a:ext cx="37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B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39360" y="607536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A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51240" y="592452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N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66640" y="5780160"/>
            <a:ext cx="41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LAXCA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91120" y="562932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82320" y="547848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INTANA RO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8640" y="5327640"/>
            <a:ext cx="43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0320" y="517680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UEB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97160" y="502596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ERETA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58440" y="4881600"/>
            <a:ext cx="329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AX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86800" y="473076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URAN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240" y="457992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MAULI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55120" y="4427640"/>
            <a:ext cx="42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VERACRU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44760" y="427680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AYAR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10480" y="4125960"/>
            <a:ext cx="47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ZACATE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40280" y="3981600"/>
            <a:ext cx="538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ANAJUA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79600" y="3830760"/>
            <a:ext cx="40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AHU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17880" y="3679920"/>
            <a:ext cx="66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AN LUIS POTO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24520" y="352908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84200" y="3378240"/>
            <a:ext cx="50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UEVO LE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10480" y="322740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ICHOAC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31080" y="3076560"/>
            <a:ext cx="35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18480" y="293220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UCAT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88680" y="278136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50520" y="262908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INAL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65480" y="7680240"/>
            <a:ext cx="148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CONSULTAS POR MÉDI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251424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838080"/>
            <a:ext cx="59436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ultas por médico en contacto con el pac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35080" y="7243920"/>
            <a:ext cx="168912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35080" y="7099200"/>
            <a:ext cx="18590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35080" y="6954840"/>
            <a:ext cx="19526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35080" y="6815160"/>
            <a:ext cx="201456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35080" y="6670800"/>
            <a:ext cx="202716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35080" y="6524640"/>
            <a:ext cx="20415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35080" y="6380280"/>
            <a:ext cx="206064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35080" y="6235560"/>
            <a:ext cx="20685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35080" y="6089760"/>
            <a:ext cx="210816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35080" y="5951520"/>
            <a:ext cx="218916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35080" y="5805360"/>
            <a:ext cx="22035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35080" y="5661000"/>
            <a:ext cx="22161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35080" y="5514840"/>
            <a:ext cx="2284560" cy="619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35080" y="5370480"/>
            <a:ext cx="23115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35080" y="5226120"/>
            <a:ext cx="233208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35080" y="5079960"/>
            <a:ext cx="234468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35080" y="4941720"/>
            <a:ext cx="235908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35080" y="4795920"/>
            <a:ext cx="236556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35080" y="4651200"/>
            <a:ext cx="237816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5080" y="4506840"/>
            <a:ext cx="242568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35080" y="4361040"/>
            <a:ext cx="243216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35080" y="4216320"/>
            <a:ext cx="247968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35080" y="4076640"/>
            <a:ext cx="2533680" cy="55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5080" y="3932280"/>
            <a:ext cx="254808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35080" y="3787920"/>
            <a:ext cx="255456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35080" y="3641760"/>
            <a:ext cx="257508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35080" y="3497400"/>
            <a:ext cx="2602080" cy="601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35080" y="3352680"/>
            <a:ext cx="291312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35080" y="3213000"/>
            <a:ext cx="2925720" cy="540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35080" y="3068640"/>
            <a:ext cx="301320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35080" y="2922480"/>
            <a:ext cx="31352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35080" y="2778120"/>
            <a:ext cx="3365640" cy="604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35080" y="7346880"/>
            <a:ext cx="3952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03508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43360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2564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22416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61620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01472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40676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80528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19732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59584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987880" y="7346880"/>
            <a:ext cx="1800" cy="30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35080" y="2735280"/>
            <a:ext cx="1800" cy="4611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08080" y="734688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08080" y="720252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08080" y="705636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08080" y="691200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08080" y="677232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08080" y="662796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08080" y="648324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08080" y="633744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080" y="619272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08080" y="604692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08080" y="590868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08080" y="576432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08080" y="561816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08080" y="547380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08080" y="532764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08080" y="518328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08080" y="503856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08080" y="489888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08080" y="475452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08080" y="460836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08080" y="446400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08080" y="431964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08080" y="417348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08080" y="403560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08080" y="388944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08080" y="374508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08080" y="360036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08080" y="345456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08080" y="330984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08080" y="3170160"/>
            <a:ext cx="27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08080" y="302580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08080" y="288144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08080" y="2735280"/>
            <a:ext cx="270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26800" y="2336760"/>
            <a:ext cx="125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MEDIO 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99560" y="24811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2.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08080" y="7437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06600" y="7437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8640" y="7437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97160" y="7437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9200" y="7437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54960" y="7437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47000" y="7437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45520" y="7437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37560" y="7437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36080" y="7437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28120" y="74376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20960" y="7226280"/>
            <a:ext cx="88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82480" y="708192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AMPEC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01560" y="6935760"/>
            <a:ext cx="41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LAXCA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43320" y="6797520"/>
            <a:ext cx="37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B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1760" y="6651720"/>
            <a:ext cx="43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67800" y="650700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A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88320" y="6361200"/>
            <a:ext cx="329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AX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13520" y="621648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LI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10760" y="607212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INTANA RO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80400" y="5925960"/>
            <a:ext cx="33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LI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66760" y="5788080"/>
            <a:ext cx="73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STRITO FED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06360" y="5641920"/>
            <a:ext cx="70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15240" y="549756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URAN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94080" y="535320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UEB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83920" y="5207040"/>
            <a:ext cx="42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VERACRU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27400" y="506268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ERETA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7840" y="492300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02920" y="477828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MAULI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96280" y="4633920"/>
            <a:ext cx="706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59520" y="4487760"/>
            <a:ext cx="35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38920" y="4343400"/>
            <a:ext cx="47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ZACATE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67280" y="4199040"/>
            <a:ext cx="538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ANAJUA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71760" y="405936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N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67080" y="391464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AYAR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35680" y="376884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ICHOAC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56200" y="362412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41640" y="3478320"/>
            <a:ext cx="66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AN LUIS POTO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76080" y="333360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INAL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15960" y="3189240"/>
            <a:ext cx="40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AHU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00040" y="3049560"/>
            <a:ext cx="50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UEVO LE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9200" y="290520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32880" y="275904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UCAT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25080" y="7613640"/>
            <a:ext cx="184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CONSULTAS POR MÉDIC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95680" y="26668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685800"/>
            <a:ext cx="6019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ultas diarias por médic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33560" y="7116840"/>
            <a:ext cx="1974960" cy="57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33560" y="6977160"/>
            <a:ext cx="202392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33560" y="6837480"/>
            <a:ext cx="202392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33560" y="6703920"/>
            <a:ext cx="2220840" cy="525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33560" y="6566040"/>
            <a:ext cx="2278080" cy="568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33560" y="6426360"/>
            <a:ext cx="229248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33560" y="6286680"/>
            <a:ext cx="234792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33560" y="6148440"/>
            <a:ext cx="2362320" cy="57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933560" y="6008760"/>
            <a:ext cx="237024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33560" y="5875200"/>
            <a:ext cx="2376360" cy="525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33560" y="5735520"/>
            <a:ext cx="238284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33560" y="5597640"/>
            <a:ext cx="2433600" cy="568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5457960"/>
            <a:ext cx="244008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933560" y="5318280"/>
            <a:ext cx="259560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33560" y="5180040"/>
            <a:ext cx="2595600" cy="57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33560" y="5040360"/>
            <a:ext cx="261000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33560" y="4906800"/>
            <a:ext cx="2630520" cy="525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33560" y="4767120"/>
            <a:ext cx="2637000" cy="590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33560" y="4629240"/>
            <a:ext cx="2651040" cy="57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33560" y="4489560"/>
            <a:ext cx="265896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33560" y="4349880"/>
            <a:ext cx="267336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33560" y="4211640"/>
            <a:ext cx="2728800" cy="57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33560" y="4078440"/>
            <a:ext cx="2786040" cy="522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33560" y="3938760"/>
            <a:ext cx="287028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933560" y="3798720"/>
            <a:ext cx="2913120" cy="590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33560" y="3660840"/>
            <a:ext cx="2933640" cy="572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33560" y="3521160"/>
            <a:ext cx="296244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33560" y="3381480"/>
            <a:ext cx="301140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933560" y="3247920"/>
            <a:ext cx="3040200" cy="525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933560" y="3110040"/>
            <a:ext cx="3159000" cy="568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33560" y="2970360"/>
            <a:ext cx="328608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33560" y="2830680"/>
            <a:ext cx="3857760" cy="5868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33560" y="7215120"/>
            <a:ext cx="41115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33560" y="7215120"/>
            <a:ext cx="144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448000" y="7215120"/>
            <a:ext cx="144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962440" y="7215120"/>
            <a:ext cx="144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78320" y="7215120"/>
            <a:ext cx="144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992400" y="7215120"/>
            <a:ext cx="180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500720" y="7215120"/>
            <a:ext cx="144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014800" y="7215120"/>
            <a:ext cx="180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530680" y="7215120"/>
            <a:ext cx="180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045120" y="7215120"/>
            <a:ext cx="180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33560" y="2790720"/>
            <a:ext cx="1440" cy="4424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05120" y="72151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5120" y="707544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5120" y="693576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67975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5120" y="666432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05120" y="652464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638496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62467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05120" y="610704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05120" y="596736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05120" y="583416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05120" y="569592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905120" y="555624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05120" y="541656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905120" y="52783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513864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499896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486576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47275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58784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444816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05120" y="43099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417024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05120" y="403704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5120" y="389736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05120" y="37591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05120" y="361944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347976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33415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320832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5120" y="306864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2928960"/>
            <a:ext cx="284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27907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3040" y="2408400"/>
            <a:ext cx="125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MEDIO 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42400" y="25462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56160" y="7302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70600" y="7302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84680" y="7302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00920" y="7302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15000" y="7302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22960" y="7302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37400" y="7302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53280" y="7302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967720" y="7302600"/>
            <a:ext cx="122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53680" y="709920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A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88280" y="6959520"/>
            <a:ext cx="706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66280" y="6819840"/>
            <a:ext cx="33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JALI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02200" y="668664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04560" y="6548400"/>
            <a:ext cx="597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INTANA RO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14760" y="6408720"/>
            <a:ext cx="88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90320" y="6269040"/>
            <a:ext cx="41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LAXCA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71720" y="6130800"/>
            <a:ext cx="738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STRITO FED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08240" y="5991120"/>
            <a:ext cx="48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QUERETA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02280" y="585144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LIM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03000" y="571824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24440" y="5580000"/>
            <a:ext cx="47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ZACATE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67000" y="5440320"/>
            <a:ext cx="33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N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404000" y="530064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URAN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39760" y="5162400"/>
            <a:ext cx="66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AN LUIS POTO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08080" y="5022720"/>
            <a:ext cx="70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BAJA CALIFOR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475640" y="4889520"/>
            <a:ext cx="329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OAXA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432800" y="474984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UCAT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454760" y="4611600"/>
            <a:ext cx="35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03280" y="4471920"/>
            <a:ext cx="40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AHU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67000" y="4332240"/>
            <a:ext cx="339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AYAR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3760" y="4194000"/>
            <a:ext cx="43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ERR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74480" y="406080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AMPECH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24800" y="392112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MICHOAC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495800" y="378144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PUEB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32080" y="3643200"/>
            <a:ext cx="37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B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46760" y="350352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293840" y="3363840"/>
            <a:ext cx="50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NUEVO LE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69000" y="3225960"/>
            <a:ext cx="538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GUANAJUA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377360" y="3092400"/>
            <a:ext cx="42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VERACRU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66640" y="2952720"/>
            <a:ext cx="34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INALO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9320" y="2813040"/>
            <a:ext cx="50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TAMAULIP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29600" y="7470720"/>
            <a:ext cx="1814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ONSULTAS POR MÉDICO ESPECIALIS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33840" y="26668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3520" y="838080"/>
            <a:ext cx="5867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ultas diarias por médico especial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5105520" cy="57909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 flipV="1">
            <a:off x="4152960" y="251424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" y="914400"/>
            <a:ext cx="5943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ultas diarias por consultori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18:26:00Z</dcterms:created>
  <dc:creator>,</dc:creator>
  <dc:description/>
  <dc:language>en-US</dc:language>
  <cp:lastModifiedBy>Alberto de la Rosa Rábago</cp:lastModifiedBy>
  <cp:lastPrinted>2002-11-22T22:38:43Z</cp:lastPrinted>
  <dcterms:modified xsi:type="dcterms:W3CDTF">2002-11-22T22:38:53Z</dcterms:modified>
  <cp:revision>88</cp:revision>
  <dc:subject/>
  <dc:title>Camas Censables por 100,000 Habitantes por Entidad Federativa  1 9 9 9</dc:title>
</cp:coreProperties>
</file>